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Roberto%20Carlos%20-%20Coisa%20bonita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DA9-DFD4-406A-B0FE-2F15B6C2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E3B-33D6-4DB1-B33F-2D5A84D6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7DA-928B-4B0E-B664-0057B497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7C9-F094-4A07-A3DD-2D81C3ED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F03-E48F-448A-840B-090C2D52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274-5277-447B-AE51-D249F9A7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5AD-0145-41BE-AFAB-18FE3ED9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455-7A86-4B18-8949-60C968D1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6E6-1FCF-4CE1-9544-746246B8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50F-E7CA-4AD8-9BE0-1D327CC7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494-339B-4607-A984-443FB2B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9CE-30EA-4670-98A7-7DD90E1C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279F-BC24-4673-A747-66A1C0CBDC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oberto%20Carlos%20-%20Coisa%20bonit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304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Sim, Sou Gordinha...E Daí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371600"/>
            <a:ext cx="594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Que triste é sentir na pele, preconceito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Uma dor que fere e machuca o peito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Seja negro, pobre, deficiente, gordo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Nada no mundo justifica o preconceito. Sim, sou gordinha e daí?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Minhas curvas são delineadas, estrada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Meu sorriso é doce e terno, liberdade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Carrego no olhar a ternura, suavidade.</a:t>
            </a:r>
            <a:r>
              <a:rPr b="1" i="1" lang="en-US" sz="2800" spc="-1" strike="noStrike">
                <a:solidFill>
                  <a:srgbClr val="49497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randomBar dir="vert"/>
    <p:sndAc>
      <p:stSnd>
        <p:snd r:embed="rId2" name="Roberto%20Carlos%20-%20Coisa%20bonit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838080"/>
            <a:ext cx="7467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Adoro chocolate, um orgasmo verdadeir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Melhor que estar em braços traiçoeir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Não creio em valor frio, sórdido e rançoso Creio no amor superando tudo, esperançoso Sim, sou gordinha e daí?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Tenho um pouco de anjo, voar livremente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Das bruxas herdei o feitiço, encantament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Da mulher, a delicadeza, a feminilidade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Da canção, um coração ditando a poesia Da música todas as notas, multiform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838080"/>
            <a:ext cx="65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Sim, sou gordinha e daí?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sou todos os sons que a vida interpreta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sou a harmonia da sinfonia que encanta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sou a força do viver edificando tud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creio em mim e meus valores, contudo Não creio na sensibilidade do preconceito Sim, eu sou gordinha e daí?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Meu espelho não mente, não me engana Vejo refletir meu corpo e sinto minh'al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762120"/>
            <a:ext cx="7162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São tantos rumores, falsos pudores corações de cera fria, perseguidores vou juntando os cacos, pondo no lixo não entro em conflitos, sou a paz sou eu amando, chorando e sorrindo pela vida afora, segura vou andando Sim, sou gordinha e daí? Sou menina, mulher, mãe, avó sou amiga, vizinha, tia... Sou feirante, florista ou va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5029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Arial"/>
              </a:rPr>
              <a:t>Marillena S. Ribeiro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0" y="2286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Roberto Carlos - Coisa bo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13716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8954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495680"/>
            <a:ext cx="73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1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125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425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6:37:17Z</dcterms:created>
  <dc:creator>ssoliver@terra.com.br </dc:creator>
  <dc:description/>
  <dc:language>en-US</dc:language>
  <cp:lastModifiedBy>Leticia Thompson</cp:lastModifiedBy>
  <dcterms:modified xsi:type="dcterms:W3CDTF">2004-11-02T20:16:12Z</dcterms:modified>
  <cp:revision>5</cp:revision>
  <dc:subject/>
  <dc:title>Preconceito</dc:title>
</cp:coreProperties>
</file>