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opin%20-%20Nocturne%20n.2.wav" ContentType="audio/x-wav"/>
  <Override PartName="/ppt/media/image5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D715-A1C4-4FD5-B309-5B16AF4E88D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BBEB-37B5-4D03-BEB2-81A017BF24E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F4E-D277-4117-88ED-6CBA0BF7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0E1-80A3-450D-B21A-5A118754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A72-9485-4D45-ACD0-6B6AFBA5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4B8-396C-4DD4-9642-6DCE1D62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78D-B6FC-4A4D-B665-8351DD38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13F-BF09-40A1-9D76-AA4C1377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74B-56D5-4E2F-A082-A6F0BB3E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162-62E2-452A-968C-60F10B1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9A5-B22B-4FE9-94E7-DE938908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FF3-324E-467D-909E-AC76611A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17E-1554-4949-A078-7262872F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270-F616-418C-B659-960070F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a6a6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7854-92A7-4611-B957-449514240DD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opin%20-%20Nocturne%20n.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9" name="Imagem 5" descr="mmmmmmmmm.jpg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0" name="CaixaDeTexto 6"/>
          <p:cNvSpPr/>
          <p:nvPr/>
        </p:nvSpPr>
        <p:spPr>
          <a:xfrm>
            <a:off x="468360" y="836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“</a:t>
            </a: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O  MISTÉRI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DAS  COISAS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7"/>
          <p:cNvSpPr/>
          <p:nvPr/>
        </p:nvSpPr>
        <p:spPr>
          <a:xfrm>
            <a:off x="2195640" y="551664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Monotype Corsiva"/>
              </a:rPr>
              <a:t>Fernando Pesso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opin%20-%20Nocturne%20n.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ângulo 4"/>
          <p:cNvSpPr/>
          <p:nvPr/>
        </p:nvSpPr>
        <p:spPr>
          <a:xfrm>
            <a:off x="1738440" y="3076560"/>
            <a:ext cx="601956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ângulo 3"/>
          <p:cNvSpPr/>
          <p:nvPr/>
        </p:nvSpPr>
        <p:spPr>
          <a:xfrm>
            <a:off x="1884240" y="5589720"/>
            <a:ext cx="4559400" cy="460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917640" y="620640"/>
            <a:ext cx="763272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Basta enviar um e-mail para: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powerpointsemanal-subscribe@yahoogrupos.com.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CLIQUE AQUI PARA RECEBER AS MENS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3" name="Imagem 1" descr="mmmmmmmmmmmmmmmm.jpg"/>
          <p:cNvPicPr/>
          <p:nvPr/>
        </p:nvPicPr>
        <p:blipFill>
          <a:blip r:embed="rId2"/>
          <a:srcRect l="0" t="12526" r="0" b="0"/>
          <a:stretch/>
        </p:blipFill>
        <p:spPr>
          <a:xfrm>
            <a:off x="250920" y="1268280"/>
            <a:ext cx="8642160" cy="5321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4" name="CaixaDeTexto 3"/>
          <p:cNvSpPr/>
          <p:nvPr/>
        </p:nvSpPr>
        <p:spPr>
          <a:xfrm>
            <a:off x="1835280" y="5493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mistério das cousas, onde está e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6" name="Imagem 1" descr="mmmmmm.jpg"/>
          <p:cNvPicPr/>
          <p:nvPr/>
        </p:nvPicPr>
        <p:blipFill>
          <a:blip r:embed="rId2"/>
          <a:stretch/>
        </p:blipFill>
        <p:spPr>
          <a:xfrm>
            <a:off x="250920" y="1243080"/>
            <a:ext cx="8642160" cy="5332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7" name="CaixaDeTexto 3"/>
          <p:cNvSpPr/>
          <p:nvPr/>
        </p:nvSpPr>
        <p:spPr>
          <a:xfrm>
            <a:off x="68436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nde está ele que não aparece?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elo menos a mostrar-nos que é misté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6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9" name="Imagem 1" descr="mmm.jpg"/>
          <p:cNvPicPr/>
          <p:nvPr/>
        </p:nvPicPr>
        <p:blipFill>
          <a:blip r:embed="rId2"/>
          <a:srcRect l="0" t="5430" r="0" b="0"/>
          <a:stretch/>
        </p:blipFill>
        <p:spPr>
          <a:xfrm>
            <a:off x="250920" y="1301760"/>
            <a:ext cx="8642160" cy="5295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0" name="CaixaDeTexto 4"/>
          <p:cNvSpPr/>
          <p:nvPr/>
        </p:nvSpPr>
        <p:spPr>
          <a:xfrm>
            <a:off x="611280" y="2937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Que sabe o rio disso e que sabe a árvore?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eu, que não sou mais do que eles, que sei di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6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Imagem 1" descr="mmmmmmmmmmmmm.jpg"/>
          <p:cNvPicPr/>
          <p:nvPr/>
        </p:nvPicPr>
        <p:blipFill>
          <a:blip r:embed="rId2"/>
          <a:srcRect l="0" t="12048" r="0" b="7235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3" name="CaixaDeTexto 5"/>
          <p:cNvSpPr/>
          <p:nvPr/>
        </p:nvSpPr>
        <p:spPr>
          <a:xfrm>
            <a:off x="39528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Sempre que olho para as cousas e penso n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s homens pensam delas,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Rio como um regato que soa fresco numa ped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5" name="Imagem 1" descr="mmmmmmmmmmmm.jpg"/>
          <p:cNvPicPr/>
          <p:nvPr/>
        </p:nvPicPr>
        <p:blipFill>
          <a:blip r:embed="rId2"/>
          <a:srcRect l="0" t="0" r="0" b="3889"/>
          <a:stretch/>
        </p:blipFill>
        <p:spPr>
          <a:xfrm>
            <a:off x="250920" y="1301760"/>
            <a:ext cx="8642160" cy="5295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6" name="CaixaDeTexto 4"/>
          <p:cNvSpPr/>
          <p:nvPr/>
        </p:nvSpPr>
        <p:spPr>
          <a:xfrm>
            <a:off x="611280" y="333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orque o único sentido oculto das cousas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É elas não terem sentido oculto nenh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8" name="Imagem 1" descr="mmmmmmmmmmmmmm.jpg"/>
          <p:cNvPicPr/>
          <p:nvPr/>
        </p:nvPicPr>
        <p:blipFill>
          <a:blip r:embed="rId2"/>
          <a:srcRect l="0" t="4828" r="52253" b="3322"/>
          <a:stretch/>
        </p:blipFill>
        <p:spPr>
          <a:xfrm>
            <a:off x="250920" y="260280"/>
            <a:ext cx="4376520" cy="633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9" name="CaixaDeTexto 4"/>
          <p:cNvSpPr/>
          <p:nvPr/>
        </p:nvSpPr>
        <p:spPr>
          <a:xfrm>
            <a:off x="4788000" y="119700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É mais estranho do que todas as estranhez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do que os sonhos de todos os poe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os pensamentos de todos os filósofos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Que as cousas sejam realmente 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arecem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3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1" name="Imagem 5" descr="m.jpg"/>
          <p:cNvPicPr/>
          <p:nvPr/>
        </p:nvPicPr>
        <p:blipFill>
          <a:blip r:embed="rId2"/>
          <a:srcRect l="40622" t="0" r="13900" b="0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2" name="CaixaDeTexto 6"/>
          <p:cNvSpPr/>
          <p:nvPr/>
        </p:nvSpPr>
        <p:spPr>
          <a:xfrm>
            <a:off x="4788000" y="40464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não haja nada que compre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Sim, eis o que os meus sentidos aprenderam sozinho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As cousas não têm significação: têm existênci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As cousas são o único sentido oculto das cou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7"/>
          <p:cNvSpPr/>
          <p:nvPr/>
        </p:nvSpPr>
        <p:spPr>
          <a:xfrm>
            <a:off x="4932360" y="566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Fernando Pes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5" name="Imagem 1" descr="mmmmmmmm.jpg"/>
          <p:cNvPicPr/>
          <p:nvPr/>
        </p:nvPicPr>
        <p:blipFill>
          <a:blip r:embed="rId2"/>
          <a:srcRect l="0" t="0" r="0" b="11541"/>
          <a:stretch/>
        </p:blipFill>
        <p:spPr>
          <a:xfrm>
            <a:off x="250920" y="260280"/>
            <a:ext cx="8642160" cy="5097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6" name="CaixaDeTexto 3"/>
          <p:cNvSpPr/>
          <p:nvPr/>
        </p:nvSpPr>
        <p:spPr>
          <a:xfrm>
            <a:off x="324000" y="5516640"/>
            <a:ext cx="8351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Imagens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Fotocommunity        </a:t>
            </a: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Música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“Nocturne n.2” Cho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Formatação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Christina Meirelles N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5:08:58Z</dcterms:created>
  <dc:creator>PARTICULAR</dc:creator>
  <dc:description/>
  <dc:language>en-US</dc:language>
  <cp:lastModifiedBy>Sergio Camargos</cp:lastModifiedBy>
  <dcterms:modified xsi:type="dcterms:W3CDTF">2013-04-19T20:44:27Z</dcterms:modified>
  <cp:revision>5</cp:revision>
  <dc:subject/>
  <dc:title>Slide 1</dc:title>
</cp:coreProperties>
</file>