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Zamphir%20-%20The%20sound%20of%20silence.wav" ContentType="audio/x-wav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0B2-1B54-42C8-9255-5FA09581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CB2-A7DC-49A3-AB87-9FED57AA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059-A5C9-44A7-B5B7-FB5C6E55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D33-CD71-4DFE-A97F-C3520F14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B2A-DEAE-4D9A-BBE9-34129C7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A82-C39A-41ED-B64D-7737BF9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97D-515E-44E0-ADB3-50C59A13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CEA-58B6-4D7B-94D7-486C7C7F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6DE-CC1F-4523-99E0-5399FF39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C00-385F-40EE-8649-2EE4999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0E1-5D2F-4997-8F7F-E89883A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A89-3CC0-4740-AB16-2B43922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793-0F41-4E03-B25C-F2BD94B2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audio" Target="../media/Zamphir%20-%20The%20sound%20of%20silence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9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0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2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4221000"/>
            <a:ext cx="6121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OUÇA O SILÊNCIO</a:t>
            </a:r>
            <a:endParaRPr b="0" i="1" lang="en-US" sz="18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5300640"/>
            <a:ext cx="31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221000"/>
            <a:ext cx="72882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Quem duvida que o silêncio fala nunca olhou nos de criança carente, nem de idoso que pede atenção ou dos solitários que vivem atropelados por multidões e, ainda assim, sentem-se sozin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4365720"/>
            <a:ext cx="749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Há muito grito num olhar que não entende a vida, que teme as despedidas, que, por escolha ou timidez, prefere se calar diante de uma injustiç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Há discursos intermináveis em lágrimas escorr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4221000"/>
            <a:ext cx="73440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ão é porque as pessoas se calam que elas não têm nada a diz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ão é porque não dizem, que não viv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Dói muito mais em quem guarda tudo em si que em quem exteriori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50760" y="4797360"/>
            <a:ext cx="7293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odo mal, rancor, medo, inquietação, dúvida que não colocamos pra fora, nos consome por dentro e isso se transforma em doe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836640"/>
            <a:ext cx="73454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udo o que não dizemos, mas senti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no fundo,  maltrata a nossa alma e modifica nosso comport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23840" y="4941720"/>
            <a:ext cx="7148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Precisamos aprender a exteriorizar o que nos insatisfaz antes que essa insatisfação nos leve para um buraco sem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3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79480" y="479736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E precisamos estar atentos às palavras não ditas dos nossos pais, filhos, colegas, amigos e a metade escolhida pelo nosso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ecd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9480" y="393372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Toda mudança de comportamento pede muito mais nossa compreensão que nosso julg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df90"/>
                </a:solidFill>
                <a:latin typeface="Verdana"/>
              </a:rPr>
              <a:t>E abrir os ouvidos do coração aos que nos são caros é muito mais que ter a arte de saber ouvir, é possuir a grandiosa arte de saber a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8064720" cy="583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692280"/>
            <a:ext cx="7775280" cy="5545080"/>
          </a:xfrm>
          <a:prstGeom prst="rect">
            <a:avLst/>
          </a:prstGeom>
          <a:gradFill rotWithShape="0">
            <a:gsLst>
              <a:gs pos="0">
                <a:srgbClr val="380d0b"/>
              </a:gs>
              <a:gs pos="50000">
                <a:srgbClr val="7a1e19"/>
              </a:gs>
              <a:gs pos="100000">
                <a:srgbClr val="380d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533680" cy="25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6764400" y="4437000"/>
            <a:ext cx="2378160" cy="242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55840" y="1762200"/>
            <a:ext cx="6211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0de94"/>
                </a:solidFill>
                <a:uFillTx/>
                <a:latin typeface="Verdana"/>
                <a:hlinkClick r:id="rId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Música: Zamphir – The sound of sil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0de94"/>
                </a:solidFill>
                <a:uFillTx/>
                <a:latin typeface="Verdana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f0de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1:24:14Z</dcterms:created>
  <dc:creator>Beth Norling</dc:creator>
  <dc:description/>
  <dc:language>en-US</dc:language>
  <cp:lastModifiedBy>Beth Norling</cp:lastModifiedBy>
  <dcterms:modified xsi:type="dcterms:W3CDTF">2007-07-18T22:28:45Z</dcterms:modified>
  <cp:revision>6</cp:revision>
  <dc:subject/>
  <dc:title>Slide 1</dc:title>
</cp:coreProperties>
</file>