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Zamphir%20-%20The%20sound%20of%20silence.wav" ContentType="audio/x-wav"/>
  <Override PartName="/ppt/media/image2.jpeg" ContentType="image/jpeg"/>
  <Override PartName="/ppt/media/image4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157-CA75-4092-B6B3-2085002E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7F4-3DEC-4A3F-8D5D-5BDA6229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FAF-F8A4-4DFA-86F3-77DC8F34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BD2-4412-478B-AEE4-F18283A3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87B-95DF-4B93-9B15-534C40B7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9C5-931F-4755-A423-DF342973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DD4-021B-445C-9460-372374AF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FC2-DF10-4E68-9F40-959A6119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FB1-4880-4329-A7F9-9B5C70CE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3EC-DF9F-4901-81EA-4EC695AC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6DF-ACC0-4DA9-A3B1-F59A6AA6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241-62BE-4FF6-B356-BA9FD305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7973-E649-458D-9502-41D4419DF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audio" Target="../media/Zamphir%20-%20The%20sound%20of%20silence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7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8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10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11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12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13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hyperlink" Target="http://www.leticiathompson.net/" TargetMode="External"/><Relationship Id="rId10" Type="http://schemas.openxmlformats.org/officeDocument/2006/relationships/hyperlink" Target="mailto:bethnorling@globo.com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ecd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692360" y="4221000"/>
            <a:ext cx="6121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OUÇA O SILÊNCIO</a:t>
            </a:r>
            <a:endParaRPr b="0" i="1" lang="en-US" sz="1800" spc="1" strike="noStrike">
              <a:ln w="0">
                <a:noFill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59280" y="5300640"/>
            <a:ext cx="3168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000" spc="1" strike="noStrike">
              <a:ln w="0">
                <a:noFill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ecd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4221000"/>
            <a:ext cx="72882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Quem duvida que o silêncio fala nunca olhou nos de criança carente, nem de idoso que pede atenção ou dos solitários que vivem atropelados por multidões e, ainda assim, sentem-se sozin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ecd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26920" y="4365720"/>
            <a:ext cx="7490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Há muito grito num olhar que não entende a vida, que teme as despedidas, que, por escolha ou timidez, prefere se calar diante de uma injustiç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Há discursos intermináveis em lágrimas escorr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ecd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4221000"/>
            <a:ext cx="73440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Não é porque as pessoas se calam que elas não têm nada a diz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Não é porque não dizem, que não viv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Dói muito mais em quem guarda tudo em si que em quem exteriori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ircl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ecd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50760" y="4797360"/>
            <a:ext cx="7293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Todo mal, rancor, medo, inquietação, dúvida que não colocamos pra fora, nos consome por dentro e isso se transforma em doenç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ecd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71640" y="836640"/>
            <a:ext cx="73454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Tudo o que não dizemos, mas senti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no fundo,  maltrata a nossa alma e modifica nosso comport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23840" y="4941720"/>
            <a:ext cx="7148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Precisamos aprender a exteriorizar o que nos insatisfaz antes que essa insatisfação nos leve para um buraco sem f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3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ecd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79480" y="4797360"/>
            <a:ext cx="7364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E precisamos estar atentos às palavras não ditas dos nossos pais, filhos, colegas, amigos e a metade escolhida pelo nosso co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ecd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79480" y="3933720"/>
            <a:ext cx="73645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Toda mudança de comportamento pede muito mais nossa compreensão que nosso julg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E abrir os ouvidos do coração aos que nos são caros é muito mais que ter a arte de saber ouvir, é possuir a grandiosa arte de saber am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gradFill rotWithShape="0">
            <a:gsLst>
              <a:gs pos="0">
                <a:srgbClr val="380d0b"/>
              </a:gs>
              <a:gs pos="50000">
                <a:srgbClr val="7a1e19"/>
              </a:gs>
              <a:gs pos="100000">
                <a:srgbClr val="380d0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55840" y="1762200"/>
            <a:ext cx="62118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0de94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0de94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0de94"/>
                </a:solidFill>
                <a:uFillTx/>
                <a:latin typeface="Verdana"/>
                <a:hlinkClick r:id="rId9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0de94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0de94"/>
                </a:solidFill>
                <a:latin typeface="Verdana"/>
              </a:rPr>
              <a:t>Música: Zamphir – The sound of sil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0de94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0de94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0de94"/>
                </a:solidFill>
                <a:uFillTx/>
                <a:latin typeface="Verdana"/>
                <a:hlinkClick r:id="rId10"/>
              </a:rPr>
              <a:t>bethnorling@globo.com</a:t>
            </a:r>
            <a:r>
              <a:rPr b="1" lang="pt-BR" sz="2000" spc="-1" strike="noStrike">
                <a:solidFill>
                  <a:srgbClr val="f0de9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21:24:14Z</dcterms:created>
  <dc:creator>Beth Norling</dc:creator>
  <dc:description/>
  <dc:language>en-US</dc:language>
  <cp:lastModifiedBy>Beth Norling</cp:lastModifiedBy>
  <dcterms:modified xsi:type="dcterms:W3CDTF">2007-07-18T22:28:45Z</dcterms:modified>
  <cp:revision>6</cp:revision>
  <dc:subject/>
  <dc:title>Slide 1</dc:title>
</cp:coreProperties>
</file>