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LAST-CLAYDERMAN%20-%20COEURS%20D'OR.wav" ContentType="audio/x-wav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C4C9-AAC8-4EEE-BB4B-50F66F5A3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D3CD-3D36-4924-AB7B-6858F7313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CE4E-7FF2-47FA-A03B-F27F85555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4C4C-E37D-4792-A7BB-EEBA3C62E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47C3-2F89-4414-95C4-F41BBE77B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E118-49A7-49D5-809C-1E00CA51E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98E5-4B7E-4EB5-BCA8-3A1E177C3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9157-DE2D-4C50-8AF9-9BFC9D591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8CB3-EEC8-473E-8372-DF414A9FC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0EDD-1355-4A16-8457-0D9543C91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58F3-4681-4AAF-A425-60BFC6C80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5AE9-54F4-43D0-A6FB-BA32B8FF9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800" spc="-1" strike="noStrike">
                <a:solidFill>
                  <a:srgbClr val="ff99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800" spc="-1" strike="noStrike">
                <a:solidFill>
                  <a:srgbClr val="ff9900"/>
                </a:solidFill>
                <a:latin typeface="Century Gothic"/>
              </a:rPr>
              <a:t>PRODUCCIONES RAKIMCHILE – CANAD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800" spc="-1" strike="noStrike">
                <a:solidFill>
                  <a:srgbClr val="ff9900"/>
                </a:solidFill>
                <a:latin typeface="Trebuchet MS"/>
              </a:rPr>
              <a:t>rakimchile@hotmail.com                                                     Sirope de Savia de Arce la Miel de la Vid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C72E7-F89A-41AE-B66F-E9170C25AD2C}" type="slidenum">
              <a:rPr b="0" lang="es-C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LAST-CLAYDERMAN%20-%20COEURS%20D&apos;OR.wav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402920" y="1484280"/>
            <a:ext cx="62643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3300"/>
                </a:solidFill>
                <a:latin typeface="Gungsuh"/>
                <a:ea typeface="Gungsuh"/>
              </a:rPr>
              <a:t>Princípio do </a:t>
            </a:r>
            <a:r>
              <a:rPr b="1" lang="es-CL" sz="4400" spc="-1" strike="noStrike">
                <a:solidFill>
                  <a:srgbClr val="ff3300"/>
                </a:solidFill>
                <a:latin typeface="Gungsuh"/>
                <a:ea typeface="Gungsuh"/>
              </a:rPr>
              <a:t>Vazio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ffffff"/>
                </a:solidFill>
                <a:latin typeface="Century Gothic"/>
              </a:rPr>
              <a:t>JOSEPH NEWTON</a:t>
            </a:r>
            <a:r>
              <a:rPr b="0" lang="tr-TR" sz="9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38560" y="4941720"/>
            <a:ext cx="41054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Century Gothic"/>
              </a:rPr>
              <a:t>Fotos do</a:t>
            </a:r>
            <a:r>
              <a:rPr b="0" lang="pt-BR" sz="1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s-CL" sz="1200" spc="-1" strike="noStrike">
                <a:solidFill>
                  <a:srgbClr val="ffffff"/>
                </a:solidFill>
                <a:latin typeface="Century Gothic"/>
              </a:rPr>
              <a:t>artista canadense</a:t>
            </a:r>
            <a:r>
              <a:rPr b="0" lang="es-CL" sz="16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entury Gothic"/>
              </a:rPr>
              <a:t>Gregory Colb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00"/>
                </a:solidFill>
                <a:latin typeface="Century Gothic"/>
              </a:rPr>
              <a:t>NÃO PRECISA CLICAR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6000">
    <p:checker dir="vert"/>
    <p:sndAc>
      <p:stSnd>
        <p:snd r:embed="rId2" name="LAST-CLAYDERMAN%20-%20COEURS%20D'OR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5">
                                  <p:stCondLst>
                                    <p:cond delay="3000"/>
                                  </p:stCondLst>
                                  <p:iterate type="lt">
                                    <p:tmAbs val="1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710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100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96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1773360"/>
            <a:ext cx="792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A força deste vazio é que atrairá e absorverá tudo o que desej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checker dir="vert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26">
                                  <p:stCondLst>
                                    <p:cond delay="50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187280" y="476280"/>
            <a:ext cx="6294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Se acumular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objetos e sentimentos velhos e inúteis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não terás espaço para novas oportunidad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checker dir="vert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ntr" presetID="53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411280" y="4724280"/>
            <a:ext cx="4464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Os bens necessitam circular. Limpe as gavetas, os armários, o depósito, a garagem… A mente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checker dir="vert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entr" presetID="51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92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6" dur="192" fill="hold"/>
                                        <p:tgtEl>
                                          <p:spTgt spid="6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7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8" dur="192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9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0" dur="192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1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22400" y="2851200"/>
            <a:ext cx="3405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Doe tudo aquilo que já não usas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checker dir="vert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withEffect" fill="hold" presetClass="entr" presetID="9">
                                  <p:stCondLst>
                                    <p:cond delay="50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463840" y="48895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547640" y="1557360"/>
            <a:ext cx="6337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221100"/>
                </a:solidFill>
                <a:latin typeface="Verdana"/>
              </a:rPr>
              <a:t>A atitude de guardar um monte de coisas inútei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221100"/>
                </a:solidFill>
                <a:latin typeface="Verdana"/>
              </a:rPr>
              <a:t>só acorrenta a tua vid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checker dir="vert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43">
                                  <p:stCondLst>
                                    <p:cond delay="50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4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4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619280" y="765000"/>
            <a:ext cx="597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Não são só os objetos guardados que paralisam a tua vid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checker dir="vert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withEffect" fill="hold" presetClass="entr" presetID="35">
                                  <p:stCondLst>
                                    <p:cond delay="50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602440" y="1127160"/>
            <a:ext cx="389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Century Gothic"/>
              </a:rPr>
              <a:t>Eis o significado da atitude de guarda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checker dir="vert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ntr" presetID="20">
                                  <p:stCondLst>
                                    <p:cond delay="50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6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63640" y="692280"/>
            <a:ext cx="590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quando se guarda, se considera a possibilidade de falta, de carência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checker dir="vert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23" presetSubtype="528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187280" y="620640"/>
            <a:ext cx="6624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Acredita-se que, amanhã, poderá faltar e que não haverá maneira de suprir as necessidades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checker dir="vert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withEffect" fill="hold" presetClass="entr" presetID="5" presetSubtype="10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3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548720" y="549360"/>
            <a:ext cx="5935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Com esse pensamento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estás enviando duas mensagens ao teu cérebro e à tua vid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checker dir="vert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withEffect" fill="hold" presetClass="entr" presetID="43">
                                  <p:stCondLst>
                                    <p:cond delay="50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4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4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55640" y="189000"/>
            <a:ext cx="7920000" cy="19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2a1500"/>
                </a:solidFill>
                <a:latin typeface="Verdana"/>
              </a:rPr>
              <a:t>Estimados amigos,                                                                                                                  me permito brindá-los com esta mensagem do aut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ff3300"/>
                </a:solidFill>
                <a:latin typeface="Verdana"/>
                <a:ea typeface="Times New Roman"/>
              </a:rPr>
              <a:t>Joseph Newt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2a1500"/>
                </a:solidFill>
                <a:latin typeface="Verdana"/>
              </a:rPr>
              <a:t>e uma pequena e maravilhosa coleção de fotografias do                             mundialmente famoso fotógrafo e cineasta canadense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ff3300"/>
                </a:solidFill>
                <a:latin typeface="Verdana"/>
                <a:ea typeface="Times New Roman"/>
              </a:rPr>
              <a:t>Gregory Colbert.</a:t>
            </a:r>
            <a:r>
              <a:rPr b="1" lang="es-CL" sz="1600" spc="-1" strike="noStrike">
                <a:solidFill>
                  <a:srgbClr val="2a1500"/>
                </a:solidFill>
                <a:latin typeface="Verdana"/>
              </a:rPr>
              <a:t>                              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2205000"/>
            <a:ext cx="7993080" cy="824040"/>
          </a:xfrm>
          <a:prstGeom prst="rect">
            <a:avLst/>
          </a:prstGeom>
          <a:noFill/>
          <a:ln w="0">
            <a:noFill/>
          </a:ln>
          <a:effectLst>
            <a:outerShdw dist="12600" dir="10800000" blurRad="0" rotWithShape="0">
              <a:srgbClr val="9966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663300"/>
                </a:solidFill>
                <a:latin typeface="Verdana"/>
              </a:rPr>
              <a:t>“</a:t>
            </a:r>
            <a:r>
              <a:rPr b="0" lang="es-CL" sz="1600" spc="-1" strike="noStrike">
                <a:solidFill>
                  <a:srgbClr val="663300"/>
                </a:solidFill>
                <a:latin typeface="Verdana"/>
              </a:rPr>
              <a:t>Quando criei “Cinzas e Neve”, em 1992, minha intenção foi explorar 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663300"/>
                </a:solidFill>
                <a:latin typeface="Verdana"/>
              </a:rPr>
              <a:t>relação entre homens e animais, de dentro para fora…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663300"/>
                </a:solidFill>
                <a:latin typeface="Verdana"/>
              </a:rPr>
              <a:t>(Gregory Colbert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6000">
    <p:checker dir="vert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180"/>
                            </p:stCondLst>
                            <p:childTnLst>
                              <p:par>
                                <p:cTn id="27" nodeType="afterEffect" fill="hold" presetClass="entr" presetID="5" presetSubtype="10">
                                  <p:stCondLst>
                                    <p:cond delay="1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62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1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1180"/>
                            </p:stCondLst>
                            <p:childTnLst>
                              <p:par>
                                <p:cTn id="35" nodeType="afterEffect" fill="hold" presetClass="entr" presetID="5" presetSubtype="10">
                                  <p:stCondLst>
                                    <p:cond delay="1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3740"/>
                            </p:stCondLst>
                            <p:childTnLst>
                              <p:par>
                                <p:cTn id="39" nodeType="afterEffect" fill="hold" presetClass="entr" presetID="43">
                                  <p:stCondLst>
                                    <p:cond delay="2000"/>
                                  </p:stCondLst>
                                  <p:iterate type="lt">
                                    <p:tmAbs val="7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4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4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751480" y="1989000"/>
            <a:ext cx="335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Century Gothic"/>
              </a:rPr>
              <a:t>A de que não confias no amanhã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checker dir="vert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92360" y="333360"/>
            <a:ext cx="619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e1f00"/>
                </a:solidFill>
                <a:latin typeface="Verdana"/>
              </a:rPr>
              <a:t>E que o novo e o melhor NÃO são para ti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checker dir="vert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withEffect" fill="hold" presetClass="entr" presetID="53">
                                  <p:stCondLst>
                                    <p:cond delay="500"/>
                                  </p:stCondLst>
                                  <p:iterate type="lt">
                                    <p:tmAbs val="35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09600" y="906480"/>
            <a:ext cx="524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Por isso te alegras guardando coisas velhas e inútei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checker dir="vert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withEffect" fill="hold" presetClass="entr" presetID="9">
                                  <p:stCondLst>
                                    <p:cond delay="500"/>
                                  </p:stCondLst>
                                  <p:iterate type="lt">
                                    <p:tmAbs val="45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804400" y="1627200"/>
            <a:ext cx="388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e1f00"/>
                </a:solidFill>
                <a:latin typeface="Verdana"/>
              </a:rPr>
              <a:t>Até o que já perdeu a cor e o brilho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checker dir="vert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withEffect" fill="hold" presetClass="entr" presetID="26">
                                  <p:stCondLst>
                                    <p:cond delay="50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53080" y="619200"/>
            <a:ext cx="3477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Deixa entrar o novo em tua casa…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E  dentro de ti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checker dir="vert"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withEffect" fill="hold" presetClass="entr" presetID="35">
                                  <p:stCondLst>
                                    <p:cond delay="50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627280" y="836640"/>
            <a:ext cx="4176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Por isso, depois de l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esta mensagem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não a guardes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checker dir="vert"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withEffect" fill="hold" presetClass="entr" presetID="43">
                                  <p:stCondLst>
                                    <p:cond delay="50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4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4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979640" y="1052640"/>
            <a:ext cx="5398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Faça-a circular, pa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que a prosperidade e a paz cheguem a t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checker dir="vert"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withEffect" fill="hold" presetClass="entr" presetID="20">
                                  <p:stCondLst>
                                    <p:cond delay="50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6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907920"/>
            <a:ext cx="185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3300"/>
                </a:solidFill>
                <a:latin typeface="Arial"/>
              </a:rPr>
              <a:t>Boa sort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8000"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981000"/>
            <a:ext cx="7848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Tens o hábito de juntar objetos inúte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acreditando que um dia (não sabes quand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vais necessitar deles?</a:t>
            </a:r>
            <a:r>
              <a:rPr b="0" lang="es-ES" sz="1600" spc="-1" strike="noStrike">
                <a:solidFill>
                  <a:srgbClr val="ffffff"/>
                </a:solidFill>
                <a:latin typeface="Century Gothic"/>
              </a:rPr>
              <a:t>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checker dir="vert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53">
                                  <p:stCondLst>
                                    <p:cond delay="500"/>
                                  </p:stCondLst>
                                  <p:iterate type="lt">
                                    <p:tmAbs val="45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19280" y="189000"/>
            <a:ext cx="61196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Tens o hábito de juntar dinheiro</a:t>
            </a:r>
            <a:br>
              <a:rPr sz="1600"/>
            </a:b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sem gastá-lo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pois imaginas que ele poderá faltar no futuro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checker dir="vert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53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55640" y="2276640"/>
            <a:ext cx="76327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Tens o hábito de guardar roupas, sapatos, móveis, utensílios domésticos e outras coisas que já não usas há muito tempo?</a:t>
            </a: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checker dir="vert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53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71640" y="4797360"/>
            <a:ext cx="7129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E dentro de ti?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Tens o hábito de guardar raiva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ressentimentos, tristezas, medo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e outros sentimentos negativos?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checker dir="vert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53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68360" y="549360"/>
            <a:ext cx="4608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Não faças isso!  </a:t>
            </a:r>
            <a:br>
              <a:rPr sz="1600"/>
            </a:b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Vai contra a tua prosperidade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checker dir="vert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35">
                                  <p:stCondLst>
                                    <p:cond delay="50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87280" y="1628640"/>
            <a:ext cx="6696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É  preciso deixar um espaço, um vazio para qu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novas coisas cheguem à tua vid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checker dir="vert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5" presetSubtype="10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900000" y="1916280"/>
            <a:ext cx="7345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É  preciso se desfazer do inútil que há em t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e em tua vida para que a prosperidade possa acontec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checker dir="vert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43">
                                  <p:stCondLst>
                                    <p:cond delay="500"/>
                                  </p:stCondLst>
                                  <p:iterate type="lt">
                                    <p:tmAbs val="35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2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6T05:00:26Z</dcterms:created>
  <dc:creator>rakimchile@hotmail.com</dc:creator>
  <dc:description/>
  <dc:language>en-US</dc:language>
  <cp:lastModifiedBy>LIANA</cp:lastModifiedBy>
  <dcterms:modified xsi:type="dcterms:W3CDTF">2009-06-23T21:04:31Z</dcterms:modified>
  <cp:revision>81</cp:revision>
  <dc:subject>www.freewebs.com/rakimchile *** Canada  2008</dc:subject>
  <dc:title>Una produccion de Rakimchile y el Sirope de Savia de Arce la Miel de la Vida</dc:title>
</cp:coreProperties>
</file>