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0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3.png" ContentType="image/png"/>
  <Override PartName="/ppt/media/image13.png" ContentType="image/png"/>
  <Override PartName="/ppt/media/image14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1207-BFB7-4A75-A932-F6501472E173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39C1-A42C-4AC5-881D-6A5985AC486F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864-111F-4CEF-8748-34714F94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C98-68E9-4008-93C9-54135943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D73-C7C0-4ED5-873C-2E4B563A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FDC-9B00-4747-8E4E-35D136B0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3BE-8EEA-4132-B80C-D73CA56F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DCC-F6C2-420B-AC6B-F1BE5418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68A-379B-42FF-89FB-6BA59634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8A3-C4C7-4E4A-B38D-2E75FCE7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BA5-5DA8-451F-8C1A-1838AA3E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0CA-F864-4E13-AA69-AD2B97D4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9C8-D9FD-4B14-B13A-4D19FC66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115-8F2F-4163-BE9F-3B84DA14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6667-9D25-4F31-8985-1AE7BDD03E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2f4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98080" y="1781280"/>
            <a:ext cx="861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99ff33"/>
                </a:solidFill>
                <a:latin typeface="Arial"/>
              </a:rPr>
              <a:t>Manobra de Heimli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4920" y="3718080"/>
            <a:ext cx="835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99ff33"/>
                </a:solidFill>
                <a:latin typeface="Arial"/>
              </a:rPr>
              <a:t>Você sabe o que é isto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334120" y="6415200"/>
            <a:ext cx="33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cc00"/>
                </a:solidFill>
                <a:latin typeface="Arial"/>
              </a:rPr>
              <a:t>clique para prossegu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>
            <a:hlinkClick r:id="" action="ppaction://hlinkshowjump?jump=nextslide"/>
          </p:cNvPr>
          <p:cNvSpPr/>
          <p:nvPr/>
        </p:nvSpPr>
        <p:spPr>
          <a:xfrm>
            <a:off x="8686800" y="64771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3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8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828800" y="398520"/>
            <a:ext cx="5253120" cy="4554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152280" y="549900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, inclusive, você mesmo(a) pode auto-aplicar a manobra se estiver sozinho(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52280" y="15228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Ilustrando como se faz. Vamos lá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C:\Documents and Settings\Edna\Meus documentos\Meus vídeos\Manobra de Heimlich.gif"/>
          <p:cNvPicPr/>
          <p:nvPr/>
        </p:nvPicPr>
        <p:blipFill>
          <a:blip r:embed="rId1"/>
          <a:stretch/>
        </p:blipFill>
        <p:spPr>
          <a:xfrm>
            <a:off x="2403360" y="1371600"/>
            <a:ext cx="4302360" cy="374796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6"/>
          <p:cNvGrpSpPr/>
          <p:nvPr/>
        </p:nvGrpSpPr>
        <p:grpSpPr>
          <a:xfrm>
            <a:off x="5257800" y="6338880"/>
            <a:ext cx="3657600" cy="368280"/>
            <a:chOff x="5257800" y="6338880"/>
            <a:chExt cx="3657600" cy="368280"/>
          </a:xfrm>
        </p:grpSpPr>
        <p:sp>
          <p:nvSpPr>
            <p:cNvPr id="94" name="Text Box 4"/>
            <p:cNvSpPr/>
            <p:nvPr/>
          </p:nvSpPr>
          <p:spPr>
            <a:xfrm>
              <a:off x="5257800" y="6338880"/>
              <a:ext cx="33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6699"/>
                  </a:solidFill>
                  <a:latin typeface="Arial"/>
                </a:rPr>
                <a:t>clique para prossegu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utoShape 5">
              <a:hlinkClick r:id="" action="ppaction://hlinkshowjump?jump=nextslide"/>
            </p:cNvPr>
            <p:cNvSpPr/>
            <p:nvPr/>
          </p:nvSpPr>
          <p:spPr>
            <a:xfrm>
              <a:off x="8610480" y="6400800"/>
              <a:ext cx="304920" cy="30456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560"/>
                <a:gd name="textAreaBottom" fmla="*/ 285120 h 304560"/>
              </a:gdLst>
              <a:ahLst/>
              <a:rect l="textAreaLeft" t="textAreaTop" r="textAreaRight" b="textAreaBottom"/>
              <a:pathLst>
                <a:path w="21626" h="21600">
                  <a:moveTo>
                    <a:pt x="0" y="0"/>
                  </a:moveTo>
                  <a:lnTo>
                    <a:pt x="21626" y="0"/>
                  </a:lnTo>
                  <a:lnTo>
                    <a:pt x="21626" y="21600"/>
                  </a:lnTo>
                  <a:lnTo>
                    <a:pt x="0" y="21600"/>
                  </a:lnTo>
                  <a:close/>
                </a:path>
                <a:path fill="lightenLess" w="21626" h="21600">
                  <a:moveTo>
                    <a:pt x="0" y="0"/>
                  </a:moveTo>
                  <a:lnTo>
                    <a:pt x="21626" y="0"/>
                  </a:lnTo>
                  <a:lnTo>
                    <a:pt x="20226" y="1400"/>
                  </a:lnTo>
                  <a:lnTo>
                    <a:pt x="1400" y="1400"/>
                  </a:lnTo>
                  <a:close/>
                </a:path>
                <a:path fill="darken" w="21626" h="21600">
                  <a:moveTo>
                    <a:pt x="21626" y="0"/>
                  </a:moveTo>
                  <a:lnTo>
                    <a:pt x="21626" y="21600"/>
                  </a:lnTo>
                  <a:lnTo>
                    <a:pt x="20226" y="20200"/>
                  </a:lnTo>
                  <a:lnTo>
                    <a:pt x="20226" y="1400"/>
                  </a:lnTo>
                  <a:close/>
                </a:path>
                <a:path fill="darkenLess" w="21626" h="21600">
                  <a:moveTo>
                    <a:pt x="2162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26" y="20200"/>
                  </a:lnTo>
                  <a:close/>
                </a:path>
                <a:path fill="lighten" w="2162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26" h="21600">
                  <a:moveTo>
                    <a:pt x="3806" y="3794"/>
                  </a:moveTo>
                  <a:lnTo>
                    <a:pt x="17819" y="10800"/>
                  </a:lnTo>
                  <a:lnTo>
                    <a:pt x="3806" y="17806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7"/>
          <p:cNvSpPr/>
          <p:nvPr/>
        </p:nvSpPr>
        <p:spPr>
          <a:xfrm>
            <a:off x="22860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plique as compressões repetidamente até conseguir fazer a pessoa expelir o obje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355840" y="685800"/>
            <a:ext cx="435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observe atentamente a anim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675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175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304920" y="590400"/>
            <a:ext cx="86104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clui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 asfixia pode levar a vida de uma pessoa em apenas 4 (quatro) minu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 manobra de Heimlich pode ser útil e salvar uma vida quando um corpo estranho bloqueia a passagem de ar para os pulm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28600" y="3581280"/>
            <a:ext cx="8686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Quando algo bloqueia a passagem de ar, não há tempo suficiente para esperar pela chegada de um socorro médico. A pessoa mais próxima precisa agir rapidamen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135520" y="3809880"/>
            <a:ext cx="487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00"/>
                </a:solidFill>
                <a:latin typeface="Arial"/>
              </a:rPr>
              <a:t>Vale lembrar qu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82f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04920" y="990720"/>
            <a:ext cx="883908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 puder, faça um curso de primeiros socor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04920" y="27622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eça que não brinquem com este tipo de informação (não simular estar em apuros). Isto é sério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04920" y="54100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 achou importante esta informação, repasse-a para os ami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382840" y="53352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Mais comentári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04920" y="42354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cure aprender pois um dia qualquer você poderá ser útil para algué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506760" y="2141640"/>
            <a:ext cx="180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99ff33"/>
                </a:solidFill>
                <a:latin typeface="Times New Roman"/>
              </a:rPr>
              <a:t>FI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28600" y="45720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ff33"/>
                </a:solidFill>
                <a:latin typeface="Arial"/>
              </a:rPr>
              <a:t>Este é um serviço de utilidade públ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ff33"/>
                </a:solidFill>
                <a:latin typeface="Arial"/>
              </a:rPr>
              <a:t>As informações aqui contidas destinam-se exclusivamente à aplicação em situações emergenciais que coloquem a vida em risco imediato, devendo ser tratadas com </a:t>
            </a:r>
            <a:r>
              <a:rPr b="0" lang="pt-BR" sz="1800" spc="-1" strike="noStrike" u="sng">
                <a:solidFill>
                  <a:srgbClr val="99ff33"/>
                </a:solidFill>
                <a:uFillTx/>
                <a:latin typeface="Arial"/>
              </a:rPr>
              <a:t>toda a </a:t>
            </a:r>
            <a:r>
              <a:rPr b="1" lang="pt-BR" sz="1800" spc="-1" strike="noStrike" u="sng">
                <a:solidFill>
                  <a:srgbClr val="99ff33"/>
                </a:solidFill>
                <a:uFillTx/>
                <a:latin typeface="Arial"/>
              </a:rPr>
              <a:t>seriedade e respeito</a:t>
            </a:r>
            <a:r>
              <a:rPr b="0" lang="pt-BR" sz="1800" spc="-1" strike="noStrike">
                <a:solidFill>
                  <a:srgbClr val="99ff33"/>
                </a:solidFill>
                <a:latin typeface="Arial"/>
              </a:rPr>
              <a:t>! Não brinque com o assunto ou corrompa o arqu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ff33"/>
                </a:solidFill>
                <a:latin typeface="Arial"/>
              </a:rPr>
              <a:t>Imagens obtidas na internet. Fontes de informação divers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ff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145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762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-152280" y="0"/>
            <a:ext cx="914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Vamos conhecer um pouco ma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sobre esta manobra que salva v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Você já deve ter ouvido falar de algum caso como e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Recapitulando a situ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sufocamento"/>
          <p:cNvPicPr/>
          <p:nvPr/>
        </p:nvPicPr>
        <p:blipFill>
          <a:blip r:embed="rId1"/>
          <a:stretch/>
        </p:blipFill>
        <p:spPr>
          <a:xfrm>
            <a:off x="6915240" y="2819520"/>
            <a:ext cx="2076480" cy="3733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304920" y="3387600"/>
            <a:ext cx="6705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Você está almoçando com um grupo de amigo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Subitamente, alguém se engasga. Tenta tossir, mas parece estar seriamente em ap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Levanta-se e fica muito agitado levando as mãos à garganta. Não consegue mais falar, parecendo ter alguma dificuldade para respir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9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2f4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457200" y="152280"/>
            <a:ext cx="81532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ff33"/>
                </a:solidFill>
                <a:latin typeface="Arial"/>
              </a:rPr>
              <a:t>Seu amigo(a) pode estar com a passagem de ar bloqueada e isto pode levar à asfixia em questão de minut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ff33"/>
                </a:solidFill>
                <a:latin typeface="Arial"/>
              </a:rPr>
              <a:t>Você sabe como poderia ajud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25369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Arial"/>
              </a:rPr>
              <a:t>A asfixia é uma causa comum de morte após engasgo com alimentos. É comum em crianças, ocorrendo também com os adul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Arial"/>
              </a:rPr>
              <a:t>Provocada por uma súbita queda de oxigenação, pode levar à morte em poucos minutos, se não solucionada rapid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Arial"/>
              </a:rPr>
              <a:t>Balas, doces, bombons e alimentos diversos podem ser responsáveis por este evento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Arial"/>
              </a:rPr>
              <a:t>Ao ser deglutido de forma inadequada, o alimento pode bloquear as vias respiratórias e a passagem de ar para os pulmõ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Arial"/>
              </a:rPr>
              <a:t>ao impactar na garg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286560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2895480" y="304920"/>
            <a:ext cx="579132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icialmente reconhecida pela Cruz Vermelha, foi adotada e difundida mundialmente como uma manobra salvadora de vidas. É uma tosse “artificial” ou “auxiliada”, com o intuito de expelir o objeto ou alimento da traquéia da pes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mos conhecê-l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76320"/>
            <a:ext cx="922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manobra pode ser salvadora neste momento. Conhecida como Manobra de Heimlich, foi descrita em 1974 por Henry Heimli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000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352680" y="304920"/>
            <a:ext cx="54104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a manobra já é de domínio público em vários países onde é comum encontrarmos cartazes com estas instruções, especialmente em restaur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28600" y="475308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m primeiro lugar, mande alguém ligar para um serviço móvel de socorro (por exemplo, o INEM “112”) enquanto você começa a prestar o socorro mais i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14964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tel"/>
          <p:cNvPicPr/>
          <p:nvPr/>
        </p:nvPicPr>
        <p:blipFill>
          <a:blip r:embed="rId2"/>
          <a:stretch/>
        </p:blipFill>
        <p:spPr>
          <a:xfrm>
            <a:off x="3778200" y="2506680"/>
            <a:ext cx="1708200" cy="191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55"/>
          <p:cNvPicPr/>
          <p:nvPr/>
        </p:nvPicPr>
        <p:blipFill>
          <a:blip r:embed="rId3"/>
          <a:stretch/>
        </p:blipFill>
        <p:spPr>
          <a:xfrm>
            <a:off x="7391520" y="3268800"/>
            <a:ext cx="1143000" cy="949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5753880" y="3465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c3300"/>
                </a:solidFill>
                <a:latin typeface="Arial Black"/>
              </a:rPr>
              <a:t>1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273720" y="1523880"/>
            <a:ext cx="3110040" cy="46483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-1066680" y="1866960"/>
            <a:ext cx="6362640" cy="4076640"/>
            <a:chOff x="-1066680" y="1866960"/>
            <a:chExt cx="6362640" cy="4076640"/>
          </a:xfrm>
        </p:grpSpPr>
        <p:pic>
          <p:nvPicPr>
            <p:cNvPr id="68" name="Picture 4" descr="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-1066680" y="1866960"/>
              <a:ext cx="6134040" cy="40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Rectangle 5"/>
            <p:cNvSpPr/>
            <p:nvPr/>
          </p:nvSpPr>
          <p:spPr>
            <a:xfrm>
              <a:off x="3238560" y="5334120"/>
              <a:ext cx="20574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Rectangle 3"/>
          <p:cNvSpPr/>
          <p:nvPr/>
        </p:nvSpPr>
        <p:spPr>
          <a:xfrm>
            <a:off x="3429000" y="1905120"/>
            <a:ext cx="320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00"/>
                </a:solidFill>
                <a:latin typeface="Arial"/>
              </a:rPr>
              <a:t>Inicie abraçando a pessoa pela cintura firmando os punhos entre as costelas e o abdomen. Puxe a pessoa para cima e em sua direção, rápida e vigoros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0" y="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3300"/>
                </a:solidFill>
                <a:latin typeface="Arial"/>
              </a:rPr>
              <a:t>Certifique-se que a pessoa esteja realmente com dificuldades para respirar. Alguns sinais são característicos: ela tenta falar e a voz não sai. Começa a ficar agitada e confusa, levando as mãos para a garganta. A pele pode mudar de cor, passando a ficar azulada o que indica baixa oxigenação do sang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81000" y="6186600"/>
            <a:ext cx="90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00"/>
                </a:solidFill>
                <a:latin typeface="Arial"/>
              </a:rPr>
              <a:t>quantas vezes forem necessá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26" descr=""/>
          <p:cNvPicPr/>
          <p:nvPr/>
        </p:nvPicPr>
        <p:blipFill>
          <a:blip r:embed="rId1"/>
          <a:stretch/>
        </p:blipFill>
        <p:spPr>
          <a:xfrm>
            <a:off x="152280" y="146160"/>
            <a:ext cx="4724640" cy="3892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27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519800" cy="3384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28"/>
          <p:cNvSpPr/>
          <p:nvPr/>
        </p:nvSpPr>
        <p:spPr>
          <a:xfrm>
            <a:off x="4290840" y="304920"/>
            <a:ext cx="46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00"/>
                </a:solidFill>
                <a:latin typeface="Arial"/>
              </a:rPr>
              <a:t>Se você não tem força suficiente, pode ajudar também com batidas firmes nas co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029"/>
          <p:cNvSpPr/>
          <p:nvPr/>
        </p:nvSpPr>
        <p:spPr>
          <a:xfrm>
            <a:off x="76320" y="4478400"/>
            <a:ext cx="4624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00"/>
                </a:solidFill>
                <a:latin typeface="Arial"/>
              </a:rPr>
              <a:t>Mas, melhor ainda é a manobra em que se abraça e aplica a compressão entre o abdome e as coste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030"/>
          <p:cNvSpPr/>
          <p:nvPr/>
        </p:nvSpPr>
        <p:spPr>
          <a:xfrm flipH="1">
            <a:off x="4952880" y="2514600"/>
            <a:ext cx="365760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031"/>
          <p:cNvSpPr/>
          <p:nvPr/>
        </p:nvSpPr>
        <p:spPr>
          <a:xfrm>
            <a:off x="3886200" y="5105520"/>
            <a:ext cx="144792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2280" y="76320"/>
            <a:ext cx="58676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Se a pessoa não consegue mais ficar de pé (está inconsciente ou esgotada) ou se você não tem força suficiente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2895480" cy="2836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2560680" cy="320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3892680" y="2895480"/>
            <a:ext cx="3962160" cy="3057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152280" y="1676520"/>
            <a:ext cx="496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a manobra pode ser aplicada com ela senta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279960" y="3581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u de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52280" y="59436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3300"/>
                </a:solidFill>
                <a:latin typeface="Arial"/>
              </a:rPr>
              <a:t>Não importa se a pessoa está ficando sem reação, parecendo já estar desfalecida.  Inicie a manobra o quanto ante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000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6" descr="HeimlichMenor"/>
          <p:cNvPicPr/>
          <p:nvPr/>
        </p:nvPicPr>
        <p:blipFill>
          <a:blip r:embed="rId1"/>
          <a:stretch/>
        </p:blipFill>
        <p:spPr>
          <a:xfrm>
            <a:off x="304920" y="228600"/>
            <a:ext cx="3757320" cy="4876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8" descr="heimlichbabyR"/>
          <p:cNvPicPr/>
          <p:nvPr/>
        </p:nvPicPr>
        <p:blipFill>
          <a:blip r:embed="rId2"/>
          <a:stretch/>
        </p:blipFill>
        <p:spPr>
          <a:xfrm>
            <a:off x="5040360" y="0"/>
            <a:ext cx="2884320" cy="4800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029"/>
          <p:cNvSpPr/>
          <p:nvPr/>
        </p:nvSpPr>
        <p:spPr>
          <a:xfrm>
            <a:off x="152280" y="5499000"/>
            <a:ext cx="8610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rianças também podem ser socorri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través desta manob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9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04:40:39Z</dcterms:created>
  <dc:creator>Edna Ferraz</dc:creator>
  <dc:description/>
  <cp:keywords>Heimlich</cp:keywords>
  <dc:language>en-US</dc:language>
  <cp:lastModifiedBy>Utilizador</cp:lastModifiedBy>
  <dcterms:modified xsi:type="dcterms:W3CDTF">2009-05-31T18:34:47Z</dcterms:modified>
  <cp:revision>16</cp:revision>
  <dc:subject/>
  <dc:title>Manobra de Heimlich</dc:title>
</cp:coreProperties>
</file>