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3.jpeg" ContentType="image/jpeg"/>
  <Override PartName="/ppt/media/Pescador%20de%20hombres%20-%20Enrique%20Chia.wav" ContentType="audio/x-wav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71E-D2EE-4F61-8659-3EFD55AE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5CE-3C77-48BA-96D0-47C97EF9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78F-E937-4A2F-B728-7BB56B27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E3D-0B4B-4ADF-97EE-70E0CD32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68E-4C5C-4E5B-8F7D-03EF82D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2F8-09B4-4494-926A-951C5DA2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FAD-127C-4D14-8EAD-359199A4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50B-6AF2-4123-A7F5-18D73745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EBB-DC00-4BFF-8B44-A1B31512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A59-2D9F-412F-A4AE-32F4E2E1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2D1-1224-4AC0-9575-BCA37EC6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12A-03E2-420F-918E-7C9266D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9D4A-5DA9-4DA6-9F46-9FB16FD0BA6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Pescador%20de%20hombres%20-%20Enrique%20Chi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ustusLie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home.com.ar/blogger/uploaded_images/edison-74661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1.bp.blogspot.com/_RKXT1B7fxo4/Stqn1ETA4uI/AAAAAAAABmI/xesTRoztmX4/s1600-h/La+ciencia+y+Dios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ilatelissimo.com/wp-content/uploads/2007/11/radio_guillermo_marconi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3.bp.blogspot.com/_oZOg6YjBvWk/SuNpQUUYrwI/AAAAAAAADXk/HzmR5YAeZv4/s1600-h/keple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am.es/personal_pdi/ciencias/depaz/adi/planck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.ve/imgres?imgurl=http://www.malaspina.com/jpg/schrodinger.jpg&amp;imgrefurl=http://russellmcneil.blogspot.com/2007/10/erwin-schrodinger-1887-1961.html&amp;usg=__l1agqAPaI40D29UzLakg-h-TFYY=&amp;h=560&amp;w=485&amp;sz=44&amp;hl=es&amp;start=2&amp;um=1&amp;tbnid=wLkwT26SdgjpbM:&amp;tbnh=133&amp;tbnw=115&amp;prev=/images%3Fq%3Dschrodinger%26hl%3Des%26sa%3DN%26um%3D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rcianitosverdes.haaan.com/wp-content/uploads/2007/09/windowslivewriterlosniossalvajes6-126d4linneo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ech.dickinson.edu/chemistry/wp-content/uploads/2008/04/alessandro-volta.gif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lectronica.webcindario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l Ojo de Dios. Nebua Helix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42" name="3 CuadroTexto"/>
          <p:cNvSpPr/>
          <p:nvPr/>
        </p:nvSpPr>
        <p:spPr>
          <a:xfrm>
            <a:off x="1042920" y="26370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alibri"/>
              </a:rPr>
              <a:t>Confissão de Fé de grandes cientis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02120" y="6402240"/>
            <a:ext cx="35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ma a barra de espaços para avançar os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pcontent.answers.com/wikipedia/commons/f/fd/JustusLiebi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86280" cy="5786280"/>
          </a:xfrm>
          <a:prstGeom prst="rect">
            <a:avLst/>
          </a:prstGeom>
          <a:ln w="0">
            <a:noFill/>
          </a:ln>
        </p:spPr>
      </p:pic>
      <p:sp>
        <p:nvSpPr>
          <p:cNvPr id="62" name="2 CuadroTexto"/>
          <p:cNvSpPr/>
          <p:nvPr/>
        </p:nvSpPr>
        <p:spPr>
          <a:xfrm>
            <a:off x="6000840" y="1214280"/>
            <a:ext cx="27144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ebig (1803- 1873), célebre quí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grandeza e infinita sabedoria do Criador a reconhecerá realmente só o que se esforçar por extrair as suas ideias do grande livro que chamamos a naturez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ulius Robert Mayer"/>
          <p:cNvPicPr/>
          <p:nvPr/>
        </p:nvPicPr>
        <p:blipFill>
          <a:blip r:embed="rId1"/>
          <a:stretch/>
        </p:blipFill>
        <p:spPr>
          <a:xfrm>
            <a:off x="0" y="214200"/>
            <a:ext cx="4897440" cy="6643800"/>
          </a:xfrm>
          <a:prstGeom prst="rect">
            <a:avLst/>
          </a:prstGeom>
          <a:ln w="0">
            <a:noFill/>
          </a:ln>
        </p:spPr>
      </p:pic>
      <p:sp>
        <p:nvSpPr>
          <p:cNvPr id="64" name="2 CuadroTexto"/>
          <p:cNvSpPr/>
          <p:nvPr/>
        </p:nvSpPr>
        <p:spPr>
          <a:xfrm>
            <a:off x="5214960" y="720720"/>
            <a:ext cx="35719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obert Mayer (1814- 1878), cientista naturalista (Lei da Conservação da Ener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abo a minha vida com uma convicção que brota do mais fundo do meu coração: a verdadeira ciência e a verdadeira filosofia não podem ser outra coisa senão uma propedêutica da religião cristã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ttp://www.disf.org/images/iconografia_chinnici/secchi.jpg"/>
          <p:cNvPicPr/>
          <p:nvPr/>
        </p:nvPicPr>
        <p:blipFill>
          <a:blip r:embed="rId1"/>
          <a:stretch/>
        </p:blipFill>
        <p:spPr>
          <a:xfrm>
            <a:off x="0" y="0"/>
            <a:ext cx="5356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2 CuadroTexto"/>
          <p:cNvSpPr/>
          <p:nvPr/>
        </p:nvSpPr>
        <p:spPr>
          <a:xfrm>
            <a:off x="5786280" y="2571840"/>
            <a:ext cx="264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cchi (1803- 1895), célebre astrón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 contemplar o céu a Deus há um trecho curt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biografiasyvidas.com/monografia/darwin/fotos/darwin_charles.jpg"/>
          <p:cNvPicPr/>
          <p:nvPr/>
        </p:nvPicPr>
        <p:blipFill>
          <a:blip r:embed="rId1"/>
          <a:stretch/>
        </p:blipFill>
        <p:spPr>
          <a:xfrm>
            <a:off x="0" y="0"/>
            <a:ext cx="6110280" cy="5786280"/>
          </a:xfrm>
          <a:prstGeom prst="rect">
            <a:avLst/>
          </a:prstGeom>
          <a:ln w="0">
            <a:noFill/>
          </a:ln>
        </p:spPr>
      </p:pic>
      <p:sp>
        <p:nvSpPr>
          <p:cNvPr id="68" name="2 CuadroTexto"/>
          <p:cNvSpPr/>
          <p:nvPr/>
        </p:nvSpPr>
        <p:spPr>
          <a:xfrm>
            <a:off x="6143760" y="90360"/>
            <a:ext cx="271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arwin (1809- 1882), Teoria da ev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Jamais neguei a existência de Deus. Penso que a teoria da evolução é totalmente compatível com a fé em Deus. O argumento máximo da existência de Deus parece-me a impossibilidade de demonstrar e compreender que o universo imenso, sublime sobre toda medida, e o homem tenham sido frutos do acas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intelhome.com.ar/blogger/uploaded_images/edison-74660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102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5286240" y="1357200"/>
            <a:ext cx="35719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dison (1847- 1931) , o inventor mais fecundo, 1200 pa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 meu máximo respeito e a minha máxima admiração a todos os engenheiros, especialmente ao maior de todos eles: Deu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1.bp.blogspot.com/_RKXT1B7fxo4/Stqn1ETA4uI/AAAAAAAABmI/xesTRoztmX4/s320/La+ciencia+y+Dio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2 CuadroTexto"/>
          <p:cNvSpPr/>
          <p:nvPr/>
        </p:nvSpPr>
        <p:spPr>
          <a:xfrm>
            <a:off x="5857920" y="735120"/>
            <a:ext cx="30002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chleich (1859- 1922), célebre ciruj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rnei-me crente à minha maneira pelo microscópio e pela observação da natureza, e quero, tanto quanto está ao meu alcance, contribuir para a plena concórdia entre a ciência e a religiã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Guillermo Marco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1652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2 CuadroTexto"/>
          <p:cNvSpPr/>
          <p:nvPr/>
        </p:nvSpPr>
        <p:spPr>
          <a:xfrm>
            <a:off x="5214960" y="534960"/>
            <a:ext cx="3357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arconi (1874- 1937), inventor da telegrafia sem fios, Prémio Nobel 190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claro-o com orgulho: sou crente. Creio no poder da oração, e creio, não só como católico, mas também como cientist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61128.millikan.jpg"/>
          <p:cNvPicPr/>
          <p:nvPr/>
        </p:nvPicPr>
        <p:blipFill>
          <a:blip r:embed="rId1"/>
          <a:stretch/>
        </p:blipFill>
        <p:spPr>
          <a:xfrm>
            <a:off x="155520" y="57240"/>
            <a:ext cx="4645080" cy="680076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5143680" y="1266840"/>
            <a:ext cx="36432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Millikan (1868- 1953), grande físico americano, Premio Nobel 192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sso pela minha parte asseverar com toda a decisão que a negação da fé carece de toda a base científica. A meu juizo jamás se encontrará uma verdadeira contradição entre a fé e a ciênc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ir Arthur Stanley Eddington, 1932.&#13;[Credits : Encyclopædia Britannica, Inc.]"/>
          <p:cNvPicPr/>
          <p:nvPr/>
        </p:nvPicPr>
        <p:blipFill>
          <a:blip r:embed="rId1"/>
          <a:stretch/>
        </p:blipFill>
        <p:spPr>
          <a:xfrm>
            <a:off x="0" y="785880"/>
            <a:ext cx="523872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3 CuadroTexto"/>
          <p:cNvSpPr/>
          <p:nvPr/>
        </p:nvSpPr>
        <p:spPr>
          <a:xfrm>
            <a:off x="5429160" y="785880"/>
            <a:ext cx="3214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ddingtong (1882- 1946) Célebre astrónomo inglê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enhum dos inventores do ateísmo foi naturalista. Todos eles foram filósofos muito medíocr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egge.net/~savory/einstein55.jpg"/>
          <p:cNvPicPr/>
          <p:nvPr/>
        </p:nvPicPr>
        <p:blipFill>
          <a:blip r:embed="rId1"/>
          <a:stretch/>
        </p:blipFill>
        <p:spPr>
          <a:xfrm>
            <a:off x="0" y="0"/>
            <a:ext cx="534348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2 CuadroTexto"/>
          <p:cNvSpPr/>
          <p:nvPr/>
        </p:nvSpPr>
        <p:spPr>
          <a:xfrm>
            <a:off x="5500800" y="214200"/>
            <a:ext cx="335736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bert Einstein (1879- 1955), fundador da física contemporânea  (teoria da relatividade e Prémio Nobel 192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do aquele que está seriamente comprometido com o cultivo da ciência, chega a convencer-se de que em todas as  leis do universo está manifiesto um espírito infinitamente superior ao homem, e diante do qual, nós com os nossos poderes devemos sentir-nos humil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3.bp.blogspot.com/_oZOg6YjBvWk/SuNpQUUYrwI/AAAAAAAADXk/HzmR5YAeZv4/s400/kep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6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4 CuadroTexto"/>
          <p:cNvSpPr/>
          <p:nvPr/>
        </p:nvSpPr>
        <p:spPr>
          <a:xfrm>
            <a:off x="5143680" y="78588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Johannes Kepler 1571-1630, um dos maiores astróno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us é grande, grande é o seu poder, infinita a sua sabedoria. Louvem-n’O, céus e terra, sol, lua e estrelas com a sua própria linguagem. Meu Senhor e meu Criador!                     A magnificência das tuas obras quereria eu anunciá-la aos homens na medida em que a minha limitada inteligência pode compreendê-l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atro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9840" y="0"/>
            <a:ext cx="4784760" cy="6408720"/>
          </a:xfrm>
          <a:prstGeom prst="rect">
            <a:avLst/>
          </a:prstGeom>
          <a:ln w="0">
            <a:noFill/>
          </a:ln>
        </p:spPr>
      </p:pic>
      <p:sp>
        <p:nvSpPr>
          <p:cNvPr id="82" name="2 CuadroTexto"/>
          <p:cNvSpPr/>
          <p:nvPr/>
        </p:nvSpPr>
        <p:spPr>
          <a:xfrm>
            <a:off x="4929120" y="428760"/>
            <a:ext cx="3857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lank (1858- 1947), fundador da física quântica, Prémio Nobel 191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ada pois no-lo impede, e o impulso do nosso conhecimento o exige… relacionar mutuamente a ordem do universo e o Deus da religião. Deus está, para o crente, no princípio dos seus discursos, para o físico, no termo dos mes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t0.gstatic.com/images?q=tbn:wLkwT26SdgjpbM:http://www.malaspina.com/jpg/schroding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0560" cy="528624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4786200" y="1928880"/>
            <a:ext cx="39290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chrödinger (1887- 1961), criador da mecânica ondulatória, Prémio Nobel 193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obra mestra mais fina é a feita por Deus, segundo os princípios da mecânica quântica…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todayinsci.com/A/Aiken_Howard/AikenHowardThm.jpg"/>
          <p:cNvPicPr/>
          <p:nvPr/>
        </p:nvPicPr>
        <p:blipFill>
          <a:blip r:embed="rId1"/>
          <a:stretch/>
        </p:blipFill>
        <p:spPr>
          <a:xfrm>
            <a:off x="0" y="0"/>
            <a:ext cx="4971960" cy="6215040"/>
          </a:xfrm>
          <a:prstGeom prst="rect">
            <a:avLst/>
          </a:prstGeom>
          <a:ln w="0">
            <a:noFill/>
          </a:ln>
        </p:spPr>
      </p:pic>
      <p:sp>
        <p:nvSpPr>
          <p:cNvPr id="86" name="2 CuadroTexto"/>
          <p:cNvSpPr/>
          <p:nvPr/>
        </p:nvSpPr>
        <p:spPr>
          <a:xfrm>
            <a:off x="5286240" y="428760"/>
            <a:ext cx="28576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athaway, pai do cérebro electró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moderna física ensina-me que a natureza não é capaz de ordenar-se a si mesma. O universo supõe uma enorme massa de ordem. Por isso, requer uma grande «Causa Primeira», que não está submetida à segunda lei da transformação da energia e que, por isso mesmo, é Sobrenatur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t0.gstatic.com/images?q=tbn:ppI8yhv7wdhBaM:http://www.moosburg.org/info/stalag/bilder/braun1.jpg"/>
          <p:cNvPicPr/>
          <p:nvPr/>
        </p:nvPicPr>
        <p:blipFill>
          <a:blip r:embed="rId1"/>
          <a:stretch/>
        </p:blipFill>
        <p:spPr>
          <a:xfrm>
            <a:off x="0" y="0"/>
            <a:ext cx="4653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3 CuadroTexto"/>
          <p:cNvSpPr/>
          <p:nvPr/>
        </p:nvSpPr>
        <p:spPr>
          <a:xfrm>
            <a:off x="5000760" y="754200"/>
            <a:ext cx="342900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Wernher Von Braun (1912- 1977), construtor alemão- americano dos foguetes espaci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ima de tudo está a glória de Deus, que criou o grande universo, que o homem e a ciência vão esquadrinhando e investigando dia após dia em profunda adoraçã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physics.usyd.edu.au/~gekko/pictures/misc/Charles_Townes2.JPG"/>
          <p:cNvPicPr/>
          <p:nvPr/>
        </p:nvPicPr>
        <p:blipFill>
          <a:blip r:embed="rId1"/>
          <a:stretch/>
        </p:blipFill>
        <p:spPr>
          <a:xfrm>
            <a:off x="0" y="1071720"/>
            <a:ext cx="4637160" cy="4214520"/>
          </a:xfrm>
          <a:prstGeom prst="rect">
            <a:avLst/>
          </a:prstGeom>
          <a:ln w="0">
            <a:noFill/>
          </a:ln>
        </p:spPr>
      </p:pic>
      <p:sp>
        <p:nvSpPr>
          <p:cNvPr id="90" name="3 CuadroTexto"/>
          <p:cNvSpPr/>
          <p:nvPr/>
        </p:nvSpPr>
        <p:spPr>
          <a:xfrm>
            <a:off x="5143680" y="1357200"/>
            <a:ext cx="3643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harles Townes (Partilhou o Prémio Nobel da Física 1964 por descobrir os princípios do las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o religioso, sinto a presença e intervenção de um ser Criador que vai mais além de mim mesmo, mas que sempre está próximo… a inteligência teve algo a ver com a criação das leis do univers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tayabeixo.org/biografias/images/Sandage.jpg"/>
          <p:cNvPicPr/>
          <p:nvPr/>
        </p:nvPicPr>
        <p:blipFill>
          <a:blip r:embed="rId1"/>
          <a:stretch/>
        </p:blipFill>
        <p:spPr>
          <a:xfrm>
            <a:off x="0" y="571680"/>
            <a:ext cx="4664160" cy="5286240"/>
          </a:xfrm>
          <a:prstGeom prst="rect">
            <a:avLst/>
          </a:prstGeom>
          <a:ln w="0">
            <a:noFill/>
          </a:ln>
        </p:spPr>
      </p:pic>
      <p:sp>
        <p:nvSpPr>
          <p:cNvPr id="92" name="2 CuadroTexto"/>
          <p:cNvSpPr/>
          <p:nvPr/>
        </p:nvSpPr>
        <p:spPr>
          <a:xfrm>
            <a:off x="4714920" y="500040"/>
            <a:ext cx="392904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llan Sandage (1926-) Astrónomo profissional, calculou a velocidade com que se espande o universo e a idade do mesmo pela observação de estrelas dis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ra quase um ateu praticamente na juventude. A ciência foi que me levou à conclusão de que o mundo é muito mais complexo do que podemos explicar. O mistério da existência só o posso explicar mediante o Sobrenatur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t2.gstatic.com/images?q=tbn:tG6G6c3X5REbQM:http://dmi.exa.unrc.edu.ar/Imagenes/Pasteur.jpg"/>
          <p:cNvPicPr/>
          <p:nvPr/>
        </p:nvPicPr>
        <p:blipFill>
          <a:blip r:embed="rId1"/>
          <a:stretch/>
        </p:blipFill>
        <p:spPr>
          <a:xfrm>
            <a:off x="0" y="1000080"/>
            <a:ext cx="3738600" cy="4143600"/>
          </a:xfrm>
          <a:prstGeom prst="rect">
            <a:avLst/>
          </a:prstGeom>
          <a:ln w="0">
            <a:noFill/>
          </a:ln>
        </p:spPr>
      </p:pic>
      <p:sp>
        <p:nvSpPr>
          <p:cNvPr id="94" name="2 CuadroTexto"/>
          <p:cNvSpPr/>
          <p:nvPr/>
        </p:nvSpPr>
        <p:spPr>
          <a:xfrm>
            <a:off x="3924360" y="0"/>
            <a:ext cx="48625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Um cartão de visita e uma sur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m jovem universitário viajava no mesmo banco de transporte com um venerável ancião que ia rezando o seu rosário. O jovem atreveu-se a dizer-lhe: “Porque é que em vez de rezar o rosário não se dedica a aprender e a instruir-se um pouco mais? Eu posso enviar-lhe algum livro para que se instru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 ancião respondeu-lhe: “Agradecia-lhe que me enviasse o livro para esta direcção”; e entregou-lhe o seu cartão. Nele dizia: Luis Pasteur, Instituto de Ciências de Paris. O universitário ficou envergonhado. Tinha pretendido dar conselhos ao mais famoso sábio do seu tempo, o inventor das vacinas, estimado em todo o mundo e devoto do rosári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 CuadroTexto"/>
          <p:cNvSpPr/>
          <p:nvPr/>
        </p:nvSpPr>
        <p:spPr>
          <a:xfrm>
            <a:off x="1547640" y="422100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ompilação: Padre Chulalo (15/02/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20960" y="5681520"/>
            <a:ext cx="34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úsica: Pescador de Homens – Enrique Ch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Tw Cen MT Condensed Extra Bold"/>
              </a:rPr>
              <a:t>QUE DEUS TE ABENÇO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icolas Copernico"/>
          <p:cNvPicPr/>
          <p:nvPr/>
        </p:nvPicPr>
        <p:blipFill>
          <a:blip r:embed="rId1"/>
          <a:stretch/>
        </p:blipFill>
        <p:spPr>
          <a:xfrm>
            <a:off x="0" y="0"/>
            <a:ext cx="6321600" cy="6357960"/>
          </a:xfrm>
          <a:prstGeom prst="rect">
            <a:avLst/>
          </a:prstGeom>
          <a:ln w="0">
            <a:noFill/>
          </a:ln>
        </p:spPr>
      </p:pic>
      <p:sp>
        <p:nvSpPr>
          <p:cNvPr id="48" name="4 CuadroTexto"/>
          <p:cNvSpPr/>
          <p:nvPr/>
        </p:nvSpPr>
        <p:spPr>
          <a:xfrm>
            <a:off x="6357960" y="785880"/>
            <a:ext cx="278604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pérnico (1473- 1543), fundador da mundovisão moder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m viva em íntimo contacto con a ordem mais consumada e a sabedoria divina, como não se sentirá estimulado às aspirações mais sublimes? Quem não adorará o Arquitecto de todas estas cois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ewton"/>
          <p:cNvPicPr/>
          <p:nvPr/>
        </p:nvPicPr>
        <p:blipFill>
          <a:blip r:embed="rId1"/>
          <a:stretch/>
        </p:blipFill>
        <p:spPr>
          <a:xfrm>
            <a:off x="0" y="0"/>
            <a:ext cx="5506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2 CuadroTexto"/>
          <p:cNvSpPr/>
          <p:nvPr/>
        </p:nvSpPr>
        <p:spPr>
          <a:xfrm>
            <a:off x="5929200" y="357120"/>
            <a:ext cx="271476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ewton (1643- 1727) fundador da física teórica clás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 que sabemos é uma gota, o que ignoramos um imenso oceano. A admirável disposição e harmonia do universo, não pôde senão sair do plano de um Ser omnisciente e omnipot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marcianitosverdes.haaan.com/wp-content/uploads/2007/09/windowslivewriterlosniossalvajes6-126d4linneo-thumb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865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6000840" y="896760"/>
            <a:ext cx="27144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nneu (1707- 1778) fundador da botânica sistemá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 passar da proximidade do Deus eterno, infinito, omnisciente e omnipotente e prostrei-me como funcho em adoraçã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lessandro-volt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2 CuadroTexto"/>
          <p:cNvSpPr/>
          <p:nvPr/>
        </p:nvSpPr>
        <p:spPr>
          <a:xfrm>
            <a:off x="5715000" y="1017720"/>
            <a:ext cx="3214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Volta (1745- 1827), descobriu as noções básicas da electri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u confesso a fé santa, apostólica, católica e romana. Dou graças a Deus que me concedeu esta fé, na qual tenho o firme propósito de viver e de morrer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Visitar http://electronica.webcindario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5143680" y="2071800"/>
            <a:ext cx="35715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mpere (1775- 1836), descobriu a lei fundamental da corrente eléctric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o Deus é grande, e a nossa ciência uma insignificânci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ortrait of Augustin Louis Cauchy (1789-1857): Mathematician, Physicist, and Astonomer por Smithsonian Institution."/>
          <p:cNvPicPr/>
          <p:nvPr/>
        </p:nvPicPr>
        <p:blipFill>
          <a:blip r:embed="rId1"/>
          <a:stretch/>
        </p:blipFill>
        <p:spPr>
          <a:xfrm>
            <a:off x="0" y="0"/>
            <a:ext cx="4143240" cy="6905520"/>
          </a:xfrm>
          <a:prstGeom prst="rect">
            <a:avLst/>
          </a:prstGeom>
          <a:ln w="0">
            <a:noFill/>
          </a:ln>
        </p:spPr>
      </p:pic>
      <p:sp>
        <p:nvSpPr>
          <p:cNvPr id="58" name="2 CuadroTexto"/>
          <p:cNvSpPr/>
          <p:nvPr/>
        </p:nvSpPr>
        <p:spPr>
          <a:xfrm>
            <a:off x="4429080" y="1751040"/>
            <a:ext cx="37861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uchy (1789- 1857) insígne matemá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u cristão, ou seja, creio na divindade de Cristo, como todos os grandes astrónomos, todos os grandes matemáticos do passado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auss"/>
          <p:cNvPicPr/>
          <p:nvPr/>
        </p:nvPicPr>
        <p:blipFill>
          <a:blip r:embed="rId1"/>
          <a:stretch/>
        </p:blipFill>
        <p:spPr>
          <a:xfrm>
            <a:off x="0" y="0"/>
            <a:ext cx="5349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5572080" y="1204920"/>
            <a:ext cx="3286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auss (1777- 1855), um dos maiores matemáticos e cientistas alemã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ando soar a nossa última hora, será grande e inefável o nosso gozo ao ver quem, em todo o nosso agir, só pudemos vislumbra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3:32:03Z</dcterms:created>
  <dc:creator>Iraima</dc:creator>
  <dc:description/>
  <dc:language>en-US</dc:language>
  <cp:lastModifiedBy>José Manuel</cp:lastModifiedBy>
  <dcterms:modified xsi:type="dcterms:W3CDTF">2012-04-18T16:25:29Z</dcterms:modified>
  <cp:revision>52</cp:revision>
  <dc:subject/>
  <dc:title>Confesiones de fe de grandes científicos</dc:title>
</cp:coreProperties>
</file>