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3.jpeg" ContentType="image/jpeg"/>
  <Override PartName="/ppt/media/Pescador%20de%20hombres%20-%20Enrique%20Chia.wav" ContentType="audio/x-wav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2E39-114C-4EA5-847D-F613C882D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0BDC-9C58-428A-A53B-92CAE3A6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420E-9EAB-4B1E-8047-24701F6BD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2985-01D6-4BCC-97A5-37E568FCF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E2C6-7D4F-45DF-BC4F-EB57B9A4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C9CB-E433-40EA-BEED-DC25F24F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3525-2DF0-4C08-A308-6505E8B5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2533-C5BB-47E5-9FFD-D4306C67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84D1-F297-4BC5-AF3F-42F566A5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8119-95A3-4BF4-BFB9-29E793B1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9D9D-B787-4678-827B-5598F9A9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52EB-0918-45C2-8F26-D34425BB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AB79-CFBD-4CA3-8A4E-FBE43955619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Pescador%20de%20hombres%20-%20Enrique%20Chi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JustusLiebig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intelhome.com.ar/blogger/uploaded_images/edison-746611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1.bp.blogspot.com/_RKXT1B7fxo4/Stqn1ETA4uI/AAAAAAAABmI/xesTRoztmX4/s1600-h/La+ciencia+y+Dios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filatelissimo.com/wp-content/uploads/2007/11/radio_guillermo_marconi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3.bp.blogspot.com/_oZOg6YjBvWk/SuNpQUUYrwI/AAAAAAAADXk/HzmR5YAeZv4/s1600-h/kepler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uam.es/personal_pdi/ciencias/depaz/adi/planck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co.ve/imgres?imgurl=http://www.malaspina.com/jpg/schrodinger.jpg&amp;imgrefurl=http://russellmcneil.blogspot.com/2007/10/erwin-schrodinger-1887-1961.html&amp;usg=__l1agqAPaI40D29UzLakg-h-TFYY=&amp;h=560&amp;w=485&amp;sz=44&amp;hl=es&amp;start=2&amp;um=1&amp;tbnid=wLkwT26SdgjpbM:&amp;tbnh=133&amp;tbnw=115&amp;prev=/images%3Fq%3Dschrodinger%26hl%3Des%26sa%3DN%26um%3D1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arcianitosverdes.haaan.com/wp-content/uploads/2007/09/windowslivewriterlosniossalvajes6-126d4linneo4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tech.dickinson.edu/chemistry/wp-content/uploads/2008/04/alessandro-volta.gif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lectronica.webcindario.com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l Ojo de Dios. Nebua Helix"/>
          <p:cNvPicPr/>
          <p:nvPr/>
        </p:nvPicPr>
        <p:blipFill>
          <a:blip r:embed="rId1"/>
          <a:stretch/>
        </p:blipFill>
        <p:spPr>
          <a:xfrm>
            <a:off x="0" y="0"/>
            <a:ext cx="9144000" cy="7343640"/>
          </a:xfrm>
          <a:prstGeom prst="rect">
            <a:avLst/>
          </a:prstGeom>
          <a:ln w="0">
            <a:noFill/>
          </a:ln>
        </p:spPr>
      </p:pic>
      <p:sp>
        <p:nvSpPr>
          <p:cNvPr id="42" name="3 CuadroTexto"/>
          <p:cNvSpPr/>
          <p:nvPr/>
        </p:nvSpPr>
        <p:spPr>
          <a:xfrm>
            <a:off x="1042920" y="263700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Calibri"/>
              </a:rPr>
              <a:t>Confissão de Fé de grandes cientist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02120" y="6402240"/>
            <a:ext cx="350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ma a barra de espaços para avançar os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wpcontent.answers.com/wikipedia/commons/f/fd/JustusLiebi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786280" cy="5786280"/>
          </a:xfrm>
          <a:prstGeom prst="rect">
            <a:avLst/>
          </a:prstGeom>
          <a:ln w="0">
            <a:noFill/>
          </a:ln>
        </p:spPr>
      </p:pic>
      <p:sp>
        <p:nvSpPr>
          <p:cNvPr id="62" name="2 CuadroTexto"/>
          <p:cNvSpPr/>
          <p:nvPr/>
        </p:nvSpPr>
        <p:spPr>
          <a:xfrm>
            <a:off x="6000840" y="1214280"/>
            <a:ext cx="271440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iebig (1803- 1873), célebre quím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 grandeza e infinita sabedoria do Criador a reconhecerá realmente só o que se esforçar por extrair as suas ideias do grande livro que chamamos a natureza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Julius Robert Mayer"/>
          <p:cNvPicPr/>
          <p:nvPr/>
        </p:nvPicPr>
        <p:blipFill>
          <a:blip r:embed="rId1"/>
          <a:stretch/>
        </p:blipFill>
        <p:spPr>
          <a:xfrm>
            <a:off x="0" y="214200"/>
            <a:ext cx="4897440" cy="6643800"/>
          </a:xfrm>
          <a:prstGeom prst="rect">
            <a:avLst/>
          </a:prstGeom>
          <a:ln w="0">
            <a:noFill/>
          </a:ln>
        </p:spPr>
      </p:pic>
      <p:sp>
        <p:nvSpPr>
          <p:cNvPr id="64" name="2 CuadroTexto"/>
          <p:cNvSpPr/>
          <p:nvPr/>
        </p:nvSpPr>
        <p:spPr>
          <a:xfrm>
            <a:off x="5214960" y="720720"/>
            <a:ext cx="357192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obert Mayer (1814- 1878), cientista naturalista (Lei da Conservação da Energ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cabo a minha vida com uma convicção que brota do mais fundo do meu coração: a verdadeira ciência e a verdadeira filosofia não podem ser outra coisa senão uma propedêutica da religião cristã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http://www.disf.org/images/iconografia_chinnici/secchi.jpg"/>
          <p:cNvPicPr/>
          <p:nvPr/>
        </p:nvPicPr>
        <p:blipFill>
          <a:blip r:embed="rId1"/>
          <a:stretch/>
        </p:blipFill>
        <p:spPr>
          <a:xfrm>
            <a:off x="0" y="0"/>
            <a:ext cx="53560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2 CuadroTexto"/>
          <p:cNvSpPr/>
          <p:nvPr/>
        </p:nvSpPr>
        <p:spPr>
          <a:xfrm>
            <a:off x="5786280" y="2571840"/>
            <a:ext cx="26434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cchi (1803- 1895), célebre astróno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o contemplar o céu a Deus há um trecho curto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www.biografiasyvidas.com/monografia/darwin/fotos/darwin_charles.jpg"/>
          <p:cNvPicPr/>
          <p:nvPr/>
        </p:nvPicPr>
        <p:blipFill>
          <a:blip r:embed="rId1"/>
          <a:stretch/>
        </p:blipFill>
        <p:spPr>
          <a:xfrm>
            <a:off x="0" y="0"/>
            <a:ext cx="6110280" cy="5786280"/>
          </a:xfrm>
          <a:prstGeom prst="rect">
            <a:avLst/>
          </a:prstGeom>
          <a:ln w="0">
            <a:noFill/>
          </a:ln>
        </p:spPr>
      </p:pic>
      <p:sp>
        <p:nvSpPr>
          <p:cNvPr id="68" name="2 CuadroTexto"/>
          <p:cNvSpPr/>
          <p:nvPr/>
        </p:nvSpPr>
        <p:spPr>
          <a:xfrm>
            <a:off x="6143760" y="90360"/>
            <a:ext cx="2714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Darwin (1809- 1882), Teoria da evolu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Jamais neguei a existência de Deus. Penso que a teoria da evolução é totalmente compatível com a fé em Deus. O argumento máximo da existência de Deus parece-me a impossibilidade de demonstrar e compreender que o universo imenso, sublime sobre toda medida, e o homem tenham sido frutos do acas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www.intelhome.com.ar/blogger/uploaded_images/edison-74660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2102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2 CuadroTexto"/>
          <p:cNvSpPr/>
          <p:nvPr/>
        </p:nvSpPr>
        <p:spPr>
          <a:xfrm>
            <a:off x="5286240" y="1357200"/>
            <a:ext cx="357192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dison (1847- 1931) , o inventor mais fecundo, 1200 pat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 meu máximo respeito e a minha máxima admiração a todos os engenheiros, especialmente ao maior de todos eles: Deu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1.bp.blogspot.com/_RKXT1B7fxo4/Stqn1ETA4uI/AAAAAAAABmI/xesTRoztmX4/s320/La+ciencia+y+Dio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72" name="2 CuadroTexto"/>
          <p:cNvSpPr/>
          <p:nvPr/>
        </p:nvSpPr>
        <p:spPr>
          <a:xfrm>
            <a:off x="5857920" y="735120"/>
            <a:ext cx="300024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chleich (1859- 1922), célebre ciruja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rnei-me crente à minha maneira pelo microscópio e pela observação da natureza, e quero, tanto quanto está ao meu alcance, contribuir para a plena concórdia entre a ciência e a religião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Guillermo Marcon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916520" cy="5143680"/>
          </a:xfrm>
          <a:prstGeom prst="rect">
            <a:avLst/>
          </a:prstGeom>
          <a:ln w="0">
            <a:noFill/>
          </a:ln>
        </p:spPr>
      </p:pic>
      <p:sp>
        <p:nvSpPr>
          <p:cNvPr id="74" name="2 CuadroTexto"/>
          <p:cNvSpPr/>
          <p:nvPr/>
        </p:nvSpPr>
        <p:spPr>
          <a:xfrm>
            <a:off x="5214960" y="534960"/>
            <a:ext cx="335772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arconi (1874- 1937), inventor da telegrafia sem fios, Prémio Nobel 1909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claro-o com orgulho: sou crente. Creio no poder da oração, e creio, não só como católico, mas também como cientista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061128.millikan.jpg"/>
          <p:cNvPicPr/>
          <p:nvPr/>
        </p:nvPicPr>
        <p:blipFill>
          <a:blip r:embed="rId1"/>
          <a:stretch/>
        </p:blipFill>
        <p:spPr>
          <a:xfrm>
            <a:off x="155520" y="57240"/>
            <a:ext cx="4645080" cy="6800760"/>
          </a:xfrm>
          <a:prstGeom prst="rect">
            <a:avLst/>
          </a:prstGeom>
          <a:ln w="0">
            <a:noFill/>
          </a:ln>
        </p:spPr>
      </p:pic>
      <p:sp>
        <p:nvSpPr>
          <p:cNvPr id="76" name="2 CuadroTexto"/>
          <p:cNvSpPr/>
          <p:nvPr/>
        </p:nvSpPr>
        <p:spPr>
          <a:xfrm>
            <a:off x="5143680" y="1266840"/>
            <a:ext cx="36432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illikan (1868- 1953), grande físico americano, Premio Nobel 192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sso pela minha parte asseverar com toda a decisão que a negação da fé carece de toda a base científica. A meu juizo jamás se encontrará uma verdadeira contradição entre a fé e a ciência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Sir Arthur Stanley Eddington, 1932.&#13;[Credits : Encyclopædia Britannica, Inc.]"/>
          <p:cNvPicPr/>
          <p:nvPr/>
        </p:nvPicPr>
        <p:blipFill>
          <a:blip r:embed="rId1"/>
          <a:stretch/>
        </p:blipFill>
        <p:spPr>
          <a:xfrm>
            <a:off x="0" y="785880"/>
            <a:ext cx="5238720" cy="4267080"/>
          </a:xfrm>
          <a:prstGeom prst="rect">
            <a:avLst/>
          </a:prstGeom>
          <a:ln w="0">
            <a:noFill/>
          </a:ln>
        </p:spPr>
      </p:pic>
      <p:sp>
        <p:nvSpPr>
          <p:cNvPr id="78" name="3 CuadroTexto"/>
          <p:cNvSpPr/>
          <p:nvPr/>
        </p:nvSpPr>
        <p:spPr>
          <a:xfrm>
            <a:off x="5429160" y="785880"/>
            <a:ext cx="321480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ddingtong (1882- 1946) Célebre astrónomo inglê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enhum dos inventores do ateísmo foi naturalista. Todos eles foram filósofos muito medíocre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www.egge.net/~savory/einstein55.jpg"/>
          <p:cNvPicPr/>
          <p:nvPr/>
        </p:nvPicPr>
        <p:blipFill>
          <a:blip r:embed="rId1"/>
          <a:stretch/>
        </p:blipFill>
        <p:spPr>
          <a:xfrm>
            <a:off x="0" y="0"/>
            <a:ext cx="534348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2 CuadroTexto"/>
          <p:cNvSpPr/>
          <p:nvPr/>
        </p:nvSpPr>
        <p:spPr>
          <a:xfrm>
            <a:off x="5500800" y="214200"/>
            <a:ext cx="3357360" cy="59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lbert Einstein (1879- 1955), fundador da física contemporânea  (teoria da relatividade e Prémio Nobel 192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do aquele que está seriamente comprometido com o cultivo da ciência, chega a convencer-se de que em todas as  leis do universo está manifiesto um espírito infinitamente superior ao homem, e diante do qual, nós com os nossos poderes devemos sentir-nos humilde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3.bp.blogspot.com/_oZOg6YjBvWk/SuNpQUUYrwI/AAAAAAAADXk/HzmR5YAeZv4/s400/kepl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0068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4 CuadroTexto"/>
          <p:cNvSpPr/>
          <p:nvPr/>
        </p:nvSpPr>
        <p:spPr>
          <a:xfrm>
            <a:off x="5143680" y="785880"/>
            <a:ext cx="3500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Black"/>
              </a:rPr>
              <a:t>Johannes Kepler 1571-1630, um dos maiores astrónom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us é grande, grande é o seu poder, infinita a sua sabedoria. Louvem-n’O, céus e terra, sol, lua e estrelas com a sua própria linguagem. Meu Senhor e meu Criador!                     A magnificência das tuas obras quereria eu anunciá-la aos homens na medida em que a minha limitada inteligência pode compreendê-la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patron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69840" y="0"/>
            <a:ext cx="4784760" cy="6408720"/>
          </a:xfrm>
          <a:prstGeom prst="rect">
            <a:avLst/>
          </a:prstGeom>
          <a:ln w="0">
            <a:noFill/>
          </a:ln>
        </p:spPr>
      </p:pic>
      <p:sp>
        <p:nvSpPr>
          <p:cNvPr id="82" name="2 CuadroTexto"/>
          <p:cNvSpPr/>
          <p:nvPr/>
        </p:nvSpPr>
        <p:spPr>
          <a:xfrm>
            <a:off x="4929120" y="428760"/>
            <a:ext cx="385776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lank (1858- 1947), fundador da física quântica, Prémio Nobel 191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ada pois no-lo impede, e o impulso do nosso conhecimento o exige… relacionar mutuamente a ordem do universo e o Deus da religião. Deus está, para o crente, no princípio dos seus discursos, para o físico, no termo dos mesmo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t0.gstatic.com/images?q=tbn:wLkwT26SdgjpbM:http://www.malaspina.com/jpg/schroding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570560" cy="5286240"/>
          </a:xfrm>
          <a:prstGeom prst="rect">
            <a:avLst/>
          </a:prstGeom>
          <a:ln w="0">
            <a:noFill/>
          </a:ln>
        </p:spPr>
      </p:pic>
      <p:sp>
        <p:nvSpPr>
          <p:cNvPr id="84" name="2 CuadroTexto"/>
          <p:cNvSpPr/>
          <p:nvPr/>
        </p:nvSpPr>
        <p:spPr>
          <a:xfrm>
            <a:off x="4786200" y="1928880"/>
            <a:ext cx="392904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chrödinger (1887- 1961), criador da mecânica ondulatória, Prémio Nobel 193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 obra mestra mais fina é a feita por Deus, segundo os princípios da mecânica quântica…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www.todayinsci.com/A/Aiken_Howard/AikenHowardThm.jpg"/>
          <p:cNvPicPr/>
          <p:nvPr/>
        </p:nvPicPr>
        <p:blipFill>
          <a:blip r:embed="rId1"/>
          <a:stretch/>
        </p:blipFill>
        <p:spPr>
          <a:xfrm>
            <a:off x="0" y="0"/>
            <a:ext cx="4971960" cy="6215040"/>
          </a:xfrm>
          <a:prstGeom prst="rect">
            <a:avLst/>
          </a:prstGeom>
          <a:ln w="0">
            <a:noFill/>
          </a:ln>
        </p:spPr>
      </p:pic>
      <p:sp>
        <p:nvSpPr>
          <p:cNvPr id="86" name="2 CuadroTexto"/>
          <p:cNvSpPr/>
          <p:nvPr/>
        </p:nvSpPr>
        <p:spPr>
          <a:xfrm>
            <a:off x="5286240" y="428760"/>
            <a:ext cx="285768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Hathaway, pai do cérebro electrón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 moderna física ensina-me que a natureza não é capaz de ordenar-se a si mesma. O universo supõe uma enorme massa de ordem. Por isso, requer uma grande «Causa Primeira», que não está submetida à segunda lei da transformação da energia e que, por isso mesmo, é Sobrenatural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t0.gstatic.com/images?q=tbn:ppI8yhv7wdhBaM:http://www.moosburg.org/info/stalag/bilder/braun1.jpg"/>
          <p:cNvPicPr/>
          <p:nvPr/>
        </p:nvPicPr>
        <p:blipFill>
          <a:blip r:embed="rId1"/>
          <a:stretch/>
        </p:blipFill>
        <p:spPr>
          <a:xfrm>
            <a:off x="0" y="0"/>
            <a:ext cx="4653000" cy="5715000"/>
          </a:xfrm>
          <a:prstGeom prst="rect">
            <a:avLst/>
          </a:prstGeom>
          <a:ln w="0">
            <a:noFill/>
          </a:ln>
        </p:spPr>
      </p:pic>
      <p:sp>
        <p:nvSpPr>
          <p:cNvPr id="88" name="3 CuadroTexto"/>
          <p:cNvSpPr/>
          <p:nvPr/>
        </p:nvSpPr>
        <p:spPr>
          <a:xfrm>
            <a:off x="5000760" y="754200"/>
            <a:ext cx="3429000" cy="36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Wernher Von Braun (1912- 1977), construtor alemão- americano dos foguetes espacia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cima de tudo está a glória de Deus, que criou o grande universo, que o homem e a ciência vão esquadrinhando e investigando dia após dia em profunda adoração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www.physics.usyd.edu.au/~gekko/pictures/misc/Charles_Townes2.JPG"/>
          <p:cNvPicPr/>
          <p:nvPr/>
        </p:nvPicPr>
        <p:blipFill>
          <a:blip r:embed="rId1"/>
          <a:stretch/>
        </p:blipFill>
        <p:spPr>
          <a:xfrm>
            <a:off x="0" y="1071720"/>
            <a:ext cx="4637160" cy="4214520"/>
          </a:xfrm>
          <a:prstGeom prst="rect">
            <a:avLst/>
          </a:prstGeom>
          <a:ln w="0">
            <a:noFill/>
          </a:ln>
        </p:spPr>
      </p:pic>
      <p:sp>
        <p:nvSpPr>
          <p:cNvPr id="90" name="3 CuadroTexto"/>
          <p:cNvSpPr/>
          <p:nvPr/>
        </p:nvSpPr>
        <p:spPr>
          <a:xfrm>
            <a:off x="5143680" y="1357200"/>
            <a:ext cx="36432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harles Townes (Partilhou o Prémio Nobel da Física 1964 por descobrir os princípios do laser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mo religioso, sinto a presença e intervenção de um ser Criador que vai mais além de mim mesmo, mas que sempre está próximo… a inteligência teve algo a ver com a criação das leis do universo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www.tayabeixo.org/biografias/images/Sandage.jpg"/>
          <p:cNvPicPr/>
          <p:nvPr/>
        </p:nvPicPr>
        <p:blipFill>
          <a:blip r:embed="rId1"/>
          <a:stretch/>
        </p:blipFill>
        <p:spPr>
          <a:xfrm>
            <a:off x="0" y="571680"/>
            <a:ext cx="4664160" cy="5286240"/>
          </a:xfrm>
          <a:prstGeom prst="rect">
            <a:avLst/>
          </a:prstGeom>
          <a:ln w="0">
            <a:noFill/>
          </a:ln>
        </p:spPr>
      </p:pic>
      <p:sp>
        <p:nvSpPr>
          <p:cNvPr id="92" name="2 CuadroTexto"/>
          <p:cNvSpPr/>
          <p:nvPr/>
        </p:nvSpPr>
        <p:spPr>
          <a:xfrm>
            <a:off x="4714920" y="500040"/>
            <a:ext cx="3929040" cy="53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llan Sandage (1926-) Astrónomo profissional, calculou a velocidade com que se espande o universo e a idade do mesmo pela observação de estrelas dista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ra quase um ateu praticamente na juventude. A ciência foi que me levou à conclusão de que o mundo é muito mais complexo do que podemos explicar. O mistério da existência só o posso explicar mediante o Sobrenatural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t2.gstatic.com/images?q=tbn:tG6G6c3X5REbQM:http://dmi.exa.unrc.edu.ar/Imagenes/Pasteur.jpg"/>
          <p:cNvPicPr/>
          <p:nvPr/>
        </p:nvPicPr>
        <p:blipFill>
          <a:blip r:embed="rId1"/>
          <a:stretch/>
        </p:blipFill>
        <p:spPr>
          <a:xfrm>
            <a:off x="0" y="1000080"/>
            <a:ext cx="3738600" cy="4143600"/>
          </a:xfrm>
          <a:prstGeom prst="rect">
            <a:avLst/>
          </a:prstGeom>
          <a:ln w="0">
            <a:noFill/>
          </a:ln>
        </p:spPr>
      </p:pic>
      <p:sp>
        <p:nvSpPr>
          <p:cNvPr id="94" name="2 CuadroTexto"/>
          <p:cNvSpPr/>
          <p:nvPr/>
        </p:nvSpPr>
        <p:spPr>
          <a:xfrm>
            <a:off x="3924360" y="0"/>
            <a:ext cx="4862520" cy="62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Um cartão de visita e uma surpre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m jovem universitário viajava no mesmo banco de transporte com um venerável ancião que ia rezando o seu rosário. O jovem atreveu-se a dizer-lhe: “Porque é que em vez de rezar o rosário não se dedica a aprender e a instruir-se um pouco mais? Eu posso enviar-lhe algum livro para que se instrua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 ancião respondeu-lhe: “Agradecia-lhe que me enviasse o livro para esta direcção”; e entregou-lhe o seu cartão. Nele dizia: Luis Pasteur, Instituto de Ciências de Paris. O universitário ficou envergonhado. Tinha pretendido dar conselhos ao mais famoso sábio do seu tempo, o inventor das vacinas, estimado em todo o mundo e devoto do rosário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2 CuadroTexto"/>
          <p:cNvSpPr/>
          <p:nvPr/>
        </p:nvSpPr>
        <p:spPr>
          <a:xfrm>
            <a:off x="1547640" y="4221000"/>
            <a:ext cx="57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compilação: Padre Chulalo (15/02/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20960" y="5681520"/>
            <a:ext cx="34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úsica: Pescador de Homens – Enrique Ch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Tw Cen MT Condensed Extra Bold"/>
              </a:rPr>
              <a:t>QUE DEUS TE ABENÇO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Nicolas Copernico"/>
          <p:cNvPicPr/>
          <p:nvPr/>
        </p:nvPicPr>
        <p:blipFill>
          <a:blip r:embed="rId1"/>
          <a:stretch/>
        </p:blipFill>
        <p:spPr>
          <a:xfrm>
            <a:off x="0" y="0"/>
            <a:ext cx="6321600" cy="6357960"/>
          </a:xfrm>
          <a:prstGeom prst="rect">
            <a:avLst/>
          </a:prstGeom>
          <a:ln w="0">
            <a:noFill/>
          </a:ln>
        </p:spPr>
      </p:pic>
      <p:sp>
        <p:nvSpPr>
          <p:cNvPr id="48" name="4 CuadroTexto"/>
          <p:cNvSpPr/>
          <p:nvPr/>
        </p:nvSpPr>
        <p:spPr>
          <a:xfrm>
            <a:off x="6357960" y="785880"/>
            <a:ext cx="2786040" cy="52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opérnico (1473- 1543), fundador da mundovisão moder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Quem viva em íntimo contacto con a ordem mais consumada e a sabedoria divina, como não se sentirá estimulado às aspirações mais sublimes? Quem não adorará o Arquitecto de todas estas coisas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Newton"/>
          <p:cNvPicPr/>
          <p:nvPr/>
        </p:nvPicPr>
        <p:blipFill>
          <a:blip r:embed="rId1"/>
          <a:stretch/>
        </p:blipFill>
        <p:spPr>
          <a:xfrm>
            <a:off x="0" y="0"/>
            <a:ext cx="55069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2 CuadroTexto"/>
          <p:cNvSpPr/>
          <p:nvPr/>
        </p:nvSpPr>
        <p:spPr>
          <a:xfrm>
            <a:off x="5929200" y="357120"/>
            <a:ext cx="271476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Newton (1643- 1727) fundador da física teórica cláss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 que sabemos é uma gota, o que ignoramos um imenso oceano. A admirável disposição e harmonia do universo, não pôde senão sair do plano de um Ser omnisciente e omnipotent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marcianitosverdes.haaan.com/wp-content/uploads/2007/09/windowslivewriterlosniossalvajes6-126d4linneo-thumb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6865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2 CuadroTexto"/>
          <p:cNvSpPr/>
          <p:nvPr/>
        </p:nvSpPr>
        <p:spPr>
          <a:xfrm>
            <a:off x="6000840" y="896760"/>
            <a:ext cx="27144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inneu (1707- 1778) fundador da botânica sistemát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Vi passar da proximidade do Deus eterno, infinito, omnisciente e omnipotente e prostrei-me como funcho em adoração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alessandro-volta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6088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2 CuadroTexto"/>
          <p:cNvSpPr/>
          <p:nvPr/>
        </p:nvSpPr>
        <p:spPr>
          <a:xfrm>
            <a:off x="5715000" y="1017720"/>
            <a:ext cx="32148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Volta (1745- 1827), descobriu as noções básicas da electricida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u confesso a fé santa, apostólica, católica e romana. Dou graças a Deus que me concedeu esta fé, na qual tenho o firme propósito de viver e de morrer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Visitar http://electronica.webcindario.c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7355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2 CuadroTexto"/>
          <p:cNvSpPr/>
          <p:nvPr/>
        </p:nvSpPr>
        <p:spPr>
          <a:xfrm>
            <a:off x="5143680" y="2071800"/>
            <a:ext cx="357156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mpere (1775- 1836), descobriu a lei fundamental da corrente eléctrica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mo Deus é grande, e a nossa ciência uma insignificância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ortrait of Augustin Louis Cauchy (1789-1857): Mathematician, Physicist, and Astonomer por Smithsonian Institution."/>
          <p:cNvPicPr/>
          <p:nvPr/>
        </p:nvPicPr>
        <p:blipFill>
          <a:blip r:embed="rId1"/>
          <a:stretch/>
        </p:blipFill>
        <p:spPr>
          <a:xfrm>
            <a:off x="0" y="0"/>
            <a:ext cx="4143240" cy="6905520"/>
          </a:xfrm>
          <a:prstGeom prst="rect">
            <a:avLst/>
          </a:prstGeom>
          <a:ln w="0">
            <a:noFill/>
          </a:ln>
        </p:spPr>
      </p:pic>
      <p:sp>
        <p:nvSpPr>
          <p:cNvPr id="58" name="2 CuadroTexto"/>
          <p:cNvSpPr/>
          <p:nvPr/>
        </p:nvSpPr>
        <p:spPr>
          <a:xfrm>
            <a:off x="4429080" y="1751040"/>
            <a:ext cx="378612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auchy (1789- 1857) insígne matemátic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ou cristão, ou seja, creio na divindade de Cristo, como todos os grandes astrónomos, todos os grandes matemáticos do passado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Gauss"/>
          <p:cNvPicPr/>
          <p:nvPr/>
        </p:nvPicPr>
        <p:blipFill>
          <a:blip r:embed="rId1"/>
          <a:stretch/>
        </p:blipFill>
        <p:spPr>
          <a:xfrm>
            <a:off x="0" y="0"/>
            <a:ext cx="53499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2 CuadroTexto"/>
          <p:cNvSpPr/>
          <p:nvPr/>
        </p:nvSpPr>
        <p:spPr>
          <a:xfrm>
            <a:off x="5572080" y="1204920"/>
            <a:ext cx="328608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auss (1777- 1855), um dos maiores matemáticos e cientistas alemã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Quando soar a nossa última hora, será grande e inefável o nosso gozo ao ver quem, em todo o nosso agir, só pudemos vislumbrar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23:32:03Z</dcterms:created>
  <dc:creator>Iraima</dc:creator>
  <dc:description/>
  <dc:language>en-US</dc:language>
  <cp:lastModifiedBy>José Manuel</cp:lastModifiedBy>
  <dcterms:modified xsi:type="dcterms:W3CDTF">2012-04-18T16:25:29Z</dcterms:modified>
  <cp:revision>52</cp:revision>
  <dc:subject/>
  <dc:title>Confesiones de fe de grandes científicos</dc:title>
</cp:coreProperties>
</file>