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eline%20Dion%20-%20All%20The%20Way%20(Duet%20With%20Frank%20Sinatra)%201.54%20cut.wav" ContentType="audio/x-wav"/>
  <Override PartName="/ppt/media/image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AA57-A2C4-4D72-B935-40389C608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2965-72C5-4A57-A597-8D78829C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8D39-65DE-4309-ABB4-C26C35C59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4FBA-1E8F-4C4D-A0A1-0926AB366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2254-8D0E-44D9-B15C-5B536F36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3D32-734D-4495-8BAF-BEA20DEA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4A20-D8C9-4E9A-9A03-388999A2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F67A-DEFD-46F5-89CF-559CF80C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6322-97B9-45F0-99EA-7FE444B6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A695-68C9-40D9-B19E-08970C38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4F6D-9AA4-41F9-A560-4B5F6D27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068D-7BF4-4017-87AE-AF1B7F43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402E-DB30-4D7C-BA0C-F4072BEB0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eline%20Dion%20-%20All%20The%20Way%20(Duet%20With%20Frank%20Sinatra)%201.54%20cut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mailto:bethnorling@globo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00125780-001" descr=""/>
          <p:cNvPicPr/>
          <p:nvPr/>
        </p:nvPicPr>
        <p:blipFill>
          <a:blip r:embed="rId1"/>
          <a:srcRect l="0" t="0" r="0" b="1442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14400" y="2209680"/>
            <a:ext cx="7238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ffcc99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TIRE A PRIMEIRA PEDRA</a:t>
            </a:r>
            <a:endParaRPr b="0" lang="en-US" sz="4800" spc="1" strike="noStrike">
              <a:ln w="9360">
                <a:solidFill>
                  <a:srgbClr val="339966"/>
                </a:solidFill>
                <a:miter/>
              </a:ln>
              <a:solidFill>
                <a:srgbClr val="ffcc99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090960" y="4800600"/>
            <a:ext cx="2962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ffcc99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etícia Thompson</a:t>
            </a:r>
            <a:endParaRPr b="0" lang="en-US" sz="2400" spc="1" strike="noStrike">
              <a:ln w="9360">
                <a:solidFill>
                  <a:srgbClr val="339966"/>
                </a:solidFill>
                <a:miter/>
              </a:ln>
              <a:solidFill>
                <a:srgbClr val="ffcc99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Bar dir="vert"/>
    <p:sndAc>
      <p:stSnd>
        <p:snd r:embed="rId2" name="Celine%20Dion%20-%20All%20The%20Way%20(Duet%20With%20Frank%20Sinatra)%201.54%20cut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-90720" y="2627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10136973" descr=""/>
          <p:cNvPicPr/>
          <p:nvPr/>
        </p:nvPicPr>
        <p:blipFill>
          <a:blip r:embed="rId1"/>
          <a:srcRect l="0" t="0" r="0" b="1698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17680" y="3943440"/>
            <a:ext cx="8169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Quem nunca teve medo de morrer quan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estava doente e que se esqueceu quando ficou bom o quanto a vida é valio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-90720" y="2627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10119471" descr=""/>
          <p:cNvPicPr/>
          <p:nvPr/>
        </p:nvPicPr>
        <p:blipFill>
          <a:blip r:embed="rId1"/>
          <a:srcRect l="2835" t="0" r="2835" b="155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41360" y="895320"/>
            <a:ext cx="8169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Agor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Atire a primeira pedra quem nunca 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sentiu feliz, quem nunca riu, quem nunca brincou, quem nunca cantou, quem nunca teve coração acelerado e se emocion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7680" y="4019400"/>
            <a:ext cx="809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Tenho certeza que pedras caem uma a uma  e a minha é a primeira dela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5257800"/>
            <a:ext cx="3429000" cy="9756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cc00"/>
                </a:solidFill>
                <a:latin typeface="Tahoma"/>
              </a:rPr>
              <a:t>Formatação:  Beth Nor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cc00"/>
                </a:solidFill>
                <a:latin typeface="Tahoma"/>
              </a:rPr>
              <a:t>E-mail: 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bethnorling@globo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cc00"/>
                </a:solidFill>
                <a:latin typeface="Tahoma"/>
              </a:rPr>
              <a:t>Imagens: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cc00"/>
                </a:solidFill>
                <a:latin typeface="Tahoma"/>
              </a:rPr>
              <a:t>Música: Celine Dion – All the 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90720" y="2627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10038079" descr=""/>
          <p:cNvPicPr/>
          <p:nvPr/>
        </p:nvPicPr>
        <p:blipFill>
          <a:blip r:embed="rId1"/>
          <a:srcRect l="0" t="0" r="0" b="889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41360" y="4267080"/>
            <a:ext cx="801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Atire a primeira pedra quem nunca chorou de tristeza ou de sauda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90720" y="2627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10089939" descr=""/>
          <p:cNvPicPr/>
          <p:nvPr/>
        </p:nvPicPr>
        <p:blipFill>
          <a:blip r:embed="rId1"/>
          <a:srcRect l="0" t="0" r="0" b="983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41360" y="666720"/>
            <a:ext cx="8397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Atire a primeira pedra quem nunca se sentiu perdido, quem nunca duvidou, quem nunca se entregou ao cansaço e ao desânim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90720" y="2627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10149250" descr=""/>
          <p:cNvPicPr/>
          <p:nvPr/>
        </p:nvPicPr>
        <p:blipFill>
          <a:blip r:embed="rId1"/>
          <a:srcRect l="0" t="0" r="0" b="91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65040" y="3354480"/>
            <a:ext cx="5502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Atire a primeira ped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quem nunca amou n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que fosse um bocadinh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e que não se decepcionou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-90720" y="2627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10101393" descr=""/>
          <p:cNvPicPr/>
          <p:nvPr/>
        </p:nvPicPr>
        <p:blipFill>
          <a:blip r:embed="rId1"/>
          <a:srcRect l="0" t="0" r="0" b="866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17680" y="3887640"/>
            <a:ext cx="8169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Quem nunca tentou segurar uma lágrima    que teimou em descer, quem nunca sentiu vergonha, quem nunca sentiu piedade de si e, fechado num quarto, queria que o mundo parasse de girar.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-90720" y="2627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10106790" descr=""/>
          <p:cNvPicPr/>
          <p:nvPr/>
        </p:nvPicPr>
        <p:blipFill>
          <a:blip r:embed="rId1"/>
          <a:srcRect l="0" t="2362" r="3543" b="866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41360" y="3486240"/>
            <a:ext cx="8397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Atire a primeira pedra quem nunca desejou esquecer algo que sabe  perfeitamente que o coração não vai se esquec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-90720" y="2627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10154752" descr=""/>
          <p:cNvPicPr/>
          <p:nvPr/>
        </p:nvPicPr>
        <p:blipFill>
          <a:blip r:embed="rId1"/>
          <a:srcRect l="0" t="0" r="0" b="170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41360" y="819000"/>
            <a:ext cx="8169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Quem nunca se sentiu magoado, qu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nunca teve os olhos brilhando, quem nunca  sonhou com uma vida perfeita e quem nunca errou; quem nunca começou algo que não terminou, quem nunca se arrepende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90720" y="2627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10097981" descr=""/>
          <p:cNvPicPr/>
          <p:nvPr/>
        </p:nvPicPr>
        <p:blipFill>
          <a:blip r:embed="rId1"/>
          <a:srcRect l="0" t="0" r="0" b="866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5040" y="3790800"/>
            <a:ext cx="8474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Atire a primeira pedra quem nunca 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sentiu diferente, se sentiu bonito e se sentiu  feio, orgulhoso ou arrasado. Quem nunca se amou e quem nunca se detest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-90720" y="2627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10078271" descr=""/>
          <p:cNvPicPr/>
          <p:nvPr/>
        </p:nvPicPr>
        <p:blipFill>
          <a:blip r:embed="rId1"/>
          <a:srcRect l="0" t="0" r="0" b="1569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41360" y="3581280"/>
            <a:ext cx="4979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Atire a primeira ped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quem nunca se senti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carente, quem nun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pensou na mãe e qu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nunca desejou ter col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mesmo depois de grand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eth Norling</dc:creator>
  <dc:description/>
  <dc:language>en-US</dc:language>
  <cp:lastModifiedBy>Usuário</cp:lastModifiedBy>
  <dcterms:modified xsi:type="dcterms:W3CDTF">2006-10-24T18:19:49Z</dcterms:modified>
  <cp:revision>13</cp:revision>
  <dc:subject/>
  <dc:title>Atire a Primeira Pedra</dc:title>
</cp:coreProperties>
</file>