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eline%20Dion%20-%20All%20The%20Way%20(Duet%20With%20Frank%20Sinatra)%201.54%20cut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EA0-C875-4887-A610-3CB859B5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18A-E8CD-4A65-A246-570C9F9C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7F4-1456-47D4-82CF-B3B6D3BE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F95-7BB8-4726-81DC-CEE69064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1E1-D645-4B4C-91FC-7A3074A3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AF3-62F2-45F4-A7FC-E304D6F0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C50-E96F-444A-806C-47843B56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9A7-A019-4E76-AFB5-45E89D7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F84-A97A-49B8-9A42-398047A2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5E7-2FA9-4BF4-A21B-9D3FFC5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848-CF66-42C3-961A-16DF3C5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2F5-E473-4B26-B18B-C35D9139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CB2-DEFC-49A3-8531-48ADCA75A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ine%20Dion%20-%20All%20The%20Way%20(Duet%20With%20Frank%20Sinatra)%201.54%20cu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125780-001" descr=""/>
          <p:cNvPicPr/>
          <p:nvPr/>
        </p:nvPicPr>
        <p:blipFill>
          <a:blip r:embed="rId1"/>
          <a:srcRect l="0" t="0" r="0" b="144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2209680"/>
            <a:ext cx="7238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IRE A PRIMEIRA PEDRA</a:t>
            </a:r>
            <a:endParaRPr b="0" lang="en-US" sz="4800" spc="1" strike="noStrike">
              <a:ln w="9360">
                <a:solidFill>
                  <a:srgbClr val="339966"/>
                </a:solidFill>
                <a:miter/>
              </a:ln>
              <a:solidFill>
                <a:srgbClr val="ffcc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90960" y="4800600"/>
            <a:ext cx="2962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ffcc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2" name="Celine%20Dion%20-%20All%20The%20Way%20(Duet%20With%20Frank%20Sinatra)%201.54%20cu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0136973" descr=""/>
          <p:cNvPicPr/>
          <p:nvPr/>
        </p:nvPicPr>
        <p:blipFill>
          <a:blip r:embed="rId1"/>
          <a:srcRect l="0" t="0" r="0" b="169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680" y="39434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teve medo de morrer qu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stava doente e que se esqueceu quando ficou bom o quanto a vida é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0119471" descr=""/>
          <p:cNvPicPr/>
          <p:nvPr/>
        </p:nvPicPr>
        <p:blipFill>
          <a:blip r:embed="rId1"/>
          <a:srcRect l="2835" t="0" r="2835" b="155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1360" y="895320"/>
            <a:ext cx="816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go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entiu feliz, quem nunca riu, quem nunca brincou, quem nunca cantou, quem nunca teve coração acelerado e se emocion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40194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enho certeza que pedras caem uma a uma  e a minha é a primeira del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257800"/>
            <a:ext cx="3429000" cy="975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Formatação: 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Tahoma"/>
              </a:rPr>
              <a:t>Música: Celine Dion – All the 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0038079" descr=""/>
          <p:cNvPicPr/>
          <p:nvPr/>
        </p:nvPicPr>
        <p:blipFill>
          <a:blip r:embed="rId1"/>
          <a:srcRect l="0" t="0" r="0" b="8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1360" y="4267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chorou de tristeza ou de sau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0089939" descr=""/>
          <p:cNvPicPr/>
          <p:nvPr/>
        </p:nvPicPr>
        <p:blipFill>
          <a:blip r:embed="rId1"/>
          <a:srcRect l="0" t="0" r="0" b="98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360" y="66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sentiu perdido, quem nunca duvidou, quem nunca se entregou ao cansaço e ao desâni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0149250" descr=""/>
          <p:cNvPicPr/>
          <p:nvPr/>
        </p:nvPicPr>
        <p:blipFill>
          <a:blip r:embed="rId1"/>
          <a:srcRect l="0" t="0" r="0" b="9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040" y="3354480"/>
            <a:ext cx="550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amou n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 fosse um bocadinh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 que não se decepcionou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0101393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7680" y="3887640"/>
            <a:ext cx="816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tentou segurar uma lágrima    que teimou em descer, quem nunca sentiu vergonha, quem nunca sentiu piedade de si e, fechado num quarto, queria que o mundo parasse de gira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0106790" descr=""/>
          <p:cNvPicPr/>
          <p:nvPr/>
        </p:nvPicPr>
        <p:blipFill>
          <a:blip r:embed="rId1"/>
          <a:srcRect l="0" t="2362" r="3543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360" y="348624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desejou esquecer algo que sabe  perfeitamente que o coração não vai se esqu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0154752" descr=""/>
          <p:cNvPicPr/>
          <p:nvPr/>
        </p:nvPicPr>
        <p:blipFill>
          <a:blip r:embed="rId1"/>
          <a:srcRect l="0" t="0" r="0" b="17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360" y="819000"/>
            <a:ext cx="816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se sentiu magoado, qu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unca teve os olhos brilhando, quem nunca  sonhou com uma vida perfeita e quem nunca errou; quem nunca começou algo que não terminou, quem nunca se arrepend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0097981" descr=""/>
          <p:cNvPicPr/>
          <p:nvPr/>
        </p:nvPicPr>
        <p:blipFill>
          <a:blip r:embed="rId1"/>
          <a:srcRect l="0" t="0" r="0" b="86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040" y="379080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quem nunc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entiu diferente, se sentiu bonito e se sentiu  feio, orgulhoso ou arrasado. Quem nunca se amou e quem nunca se detest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9072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0078271" descr=""/>
          <p:cNvPicPr/>
          <p:nvPr/>
        </p:nvPicPr>
        <p:blipFill>
          <a:blip r:embed="rId1"/>
          <a:srcRect l="0" t="0" r="0" b="156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41360" y="3581280"/>
            <a:ext cx="497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tire a primeira p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quem nunca se senti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rente, quem nun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ensou na mãe e qu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unca desejou ter col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esmo depois de gran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Norling</dc:creator>
  <dc:description/>
  <dc:language>en-US</dc:language>
  <cp:lastModifiedBy>Usuário</cp:lastModifiedBy>
  <dcterms:modified xsi:type="dcterms:W3CDTF">2006-10-24T18:19:49Z</dcterms:modified>
  <cp:revision>13</cp:revision>
  <dc:subject/>
  <dc:title>Atire a Primeira Pedra</dc:title>
</cp:coreProperties>
</file>