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ve%20Maria%20(violin)%20Schubert%5Bred%5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58A-2075-4902-A4C2-418871C0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7B9C-0126-4599-A172-1FDA93E9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5D0-D279-4488-AFDD-683681FF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2C4F-1C8B-4625-B4B2-6C61DA36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5CE-4F24-4526-95B4-38580DBA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8AEC-DBBE-46C0-9967-1776CE6E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9ADF-2C94-4BE1-A9E7-CBE4C72F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C0CA-BCE2-4EDB-B6B6-2F85DABA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59F-6C13-44D4-AAA1-1D140429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DE52-1839-4178-AEC4-1C550914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4B09-B59A-4004-AD42-F2C93DAC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D457-2434-447E-9E8A-D96477BB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2343-4934-4922-A17B-366214AB89B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ve%20Maria%20(violin)%20Schubert%5Bred%5D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6200000">
            <a:off x="4246920" y="1160640"/>
            <a:ext cx="5038920" cy="424656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508720" y="1628640"/>
            <a:ext cx="2663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48cab"/>
                    </a:gs>
                    <a:gs pos="100000">
                      <a:srgbClr val="daccc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98"/>
                  </a:outerShdw>
                </a:effectLst>
                <a:latin typeface="Arial Black"/>
              </a:rPr>
              <a:t>SER MÃE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48cab"/>
                  </a:gs>
                  <a:gs pos="100000">
                    <a:srgbClr val="daccce"/>
                  </a:gs>
                </a:gsLst>
                <a:lin ang="5400000"/>
              </a:gradFill>
              <a:effectLst>
                <a:outerShdw dist="17819" dir="2700000" blurRad="0" rotWithShape="0">
                  <a:srgbClr val="98989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148360" y="3933720"/>
            <a:ext cx="34560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d48c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98"/>
                  </a:outerShdw>
                </a:effectLst>
                <a:latin typeface="Arial Black"/>
              </a:rPr>
              <a:t>Letícia Thompson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d48cab"/>
                  </a:gs>
                </a:gsLst>
                <a:lin ang="5400000"/>
              </a:gradFill>
              <a:effectLst>
                <a:outerShdw dist="17819" dir="2700000" blurRad="0" rotWithShape="0">
                  <a:srgbClr val="989898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fade/>
    <p:sndAc>
      <p:stSnd>
        <p:snd r:embed="rId2" name="Ave%20Maria%20(violin)%20Schubert%5Bred%5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4246920" y="1303560"/>
            <a:ext cx="5038920" cy="424656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32360" y="2060640"/>
            <a:ext cx="3672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Uma mãe é uma ponte entre os céus e a ter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É o ser escolhido por Deus, certamente o mais bendito de toda a criação, para que a terra se encha e se multiplique.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30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4247280" y="1448640"/>
            <a:ext cx="5038560" cy="424656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1268280"/>
            <a:ext cx="33829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 mãe dói s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Mas engrandece també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A medida da dor é também a medida da alegria de ver filho feliz.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48360" y="3429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A maternidade é a coroa de toda mulher. De espinhos... mas de flores também!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4797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Benditas sejam todas as mães do mundo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30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4247280" y="1232640"/>
            <a:ext cx="5038560" cy="424656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1341360"/>
            <a:ext cx="403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Crédit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Texto: Letícia Thomp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Imagens: Getty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Formatação: Mara Lú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Música: Ave Maria – Schub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Maio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Site da autor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ffffff"/>
                </a:solidFill>
                <a:uFillTx/>
                <a:latin typeface="Tahoma"/>
                <a:hlinkClick r:id="rId2"/>
              </a:rPr>
              <a:t>www.leticiathompso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Por favor, ao repassar não retire e nem modifique os crédi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4245480" y="1305720"/>
            <a:ext cx="5042160" cy="424656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32360" y="1484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 mãe dó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32360" y="2349360"/>
            <a:ext cx="3672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ói quando o filho nasce e ela se pergunta como vai saber educ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ói quando, tendo o futuro todo pela frente, ela se sente perdida, como se o mundo não tivesse continuação.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4246920" y="1303560"/>
            <a:ext cx="5038920" cy="424656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59280" y="2205000"/>
            <a:ext cx="36003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ói quando filho chora de noite e ela não sabe bem como acalmá-l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la aprende, então, a interpretar cada choro pra entender seu bebê.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9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24,76,-6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9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9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475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9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24,76,-6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9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9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4246920" y="1376640"/>
            <a:ext cx="5038920" cy="424656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2276640"/>
            <a:ext cx="33847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 mãe dói quando filho fica doente e ela quer trocar de lugar com ele e não po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ói quando ela não sabe o que faz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4320360" y="1375560"/>
            <a:ext cx="5038560" cy="396072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9640" y="1916280"/>
            <a:ext cx="3240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 mãe dói quando filho não quer começar a escola e ela precisa fazer um esforço sobrenatural para não chorar e deixá-lo começar a vida de gente gran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la chora escondido depois.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4246920" y="1303560"/>
            <a:ext cx="5038920" cy="424656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1628640"/>
            <a:ext cx="36720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Mas dói também, quando, deixando o filho na escola, ele dá um sorriso e diz ade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Dói sentir que ele desprega-se, solta-se, torna-se independ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Como dói!!!</a:t>
            </a:r>
            <a:r>
              <a:rPr b="0" lang="pt-BR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4246920" y="1376640"/>
            <a:ext cx="5038920" cy="424656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1989000"/>
            <a:ext cx="36003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 mãe dói quando filho tem problemas na escola e ela precisa ouvir com naturalidade as queix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ói a adolescência, as questões existenci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246920" y="1303560"/>
            <a:ext cx="5038920" cy="424656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1628640"/>
            <a:ext cx="35290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eve doer demais ver um filho indo para a guer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eve doer imensamente ver filho seguindo caminhos diferentes dos que julgamos corre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Mãe que vê filho sofrendo, sofre dob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4246920" y="1160640"/>
            <a:ext cx="5038920" cy="424656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1413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 mãe é uma missão que dói a vida inteira.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2565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 mãe é ter a dádiva do dar. Ela planta e sabe que não é pra ela.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720" y="40766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Jesus também teve mãe. E deve ter doído nela mais que em qualquer outra mulher do mundo.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400"/>
                            </p:stCondLst>
                            <p:childTnLst>
                              <p:par>
                                <p:cTn id="1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400"/>
                            </p:stCondLst>
                            <p:childTnLst>
                              <p:par>
                                <p:cTn id="1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16:24:45Z</dcterms:created>
  <dc:creator>Mara Lúcia Sarmento Didonet</dc:creator>
  <dc:description>mdidonet@uol.com.br</dc:description>
  <dc:language>en-US</dc:language>
  <cp:lastModifiedBy>Leticia Thompson</cp:lastModifiedBy>
  <dcterms:modified xsi:type="dcterms:W3CDTF">2006-05-01T15:32:28Z</dcterms:modified>
  <cp:revision>11</cp:revision>
  <dc:subject/>
  <dc:title>Ser Mãe - Letícia Thompson</dc:title>
</cp:coreProperties>
</file>