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ve%20Maria%20(violin)%20Schubert%5Bred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92C-ADF1-4980-AD80-F54A39C8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01D-F40D-4AC4-8FEE-CE78FE6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AD6-127C-4678-BC1D-5CD660BD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D05-3B71-4754-8433-5F0F5E8B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E4C-F65B-4FB2-8D3F-848226F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C35-AA95-46E7-AB9E-50FB08BB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2B5-B907-4EC3-BA33-83282BF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737-74FC-4FDE-86FC-C683D33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B4A-A5CA-4DB5-8DEC-6CC5AED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2CB-96FD-4968-8672-F9CDE941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6AD-9F48-4200-8D8D-3EDE030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B55-B3B7-4B20-8306-820C15B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90F-2102-458A-9D4D-A4F16CD76E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(violin)%20Schubert%5Bred%5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4246920" y="1160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508720" y="1628640"/>
            <a:ext cx="26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48cab"/>
                    </a:gs>
                    <a:gs pos="100000">
                      <a:srgbClr val="daccc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SER MÃ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48cab"/>
                  </a:gs>
                  <a:gs pos="100000">
                    <a:srgbClr val="daccce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3933720"/>
            <a:ext cx="3456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d48c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Arial Black"/>
              </a:rPr>
              <a:t>Letícia Thompso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d48cab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  <p:sndAc>
      <p:stSnd>
        <p:snd r:embed="rId2" name="Ave%20Maria%20(violin)%20Schubert%5Bred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206064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Uma mãe é uma ponte entre os céus e a t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É o ser escolhido por Deus, certamente o mais bendito de toda a criação, para que a terra se encha e se multiplique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247280" y="1448640"/>
            <a:ext cx="50385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1268280"/>
            <a:ext cx="3382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s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as engrandece tamb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 medida da dor é também a medida da alegria de ver filho feliz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3429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A maternidade é a coroa de toda mulher. De espinhos... mas de flores também!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4797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Benditas sejam todas as mães do mund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0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247280" y="1232640"/>
            <a:ext cx="50385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341360"/>
            <a:ext cx="403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magens: Gett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Formatação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Música: Ave Maria – Schu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Maio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Site da auto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Por favor, ao repassar não retire e nem modifique os crédi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4245480" y="1305720"/>
            <a:ext cx="504216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1484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349360"/>
            <a:ext cx="36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o filho nasce e ela se pergunta como vai saber educ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, tendo o futuro todo pela frente, ela se sente perdida, como se o mundo não tivesse continuação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205000"/>
            <a:ext cx="3600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filho chora de noite e ela não sabe bem como acalmá-l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a aprende, então, a interpretar cada choro pra entender seu bebê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24,76,-6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9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75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24,76,-6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9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246920" y="1376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276640"/>
            <a:ext cx="33847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fica doente e ela quer trocar de lugar com ele e não po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quando ela não sabe o que faz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320360" y="1375560"/>
            <a:ext cx="5038560" cy="396072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916280"/>
            <a:ext cx="3240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não quer começar a escola e ela precisa fazer um esforço sobrenatural para não chorar e deixá-lo começar a vida de gente gr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la chora escondido depois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628640"/>
            <a:ext cx="3672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Mas dói também, quando, deixando o filho na escola, ele dá um sorriso e diz ade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Dói sentir que ele desprega-se, solta-se, torna-se indepen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omo dói!!!</a:t>
            </a:r>
            <a:r>
              <a:rPr b="0" lang="pt-BR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4246920" y="1376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1989000"/>
            <a:ext cx="3600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dói quando filho tem problemas na escola e ela precisa ouvir com naturalidade as queix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ói a adolescência, as questões existen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246920" y="130356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628640"/>
            <a:ext cx="3529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ve doer demais ver um filho indo para a guer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ve doer imensamente ver filho seguindo caminhos diferentes dos que julgamos corre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ãe que vê filho sofrendo, sofre dob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8c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16200000">
            <a:off x="-793440" y="1305000"/>
            <a:ext cx="6337440" cy="42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246920" y="1160640"/>
            <a:ext cx="5038920" cy="4246560"/>
          </a:xfrm>
          <a:prstGeom prst="roundRect">
            <a:avLst>
              <a:gd name="adj" fmla="val 16667"/>
            </a:avLst>
          </a:prstGeom>
          <a:solidFill>
            <a:srgbClr val="c87d9c"/>
          </a:solidFill>
          <a:ln w="57240">
            <a:solidFill>
              <a:srgbClr val="c86e95"/>
            </a:solidFill>
            <a:miter/>
          </a:ln>
          <a:effectLst>
            <a:outerShdw dist="17819" dir="2700000" blurRad="0" rotWithShape="0">
              <a:srgbClr val="7741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1413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é uma missão que dói a vida inteira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 mãe é ter a dádiva do dar. Ela planta e sabe que não é pra ela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4076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Jesus também teve mãe. E deve ter doído nela mais que em qualquer outra mulher do mundo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4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4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6:24:45Z</dcterms:created>
  <dc:creator>Mara Lúcia Sarmento Didonet</dc:creator>
  <dc:description>mdidonet@uol.com.br</dc:description>
  <dc:language>en-US</dc:language>
  <cp:lastModifiedBy>Leticia Thompson</cp:lastModifiedBy>
  <dcterms:modified xsi:type="dcterms:W3CDTF">2006-05-01T15:32:28Z</dcterms:modified>
  <cp:revision>11</cp:revision>
  <dc:subject/>
  <dc:title>Ser Mãe - Letícia Thompson</dc:title>
</cp:coreProperties>
</file>