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7.png" ContentType="image/png"/>
  <Override PartName="/ppt/media/Andr%C3%A9%20Rieu%20-%20Memories.wav" ContentType="audio/x-wav"/>
  <Override PartName="/ppt/media/image10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F8D-A463-4525-9284-6F1DCF80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E176-D9E2-4FC9-949B-F598EE4F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A4C4-5DFA-43D1-8A26-EDE0C5BF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7DD-43D5-4663-98DB-C936496D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BFB-EA44-4A11-8FC8-D6866D74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B28-2DFF-4B3B-9822-69395577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1E9-CD72-4C70-945C-0D9E1319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2ED-3F14-49FA-9F70-10772D8B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F7A-F829-4CF1-B224-81FDAD73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136-C05F-4C9E-8656-542A3CC9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259-4F1D-4AB0-BE46-04D0DDDF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DF0-44B4-420A-A7B5-7CA2F39A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13F5-D52C-48F6-B460-B1C836338C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4000" y="260280"/>
            <a:ext cx="8496000" cy="626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404640"/>
            <a:ext cx="8207280" cy="597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7380360" y="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0" y="51530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7439040" y="515304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Andr&#233;%20Rieu%20-%20Memori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bethnorling@globo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7347" r="0" b="0"/>
          <a:stretch/>
        </p:blipFill>
        <p:spPr>
          <a:xfrm>
            <a:off x="826920" y="620640"/>
            <a:ext cx="7490160" cy="55450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2556000" y="1844640"/>
            <a:ext cx="40003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 AMOR</a:t>
            </a:r>
            <a:endParaRPr b="0" i="1" lang="en-US" sz="40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16360" y="4149720"/>
            <a:ext cx="3466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332000" y="1197000"/>
            <a:ext cx="69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Ele nos escraviza, sem que por isso 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sintamos cativos e tenhamos desejos de liberdad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É uma prisão voluntá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Ele nos limita e nos deixa ilimi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riso do outro pode ser nossa felicidade, bem como sua lágrima pode ser nossa tristeza. A pessoa amada pode tocar nossa alma a qualquer momento e nós mesmos, sem reservas, deixamos a porta abe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7347" r="0" b="0"/>
          <a:stretch/>
        </p:blipFill>
        <p:spPr>
          <a:xfrm>
            <a:off x="826920" y="836640"/>
            <a:ext cx="7490160" cy="511344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547640" y="1916280"/>
            <a:ext cx="64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Se eu não tivesse amor... nada seri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E tendo amor, tudo entrego e nada s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amor, de tão nobre, nos torna humildes. Nos possuindo, possui também forças, nossas vontades, nos deixa à mercê do outro e dos seus desej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7731" r="0" b="0"/>
          <a:stretch/>
        </p:blipFill>
        <p:spPr>
          <a:xfrm>
            <a:off x="755640" y="692280"/>
            <a:ext cx="7632720" cy="532908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900000" y="90792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Quando o amor torna-se a razão da nossa vida, a falta dele torna-se também a não razão de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Tão grandes e tão pequenos somos quando amamos algué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Já nem sei quem sou se não somos do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Se não somos dois, não sou ningué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Hei de morrer de amor, se de amor não posso v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755640" y="765000"/>
            <a:ext cx="7704000" cy="525636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116000" y="1916280"/>
            <a:ext cx="69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amor nos mói, nos transforma. De ta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doer, nos ensina a resignação, a aceit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É uma sublime porta por onde entramos e deixamos na entrada nossas defesas. Mas ainda assim nos faz sentir fortes o bastante para enfrentar o mundo. Somos condenados e agraciados ao mesmo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755640" y="765000"/>
            <a:ext cx="7632720" cy="532800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116000" y="1341360"/>
            <a:ext cx="698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amor não tem razão, não tem explicaçã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nem definição. É tudo por tu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Quem amou uma vez, amará ainda. E chorará. E rirá. E dará graças por essa aura que o torna diferente aos olhos do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O amor é sublime e subl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beb"/>
                </a:solidFill>
                <a:latin typeface="Comic Sans MS"/>
              </a:rPr>
              <a:t>Não mais palavras... se o amor sem falar já diz tu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755640" y="765000"/>
            <a:ext cx="7632720" cy="5328000"/>
          </a:xfrm>
          <a:prstGeom prst="rect">
            <a:avLst/>
          </a:prstGeom>
          <a:ln w="57240">
            <a:solidFill>
              <a:srgbClr val="ffebeb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7280" y="1557360"/>
            <a:ext cx="68407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Texto: Letícia Thompson - O a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e7e7"/>
                </a:solidFill>
                <a:uFillTx/>
                <a:latin typeface="Comic Sans MS"/>
                <a:hlinkClick r:id="rId2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Música: André Rieu – </a:t>
            </a:r>
            <a:r>
              <a:rPr b="1" lang="en-US" sz="2000" spc="-1" strike="noStrike">
                <a:solidFill>
                  <a:srgbClr val="ffebeb"/>
                </a:solidFill>
                <a:latin typeface="Comic Sans MS"/>
              </a:rPr>
              <a:t>Mem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E-mail: </a:t>
            </a:r>
            <a:r>
              <a:rPr b="0" lang="pt-BR" sz="2000" spc="-1" strike="noStrike" u="sng">
                <a:solidFill>
                  <a:srgbClr val="ffe7e7"/>
                </a:solidFill>
                <a:uFillTx/>
                <a:latin typeface="Comic Sans MS"/>
                <a:hlinkClick r:id="rId3"/>
              </a:rPr>
              <a:t>bethnorling@globo.com</a:t>
            </a:r>
            <a:r>
              <a:rPr b="1" lang="pt-BR" sz="2000" spc="-1" strike="noStrike">
                <a:solidFill>
                  <a:srgbClr val="ffebeb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8:48:08Z</dcterms:created>
  <dc:creator>Beth Norling</dc:creator>
  <dc:description/>
  <dc:language>en-US</dc:language>
  <cp:lastModifiedBy>Letícia Thompson</cp:lastModifiedBy>
  <dcterms:modified xsi:type="dcterms:W3CDTF">2007-03-23T12:59:39Z</dcterms:modified>
  <cp:revision>7</cp:revision>
  <dc:subject/>
  <dc:title>O Amor LT</dc:title>
</cp:coreProperties>
</file>