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Andr%C3%A9%20Rieu%20-%20Memories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E23-3AF6-4081-ACEB-27693A62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42D-20CC-4DC2-99B0-9101AA0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C1D-18D4-4CE6-B2A3-F11090DE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435-DB8C-418E-9D6F-D871C4D4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83A-AE58-4E65-A302-C0A8530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85C-75E1-49E0-8999-4B17A42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8CC-EF0E-4C26-AC7F-222AC00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E4F-AF2A-4DDE-9630-63347DD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5D1-A02B-486A-ADA2-FFE833B3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EC9-BA9E-424D-A31E-F6FEFEA2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2DD-8778-49C9-AC13-73FA46E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49F-AD02-44A6-B567-DA1C326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558F-1D55-4069-A505-AA720D25F1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8207280" cy="597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51530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7439040" y="515304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Andr&#233;%20Rieu%20-%20Memori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620640"/>
            <a:ext cx="7490160" cy="55450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56000" y="1844640"/>
            <a:ext cx="40003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AMOR</a:t>
            </a:r>
            <a:endParaRPr b="0" i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4149720"/>
            <a:ext cx="3466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332000" y="119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escraviza, sem que por isso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intamos cativos e tenhamos desejos de liberdad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prisão volunt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limita e nos deixa ilim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riso do outro pode ser nossa felicidade, bem como sua lágrima pode ser nossa tristeza. A pessoa amada pode tocar nossa alma a qualquer momento e nós mesmos, sem reservas, deixamos a porta ab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836640"/>
            <a:ext cx="7490160" cy="511344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47640" y="191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eu não tivesse amor... nada 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 tendo amor, tudo entrego e nada s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, de tão nobre, nos torna humildes. Nos possuindo, possui também forças, nossas vontades, nos deixa à mercê do outro e dos seus desej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731" r="0" b="0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00000" y="90792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ando o amor torna-se a razão da nossa vida, a falta dele torna-se também a não razão d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Tão grandes e tão pequenos somos quando amamos algué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Já nem sei quem sou se não somos d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não somos dois, não sou nin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Hei de morrer de amor, se de amor não posso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70400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116000" y="19162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os mói, nos transforma. De t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doer, nos ensina a resignação, a acei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sublime porta por onde entramos e deixamos na entrada nossas defesas. Mas ainda assim nos faz sentir fortes o bastante para enfrentar o mundo. Somos condenados e agraciados ao mesm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116000" y="134136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ão tem razão, não tem explicaçã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em definição. É tudo por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em amou uma vez, amará ainda. E chorará. E rirá. E dará graças por essa aura que o torna diferente aos olhos d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é sublime e sub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ão mais palavras... se o amor sem falar já diz tu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7280" y="155736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Texto: Letícia Thompson - O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Música: André Rieu – </a:t>
            </a:r>
            <a:r>
              <a:rPr b="1" lang="en-US" sz="2000" spc="-1" strike="noStrike">
                <a:solidFill>
                  <a:srgbClr val="ffebeb"/>
                </a:solidFill>
                <a:latin typeface="Comic Sans MS"/>
              </a:rPr>
              <a:t>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E-mail: </a:t>
            </a: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8:48:08Z</dcterms:created>
  <dc:creator>Beth Norling</dc:creator>
  <dc:description/>
  <dc:language>en-US</dc:language>
  <cp:lastModifiedBy>Letícia Thompson</cp:lastModifiedBy>
  <dcterms:modified xsi:type="dcterms:W3CDTF">2007-03-23T12:59:39Z</dcterms:modified>
  <cp:revision>7</cp:revision>
  <dc:subject/>
  <dc:title>O Amor LT</dc:title>
</cp:coreProperties>
</file>