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72C3-30EB-403C-B06D-D48E8F262CE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B0F-D15F-4148-9FBD-E808C3D6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1CE-ACCC-48EF-93B6-ABD4DAC1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F31-AF87-4760-AE8D-CFA32B0D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8BE-0CFB-4802-972C-37AA9747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6081A-4D02-416D-84A1-53BCA73B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DE552-B9D8-4C3D-A349-2BCC8F03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DA045-E3D8-4753-AB06-440851DB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FCADC-4175-4A2D-8628-B9096131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1EE7D-D22F-4711-8BB6-BAD3AD4B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B9AB0-7525-41E8-9539-14A11069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6B07E-7FF1-4E1C-87ED-2D13C43F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C19-7991-4E7A-BFD7-1AD6BCF5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9CF18-D381-4CBD-AD6F-1D6BB104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F110B-8B7C-4F0F-B41F-25B72EC6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EC1C0-8364-4283-BF65-D117E007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C9E2A-45A6-4DFC-9DE6-AE15E492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F1024-0D22-473E-9714-1B372FBD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06D-DEAF-435F-A54D-FF1E44EB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1B0-3BAB-4D64-B194-1A0A18B2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FE6-1B17-4FD6-BD87-7BAEB19D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51F-743C-49F8-B473-F873DCF1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732-B0E3-468C-958C-FCF9FD5C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C7A-E0AF-403D-8DBA-AC04B22E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736-2295-4728-98DD-277275D7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C370-3194-40F0-880E-C90FEB2A2C5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D3F0-5D21-4467-9626-F95B324D870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04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6000" spc="-1" strike="noStrike">
                <a:solidFill>
                  <a:srgbClr val="000099"/>
                </a:solidFill>
                <a:latin typeface="Times New Roman"/>
              </a:rPr>
              <a:t>Icebergs Assombrosos Rajados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52240" y="2742840"/>
            <a:ext cx="611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Somente olhe como a onda se congelo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na colisãocom  ar!!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0120"/>
            <a:ext cx="8496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16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1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6560" y="404640"/>
            <a:ext cx="82090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77880" y="1208880"/>
            <a:ext cx="59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Ter acesso à Internet significa que conseguimos ver al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2216880"/>
            <a:ext cx="550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¡</a:t>
            </a: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que nós nunca  imaginaríam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4549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99"/>
                </a:solidFill>
                <a:latin typeface="Times New Roman"/>
              </a:rPr>
              <a:t>Passe estas belas imagens  para que  outros possam desfruta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762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Os icebergs na Antártida às vezes tem listras, formadas pelas capas de neve que reagem a condições diferentes.</a:t>
            </a: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Listras azuis frequentemente são criadas quando uma fenda na folha de gelo se enche com água líquida e não se congela rapidamente ficam então  borbulhas na fôrma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920" y="19065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Quando um iceberg cai no mar, uma capa de água salgada pode congelar-se do  lado de baixo. Se essa capa contiver algas, isso pode formar uma franja verde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Linhas marrons, negras e amarelas são causadas por sedimentos recolhidos, quando a lâmina de gelo move-se pelo movimento das águas mar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398520"/>
            <a:ext cx="83534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24000" y="268200"/>
            <a:ext cx="658800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486720"/>
            <a:ext cx="76327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  </a:t>
            </a:r>
            <a:br>
              <a:rPr sz="1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Na Antártida uma onda congelada no ato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- A Natureza é assombrosa!</a:t>
            </a: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 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68400" y="2626920"/>
            <a:ext cx="720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A água se congelou no instante, que a onda abriu caminho no gelo.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6800" y="4498560"/>
            <a:ext cx="61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Isto é o que está na Antártid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Onde o clima é o mais frio em décad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6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84360" y="134064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A água congela no instante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9091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Isso deve-se ao contato com o ar.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4720" y="4235400"/>
            <a:ext cx="813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A temperatura da  água é  alguns graus abaixo do ponto de congelam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Times New Roman"/>
              </a:rPr>
              <a:t> 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2:02:35Z</dcterms:created>
  <dc:creator>Francisco Galindez</dc:creator>
  <dc:description/>
  <dc:language>en-US</dc:language>
  <cp:lastModifiedBy>Leila</cp:lastModifiedBy>
  <dcterms:modified xsi:type="dcterms:W3CDTF">2009-03-29T08:50:58Z</dcterms:modified>
  <cp:revision>9</cp:revision>
  <dc:subject/>
  <dc:title> Icebergs asombrosos rayados    </dc:title>
</cp:coreProperties>
</file>