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6E0-5EB1-4C73-B456-BA2AC2C773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5E4-DBFD-4E66-9166-24971439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C57-9D5D-4390-825C-6FD50F2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3D3-4637-4777-8C9E-4B211B11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7FF-B96E-4B44-97FC-15C8521F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91E7-93B3-473A-867E-110ED7F3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7F5F-DA0E-4A55-953A-1671FE28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CBDEF-3310-4B90-AE72-84891457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74C7-7551-4B73-BBD1-9CE03780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9CF3-00BF-44E2-9EFA-8AE06350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3BA1-AD98-493C-8499-94490C6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F84D7-293A-40E4-B983-9521A1A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6A1-06AC-4B37-8648-4461A51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A7BF0-B05A-495C-84CE-7570A020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FF41-5E53-4B82-B965-BDA1A48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71F28-B2DF-48C9-9457-8E7E988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0D55-3BCC-49DC-B2A0-88184960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D3E73-F28F-4A09-8FD5-038F6DFA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336-6309-421B-961D-0F754D90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71D-033A-4DD7-BE5F-753252A4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457-EF7E-4080-AE59-16BA3568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7A3-71EF-428D-A6B1-801A6A9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E14-CF41-43D0-9339-9D23BE1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D41-B846-4030-AA48-F5EA310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C7F-6FAA-4266-A22B-B85E8A8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2F4-86C4-47F9-A0A8-427AAEB3B5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DE4-B1AC-4273-8CB3-D1926516AD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0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6000" spc="-1" strike="noStrike">
                <a:solidFill>
                  <a:srgbClr val="000099"/>
                </a:solidFill>
                <a:latin typeface="Times New Roman"/>
              </a:rPr>
              <a:t>Icebergs Assombrosos Rajados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2240" y="2742840"/>
            <a:ext cx="61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Somente olhe como a onda se congel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colisãocom  ar!!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0120"/>
            <a:ext cx="8496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560" y="40464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77880" y="1208880"/>
            <a:ext cx="59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Ter acesso à Internet significa que conseguimos ver al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216880"/>
            <a:ext cx="550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que nós nunca  imaginarí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45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Passe estas belas imagens  para que  outros possam desfrut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s icebergs na Antártida às vezes tem listras, formadas pelas capas de neve que reagem a condições diferentes.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stras azuis frequentemente são criadas quando uma fenda na folha de gelo se enche com água líquida e não se congela rapidamente ficam então  borbulhas na fôrm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ando um iceberg cai no mar, uma capa de água salgada pode congelar-se do  lado de baixo. Se essa capa contiver algas, isso pode formar uma franja verd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nhas marrons, negras e amarelas são causadas por sedimentos recolhidos, quando a lâmina de gelo move-se pelo movimento das águas mar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98520"/>
            <a:ext cx="8353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24000" y="268200"/>
            <a:ext cx="6588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86720"/>
            <a:ext cx="7632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1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Antártida uma onda congelada no at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A Natureza é assombrosa!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8400" y="262692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se congelou no instante, que a onda abriu caminho no gelo.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800" y="4498560"/>
            <a:ext cx="61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to é o que está na Antárt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de o clima é o mais frio em déca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1340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congela no instante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9091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so deve-se ao contato com o ar.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4720" y="4235400"/>
            <a:ext cx="813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temperatura da  água é  alguns graus abaixo do ponto de congela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02:35Z</dcterms:created>
  <dc:creator>Francisco Galindez</dc:creator>
  <dc:description/>
  <dc:language>en-US</dc:language>
  <cp:lastModifiedBy>Leila</cp:lastModifiedBy>
  <dcterms:modified xsi:type="dcterms:W3CDTF">2009-03-29T08:50:58Z</dcterms:modified>
  <cp:revision>9</cp:revision>
  <dc:subject/>
  <dc:title> Icebergs asombrosos rayados    </dc:title>
</cp:coreProperties>
</file>