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Secret%20Garden%20-%20Poeme.wav" ContentType="audio/x-wav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F61-D568-4B33-B70E-98AA2081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E9A-C0CC-4140-B5DA-0E957098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A93-A849-486B-B15D-CEB31CD3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AE2-58FE-4D66-B63A-1B099361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1EA-05F7-4E52-B927-81A2E58E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B3C-E06E-4483-97CD-AD6620E3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0AE-DF7E-44BE-AF42-ACBA31C0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D13-0297-45ED-81B2-FC5CA464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68C-A113-4CA8-89A1-6AAF6B22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A1C-712C-47F2-AF62-BFA775CF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EFF-1609-46D4-832F-021A2774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B71-9D58-4CF8-BA09-BA3387C4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40C5-D550-4974-8A0C-CFDE8766D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audio" Target="../media/Secret%20Garden%20-%20Poeme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7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8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9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10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11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2.jpeg"/><Relationship Id="rId8" Type="http://schemas.openxmlformats.org/officeDocument/2006/relationships/image" Target="../media/image3.gif"/><Relationship Id="rId9" Type="http://schemas.openxmlformats.org/officeDocument/2006/relationships/image" Target="../media/image12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gif"/><Relationship Id="rId9" Type="http://schemas.openxmlformats.org/officeDocument/2006/relationships/image" Target="../media/image1.jpeg"/><Relationship Id="rId10" Type="http://schemas.openxmlformats.org/officeDocument/2006/relationships/hyperlink" Target="http://www.leticiathompson.net/" TargetMode="External"/><Relationship Id="rId11" Type="http://schemas.openxmlformats.org/officeDocument/2006/relationships/hyperlink" Target="mailto:bethnorling@globo.com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076720" y="1628640"/>
            <a:ext cx="2819520" cy="191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S LIÇÕES</a:t>
            </a:r>
            <a:endParaRPr b="0" i="1" lang="en-US" sz="18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</a:t>
            </a:r>
            <a:endParaRPr b="0" i="1" lang="en-US" sz="18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ATUREZA</a:t>
            </a:r>
            <a:endParaRPr b="0" i="1" lang="en-US" sz="18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148360" y="5013360"/>
            <a:ext cx="2523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0" y="907920"/>
            <a:ext cx="40212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Quantas vezes as pessoas desistem da vida porque desistem de esper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Temos tanta pressa com tudo!... Como se a vida fosse um mar de problemas para uns e um mar de rosas para outros!... Não vivemos o que outros corações vivem e nem podemos viver, mas como podemos aprender com cada coisa que surge a cada instant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24560" y="1413000"/>
            <a:ext cx="38350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Há algo mais singelo, sublime e belo que as flores que nascem entre as pedr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Elas germinam, avançam e sobressaem-se, mesmo se tudo à volta parece árido e se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Embelezam, apesar das asperezas, da seca, dos maus d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716360" y="1844640"/>
            <a:ext cx="38163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Aprendemos com a natureza que o mundo tem jeito, que podemos nos resguardar e permanecer inteiros, apesar das situações que parecem querer nos enfraquecer e derrub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95840" y="981000"/>
            <a:ext cx="36925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Aprendemos com as estações que não se desiste da vida, nem de ser, nem de tentar, nem de querer e que será sempre possível dar a volta por cima, apesar das contrariedades do camin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O majestoso s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deixa-se muitas vezes encobrir por nuvens, mas ele volta sempre e semp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24560" y="1628640"/>
            <a:ext cx="376380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Fomos feitos para v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Fomos criados para bem v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Somos flores às vezes em terra fértil, outras em terreno árido, mas flores aind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somos sóis e luas que não desistem de renas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49360"/>
            <a:ext cx="4103640" cy="5759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620640"/>
            <a:ext cx="3960720" cy="56167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692280"/>
            <a:ext cx="3673800" cy="5473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765000"/>
            <a:ext cx="3527640" cy="5328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88000" y="1557360"/>
            <a:ext cx="367164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Verdana"/>
              </a:rPr>
              <a:t>Somos poços de problemas ou rios de felicidade, mas somos cheios de possibilidades e o melhor de nós pode sempre sobressair, como tímidos e firmes raios de sol que varam as nuvens e acabam iluminando o 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895400" cy="1752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0" y="5084640"/>
            <a:ext cx="1666800" cy="1773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692280"/>
            <a:ext cx="7417080" cy="5473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765000"/>
            <a:ext cx="7272360" cy="532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1474920"/>
            <a:ext cx="712944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ffcc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ffcc"/>
                </a:solidFill>
                <a:latin typeface="Verdana"/>
              </a:rPr>
              <a:t>Texto: Letícia Thompson – As lições da nat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ffcc"/>
                </a:solidFill>
                <a:uFillTx/>
                <a:latin typeface="Verdana"/>
                <a:hlinkClick r:id="rId10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ffcc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ffcc"/>
                </a:solidFill>
                <a:latin typeface="Verdana"/>
              </a:rPr>
              <a:t>Música: Secret Garden – Po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ffcc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ffcc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ccffcc"/>
                </a:solidFill>
                <a:uFillTx/>
                <a:latin typeface="Verdana"/>
                <a:hlinkClick r:id="rId11"/>
              </a:rPr>
              <a:t>bethnorling@glob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22:27:52Z</dcterms:created>
  <dc:creator>Beth Norling</dc:creator>
  <dc:description/>
  <dc:language>en-US</dc:language>
  <cp:lastModifiedBy>Beth Norling</cp:lastModifiedBy>
  <dcterms:modified xsi:type="dcterms:W3CDTF">2007-06-09T18:17:20Z</dcterms:modified>
  <cp:revision>7</cp:revision>
  <dc:subject/>
  <dc:title>As_licoes_da_natureza</dc:title>
</cp:coreProperties>
</file>