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gif" ContentType="image/gif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Secret%20Garden%20-%20Poeme.wav" ContentType="audio/x-wav"/>
  <Override PartName="/ppt/media/image8.jpeg" ContentType="image/jpeg"/>
  <Override PartName="/ppt/media/image9.jpeg" ContentType="image/jpeg"/>
  <Override PartName="/ppt/media/image10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290FE-0F8E-4870-9DA7-5B396A001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82860-5A81-4385-89CC-932FBBDB0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ECE2F-4379-4617-8CE2-C48EA324A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03110-8F42-442D-856F-5BBB62A20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5E4FD-8592-4373-979C-DBC1B217B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14EF7-9F50-4F28-9175-4222E784B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5E37B-8B61-4CBB-B5D0-E90CB2268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CD8C8-7151-45B4-9E3F-3FFE61DE9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D210A-2E7D-4365-B6EB-233D5FA2C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8DE89-0558-4D1D-894D-ED7935A59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5CDA7-74BF-4DD7-BCC5-3768C8B85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B9B7C-CF2D-4342-A3FA-5C587EC54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1D4ED-2412-45CB-9103-14EB2F8B85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gif"/><Relationship Id="rId4" Type="http://schemas.openxmlformats.org/officeDocument/2006/relationships/image" Target="../media/image2.jpeg"/><Relationship Id="rId5" Type="http://schemas.openxmlformats.org/officeDocument/2006/relationships/image" Target="../media/image1.jpeg"/><Relationship Id="rId6" Type="http://schemas.openxmlformats.org/officeDocument/2006/relationships/image" Target="../media/image3.gif"/><Relationship Id="rId7" Type="http://schemas.openxmlformats.org/officeDocument/2006/relationships/image" Target="../media/image2.jpeg"/><Relationship Id="rId8" Type="http://schemas.openxmlformats.org/officeDocument/2006/relationships/image" Target="../media/image3.gif"/><Relationship Id="rId9" Type="http://schemas.openxmlformats.org/officeDocument/2006/relationships/image" Target="../media/image4.jpeg"/><Relationship Id="rId10" Type="http://schemas.openxmlformats.org/officeDocument/2006/relationships/image" Target="../media/image5.png"/><Relationship Id="rId11" Type="http://schemas.openxmlformats.org/officeDocument/2006/relationships/image" Target="../media/image6.png"/><Relationship Id="rId12" Type="http://schemas.openxmlformats.org/officeDocument/2006/relationships/image" Target="../media/image2.jpeg"/><Relationship Id="rId13" Type="http://schemas.openxmlformats.org/officeDocument/2006/relationships/image" Target="../media/image2.jpeg"/><Relationship Id="rId14" Type="http://schemas.openxmlformats.org/officeDocument/2006/relationships/image" Target="../media/image2.jpeg"/><Relationship Id="rId15" Type="http://schemas.openxmlformats.org/officeDocument/2006/relationships/image" Target="../media/image2.jpeg"/><Relationship Id="rId16" Type="http://schemas.openxmlformats.org/officeDocument/2006/relationships/image" Target="../media/image2.jpeg"/><Relationship Id="rId17" Type="http://schemas.openxmlformats.org/officeDocument/2006/relationships/image" Target="../media/image2.jpeg"/><Relationship Id="rId18" Type="http://schemas.openxmlformats.org/officeDocument/2006/relationships/image" Target="../media/image2.jpeg"/><Relationship Id="rId19" Type="http://schemas.openxmlformats.org/officeDocument/2006/relationships/image" Target="../media/image2.jpeg"/><Relationship Id="rId20" Type="http://schemas.openxmlformats.org/officeDocument/2006/relationships/audio" Target="../media/Secret%20Garden%20-%20Poeme.wav"/><Relationship Id="rId2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gif"/><Relationship Id="rId4" Type="http://schemas.openxmlformats.org/officeDocument/2006/relationships/image" Target="../media/image2.jpeg"/><Relationship Id="rId5" Type="http://schemas.openxmlformats.org/officeDocument/2006/relationships/image" Target="../media/image1.jpeg"/><Relationship Id="rId6" Type="http://schemas.openxmlformats.org/officeDocument/2006/relationships/image" Target="../media/image3.gif"/><Relationship Id="rId7" Type="http://schemas.openxmlformats.org/officeDocument/2006/relationships/image" Target="../media/image2.jpeg"/><Relationship Id="rId8" Type="http://schemas.openxmlformats.org/officeDocument/2006/relationships/image" Target="../media/image3.gif"/><Relationship Id="rId9" Type="http://schemas.openxmlformats.org/officeDocument/2006/relationships/image" Target="../media/image7.jpeg"/><Relationship Id="rId10" Type="http://schemas.openxmlformats.org/officeDocument/2006/relationships/image" Target="../media/image5.png"/><Relationship Id="rId11" Type="http://schemas.openxmlformats.org/officeDocument/2006/relationships/image" Target="../media/image6.png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gif"/><Relationship Id="rId4" Type="http://schemas.openxmlformats.org/officeDocument/2006/relationships/image" Target="../media/image2.jpeg"/><Relationship Id="rId5" Type="http://schemas.openxmlformats.org/officeDocument/2006/relationships/image" Target="../media/image1.jpeg"/><Relationship Id="rId6" Type="http://schemas.openxmlformats.org/officeDocument/2006/relationships/image" Target="../media/image3.gif"/><Relationship Id="rId7" Type="http://schemas.openxmlformats.org/officeDocument/2006/relationships/image" Target="../media/image2.jpeg"/><Relationship Id="rId8" Type="http://schemas.openxmlformats.org/officeDocument/2006/relationships/image" Target="../media/image3.gif"/><Relationship Id="rId9" Type="http://schemas.openxmlformats.org/officeDocument/2006/relationships/image" Target="../media/image8.jpeg"/><Relationship Id="rId10" Type="http://schemas.openxmlformats.org/officeDocument/2006/relationships/image" Target="../media/image5.png"/><Relationship Id="rId11" Type="http://schemas.openxmlformats.org/officeDocument/2006/relationships/image" Target="../media/image6.png"/><Relationship Id="rId1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gif"/><Relationship Id="rId4" Type="http://schemas.openxmlformats.org/officeDocument/2006/relationships/image" Target="../media/image2.jpeg"/><Relationship Id="rId5" Type="http://schemas.openxmlformats.org/officeDocument/2006/relationships/image" Target="../media/image1.jpeg"/><Relationship Id="rId6" Type="http://schemas.openxmlformats.org/officeDocument/2006/relationships/image" Target="../media/image3.gif"/><Relationship Id="rId7" Type="http://schemas.openxmlformats.org/officeDocument/2006/relationships/image" Target="../media/image2.jpeg"/><Relationship Id="rId8" Type="http://schemas.openxmlformats.org/officeDocument/2006/relationships/image" Target="../media/image3.gif"/><Relationship Id="rId9" Type="http://schemas.openxmlformats.org/officeDocument/2006/relationships/image" Target="../media/image9.jpeg"/><Relationship Id="rId10" Type="http://schemas.openxmlformats.org/officeDocument/2006/relationships/image" Target="../media/image5.png"/><Relationship Id="rId11" Type="http://schemas.openxmlformats.org/officeDocument/2006/relationships/image" Target="../media/image6.png"/><Relationship Id="rId1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gif"/><Relationship Id="rId4" Type="http://schemas.openxmlformats.org/officeDocument/2006/relationships/image" Target="../media/image2.jpeg"/><Relationship Id="rId5" Type="http://schemas.openxmlformats.org/officeDocument/2006/relationships/image" Target="../media/image1.jpeg"/><Relationship Id="rId6" Type="http://schemas.openxmlformats.org/officeDocument/2006/relationships/image" Target="../media/image3.gif"/><Relationship Id="rId7" Type="http://schemas.openxmlformats.org/officeDocument/2006/relationships/image" Target="../media/image2.jpeg"/><Relationship Id="rId8" Type="http://schemas.openxmlformats.org/officeDocument/2006/relationships/image" Target="../media/image3.gif"/><Relationship Id="rId9" Type="http://schemas.openxmlformats.org/officeDocument/2006/relationships/image" Target="../media/image10.jpeg"/><Relationship Id="rId10" Type="http://schemas.openxmlformats.org/officeDocument/2006/relationships/image" Target="../media/image5.png"/><Relationship Id="rId11" Type="http://schemas.openxmlformats.org/officeDocument/2006/relationships/image" Target="../media/image6.png"/><Relationship Id="rId1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gif"/><Relationship Id="rId4" Type="http://schemas.openxmlformats.org/officeDocument/2006/relationships/image" Target="../media/image2.jpeg"/><Relationship Id="rId5" Type="http://schemas.openxmlformats.org/officeDocument/2006/relationships/image" Target="../media/image1.jpeg"/><Relationship Id="rId6" Type="http://schemas.openxmlformats.org/officeDocument/2006/relationships/image" Target="../media/image3.gif"/><Relationship Id="rId7" Type="http://schemas.openxmlformats.org/officeDocument/2006/relationships/image" Target="../media/image2.jpeg"/><Relationship Id="rId8" Type="http://schemas.openxmlformats.org/officeDocument/2006/relationships/image" Target="../media/image3.gif"/><Relationship Id="rId9" Type="http://schemas.openxmlformats.org/officeDocument/2006/relationships/image" Target="../media/image11.jpeg"/><Relationship Id="rId10" Type="http://schemas.openxmlformats.org/officeDocument/2006/relationships/image" Target="../media/image5.png"/><Relationship Id="rId11" Type="http://schemas.openxmlformats.org/officeDocument/2006/relationships/image" Target="../media/image6.pn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gif"/><Relationship Id="rId4" Type="http://schemas.openxmlformats.org/officeDocument/2006/relationships/image" Target="../media/image2.jpeg"/><Relationship Id="rId5" Type="http://schemas.openxmlformats.org/officeDocument/2006/relationships/image" Target="../media/image1.jpeg"/><Relationship Id="rId6" Type="http://schemas.openxmlformats.org/officeDocument/2006/relationships/image" Target="../media/image3.gif"/><Relationship Id="rId7" Type="http://schemas.openxmlformats.org/officeDocument/2006/relationships/image" Target="../media/image2.jpeg"/><Relationship Id="rId8" Type="http://schemas.openxmlformats.org/officeDocument/2006/relationships/image" Target="../media/image3.gif"/><Relationship Id="rId9" Type="http://schemas.openxmlformats.org/officeDocument/2006/relationships/image" Target="../media/image12.jpeg"/><Relationship Id="rId10" Type="http://schemas.openxmlformats.org/officeDocument/2006/relationships/image" Target="../media/image5.png"/><Relationship Id="rId11" Type="http://schemas.openxmlformats.org/officeDocument/2006/relationships/image" Target="../media/image6.png"/><Relationship Id="rId1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gif"/><Relationship Id="rId4" Type="http://schemas.openxmlformats.org/officeDocument/2006/relationships/image" Target="../media/image2.jpeg"/><Relationship Id="rId5" Type="http://schemas.openxmlformats.org/officeDocument/2006/relationships/image" Target="../media/image1.jpe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3.gif"/><Relationship Id="rId9" Type="http://schemas.openxmlformats.org/officeDocument/2006/relationships/image" Target="../media/image1.jpeg"/><Relationship Id="rId10" Type="http://schemas.openxmlformats.org/officeDocument/2006/relationships/hyperlink" Target="http://www.leticiathompson.net/" TargetMode="External"/><Relationship Id="rId11" Type="http://schemas.openxmlformats.org/officeDocument/2006/relationships/hyperlink" Target="mailto:bethnorling@globo.com" TargetMode="External"/><Relationship Id="rId1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24000" y="333360"/>
            <a:ext cx="8496000" cy="6191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404640"/>
            <a:ext cx="8353440" cy="6048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8360" y="476280"/>
            <a:ext cx="8207280" cy="5905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549360"/>
            <a:ext cx="4103640" cy="5759280"/>
          </a:xfrm>
          <a:prstGeom prst="ellipse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620640"/>
            <a:ext cx="3960720" cy="5616720"/>
          </a:xfrm>
          <a:prstGeom prst="ellipse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26920" y="692280"/>
            <a:ext cx="3673800" cy="5473440"/>
          </a:xfrm>
          <a:prstGeom prst="ellipse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900000" y="765000"/>
            <a:ext cx="3527640" cy="5328000"/>
          </a:xfrm>
          <a:prstGeom prst="ellipse">
            <a:avLst/>
          </a:prstGeom>
          <a:blipFill rotWithShape="0">
            <a:blip r:embed="rId9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0"/>
          <a:stretch/>
        </p:blipFill>
        <p:spPr>
          <a:xfrm>
            <a:off x="0" y="0"/>
            <a:ext cx="1895400" cy="17524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11"/>
          <a:stretch/>
        </p:blipFill>
        <p:spPr>
          <a:xfrm>
            <a:off x="0" y="5084640"/>
            <a:ext cx="1666800" cy="17733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 txBox="1"/>
          <p:nvPr/>
        </p:nvSpPr>
        <p:spPr>
          <a:xfrm>
            <a:off x="5076720" y="1628640"/>
            <a:ext cx="2819520" cy="1914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ccffcc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AS LIÇÕES</a:t>
            </a:r>
            <a:endParaRPr b="0" i="1" lang="en-US" sz="1800" spc="1" strike="noStrike">
              <a:ln w="9360">
                <a:solidFill>
                  <a:srgbClr val="ccffcc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ccffcc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DA</a:t>
            </a:r>
            <a:endParaRPr b="0" i="1" lang="en-US" sz="1800" spc="1" strike="noStrike">
              <a:ln w="9360">
                <a:solidFill>
                  <a:srgbClr val="ccffcc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ccffcc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NATUREZA</a:t>
            </a:r>
            <a:endParaRPr b="0" i="1" lang="en-US" sz="1800" spc="1" strike="noStrike">
              <a:ln w="9360">
                <a:solidFill>
                  <a:srgbClr val="ccffcc"/>
                </a:solidFill>
                <a:miter/>
              </a:ln>
              <a:blipFill rotWithShape="0">
                <a:blip r:embed="rId17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5148360" y="5013360"/>
            <a:ext cx="2523960" cy="36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ccffcc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Letícia Thompson</a:t>
            </a:r>
            <a:endParaRPr b="0" i="1" lang="en-US" sz="2000" spc="1" strike="noStrike">
              <a:ln w="9360">
                <a:solidFill>
                  <a:srgbClr val="ccffcc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333360"/>
            <a:ext cx="8496000" cy="6191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95280" y="404640"/>
            <a:ext cx="8353440" cy="6048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476280"/>
            <a:ext cx="8207280" cy="5905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39640" y="549360"/>
            <a:ext cx="4103640" cy="5759280"/>
          </a:xfrm>
          <a:prstGeom prst="ellipse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1280" y="620640"/>
            <a:ext cx="3960720" cy="5616720"/>
          </a:xfrm>
          <a:prstGeom prst="ellipse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826920" y="692280"/>
            <a:ext cx="3673800" cy="5473440"/>
          </a:xfrm>
          <a:prstGeom prst="ellipse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00000" y="765000"/>
            <a:ext cx="3527640" cy="5328000"/>
          </a:xfrm>
          <a:prstGeom prst="ellipse">
            <a:avLst/>
          </a:prstGeom>
          <a:blipFill rotWithShape="0">
            <a:blip r:embed="rId9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0"/>
          <a:stretch/>
        </p:blipFill>
        <p:spPr>
          <a:xfrm>
            <a:off x="0" y="0"/>
            <a:ext cx="1895400" cy="17524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11"/>
          <a:stretch/>
        </p:blipFill>
        <p:spPr>
          <a:xfrm>
            <a:off x="0" y="5084640"/>
            <a:ext cx="1666800" cy="17733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4572000" y="907920"/>
            <a:ext cx="4021200" cy="46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ffcc"/>
                </a:solidFill>
                <a:latin typeface="Verdana"/>
              </a:rPr>
              <a:t>Quantas vezes as pessoas desistem da vida porque desistem de espera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ffcc"/>
                </a:solidFill>
                <a:latin typeface="Verdana"/>
              </a:rPr>
              <a:t>Temos tanta pressa com tudo!... Como se a vida fosse um mar de problemas para uns e um mar de rosas para outros!... Não vivemos o que outros corações vivem e nem podemos viver, mas como podemos aprender com cada coisa que surge a cada instante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0">
    <p:push dir="r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333360"/>
            <a:ext cx="8496000" cy="6191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95280" y="404640"/>
            <a:ext cx="8353440" cy="6048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476280"/>
            <a:ext cx="8207280" cy="5905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39640" y="549360"/>
            <a:ext cx="4103640" cy="5759280"/>
          </a:xfrm>
          <a:prstGeom prst="ellipse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11280" y="620640"/>
            <a:ext cx="3960720" cy="5616720"/>
          </a:xfrm>
          <a:prstGeom prst="ellipse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826920" y="692280"/>
            <a:ext cx="3673800" cy="5473440"/>
          </a:xfrm>
          <a:prstGeom prst="ellipse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900000" y="765000"/>
            <a:ext cx="3527640" cy="5328000"/>
          </a:xfrm>
          <a:prstGeom prst="ellipse">
            <a:avLst/>
          </a:prstGeom>
          <a:blipFill rotWithShape="0">
            <a:blip r:embed="rId9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0"/>
          <a:stretch/>
        </p:blipFill>
        <p:spPr>
          <a:xfrm>
            <a:off x="0" y="0"/>
            <a:ext cx="1895400" cy="17524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11"/>
          <a:stretch/>
        </p:blipFill>
        <p:spPr>
          <a:xfrm>
            <a:off x="0" y="5084640"/>
            <a:ext cx="1666800" cy="177336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4624560" y="1413000"/>
            <a:ext cx="3835080" cy="39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ffcc"/>
                </a:solidFill>
                <a:latin typeface="Verdana"/>
              </a:rPr>
              <a:t>Há algo mais singelo, sublime e belo que as flores que nascem entre as pedra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ffcc"/>
                </a:solidFill>
                <a:latin typeface="Verdana"/>
              </a:rPr>
              <a:t>Elas germinam, avançam e sobressaem-se, mesmo se tudo à volta parece árido e sec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ffcc"/>
                </a:solidFill>
                <a:latin typeface="Verdana"/>
              </a:rPr>
              <a:t>Embelezam, apesar das asperezas, da seca, dos maus dia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4000">
    <p:push dir="r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333360"/>
            <a:ext cx="8496000" cy="6191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95280" y="404640"/>
            <a:ext cx="8353440" cy="6048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476280"/>
            <a:ext cx="8207280" cy="5905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39640" y="549360"/>
            <a:ext cx="4103640" cy="5759280"/>
          </a:xfrm>
          <a:prstGeom prst="ellipse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1280" y="620640"/>
            <a:ext cx="3960720" cy="5616720"/>
          </a:xfrm>
          <a:prstGeom prst="ellipse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826920" y="692280"/>
            <a:ext cx="3673800" cy="5473440"/>
          </a:xfrm>
          <a:prstGeom prst="ellipse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900000" y="765000"/>
            <a:ext cx="3527640" cy="5328000"/>
          </a:xfrm>
          <a:prstGeom prst="ellipse">
            <a:avLst/>
          </a:prstGeom>
          <a:blipFill rotWithShape="0">
            <a:blip r:embed="rId9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0"/>
          <a:stretch/>
        </p:blipFill>
        <p:spPr>
          <a:xfrm>
            <a:off x="0" y="0"/>
            <a:ext cx="1895400" cy="17524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11"/>
          <a:stretch/>
        </p:blipFill>
        <p:spPr>
          <a:xfrm>
            <a:off x="0" y="5084640"/>
            <a:ext cx="1666800" cy="177336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4716360" y="1844640"/>
            <a:ext cx="3816360" cy="28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ffcc"/>
                </a:solidFill>
                <a:latin typeface="Verdana"/>
              </a:rPr>
              <a:t>Aprendemos com a natureza que o mundo tem jeito, que podemos nos resguardar e permanecer inteiros, apesar das situações que parecem querer nos enfraquecer e derruba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0">
    <p:push dir="r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333360"/>
            <a:ext cx="8496000" cy="6191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95280" y="404640"/>
            <a:ext cx="8353440" cy="6048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476280"/>
            <a:ext cx="8207280" cy="5905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39640" y="549360"/>
            <a:ext cx="4103640" cy="5759280"/>
          </a:xfrm>
          <a:prstGeom prst="ellipse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11280" y="620640"/>
            <a:ext cx="3960720" cy="5616720"/>
          </a:xfrm>
          <a:prstGeom prst="ellipse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26920" y="692280"/>
            <a:ext cx="3673800" cy="5473440"/>
          </a:xfrm>
          <a:prstGeom prst="ellipse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900000" y="765000"/>
            <a:ext cx="3527640" cy="5328000"/>
          </a:xfrm>
          <a:prstGeom prst="ellipse">
            <a:avLst/>
          </a:prstGeom>
          <a:blipFill rotWithShape="0">
            <a:blip r:embed="rId9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0"/>
          <a:stretch/>
        </p:blipFill>
        <p:spPr>
          <a:xfrm>
            <a:off x="0" y="0"/>
            <a:ext cx="1895400" cy="17524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11"/>
          <a:stretch/>
        </p:blipFill>
        <p:spPr>
          <a:xfrm>
            <a:off x="0" y="5084640"/>
            <a:ext cx="1666800" cy="17733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4695840" y="981000"/>
            <a:ext cx="3692520" cy="41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ffcc"/>
                </a:solidFill>
                <a:latin typeface="Verdana"/>
              </a:rPr>
              <a:t>Aprendemos com as estações que não se desiste da vida, nem de ser, nem de tentar, nem de querer e que será sempre possível dar a volta por cima, apesar das contrariedades do caminh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ffcc"/>
                </a:solidFill>
                <a:latin typeface="Verdana"/>
              </a:rPr>
              <a:t>O majestoso so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ffcc"/>
                </a:solidFill>
                <a:latin typeface="Verdana"/>
              </a:rPr>
              <a:t>deixa-se muitas vezes encobrir por nuvens, mas ele volta sempre e sempr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8000">
    <p:push dir="r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333360"/>
            <a:ext cx="8496000" cy="6191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5280" y="404640"/>
            <a:ext cx="8353440" cy="6048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68360" y="476280"/>
            <a:ext cx="8207280" cy="5905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39640" y="549360"/>
            <a:ext cx="4103640" cy="5759280"/>
          </a:xfrm>
          <a:prstGeom prst="ellipse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11280" y="620640"/>
            <a:ext cx="3960720" cy="5616720"/>
          </a:xfrm>
          <a:prstGeom prst="ellipse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826920" y="692280"/>
            <a:ext cx="3673800" cy="5473440"/>
          </a:xfrm>
          <a:prstGeom prst="ellipse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900000" y="765000"/>
            <a:ext cx="3527640" cy="5328000"/>
          </a:xfrm>
          <a:prstGeom prst="ellipse">
            <a:avLst/>
          </a:prstGeom>
          <a:blipFill rotWithShape="0">
            <a:blip r:embed="rId9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0"/>
          <a:stretch/>
        </p:blipFill>
        <p:spPr>
          <a:xfrm>
            <a:off x="0" y="0"/>
            <a:ext cx="1895400" cy="17524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11"/>
          <a:stretch/>
        </p:blipFill>
        <p:spPr>
          <a:xfrm>
            <a:off x="0" y="5084640"/>
            <a:ext cx="1666800" cy="177336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4624560" y="1628640"/>
            <a:ext cx="3763800" cy="32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ffcc"/>
                </a:solidFill>
                <a:latin typeface="Verdana"/>
              </a:rPr>
              <a:t>Fomos feitos para viv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ffcc"/>
                </a:solidFill>
                <a:latin typeface="Verdana"/>
              </a:rPr>
              <a:t>Fomos criados para bem viv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ffcc"/>
                </a:solidFill>
                <a:latin typeface="Verdana"/>
              </a:rPr>
              <a:t>Somos flores às vezes em terra fértil, outras em terreno árido, mas flores ainda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ffcc"/>
                </a:solidFill>
                <a:latin typeface="Verdana"/>
              </a:rPr>
              <a:t>somos sóis e luas que não desistem de renasc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0">
    <p:push dir="r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4000" y="333360"/>
            <a:ext cx="8496000" cy="6191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95280" y="404640"/>
            <a:ext cx="8353440" cy="6048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68360" y="476280"/>
            <a:ext cx="8207280" cy="5905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9640" y="549360"/>
            <a:ext cx="4103640" cy="5759280"/>
          </a:xfrm>
          <a:prstGeom prst="ellipse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11280" y="620640"/>
            <a:ext cx="3960720" cy="5616720"/>
          </a:xfrm>
          <a:prstGeom prst="ellipse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26920" y="692280"/>
            <a:ext cx="3673800" cy="5473440"/>
          </a:xfrm>
          <a:prstGeom prst="ellipse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900000" y="765000"/>
            <a:ext cx="3527640" cy="5328000"/>
          </a:xfrm>
          <a:prstGeom prst="ellipse">
            <a:avLst/>
          </a:prstGeom>
          <a:blipFill rotWithShape="0">
            <a:blip r:embed="rId9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0"/>
          <a:stretch/>
        </p:blipFill>
        <p:spPr>
          <a:xfrm>
            <a:off x="0" y="0"/>
            <a:ext cx="1895400" cy="175248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11"/>
          <a:stretch/>
        </p:blipFill>
        <p:spPr>
          <a:xfrm>
            <a:off x="0" y="5084640"/>
            <a:ext cx="1666800" cy="17733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4788000" y="1557360"/>
            <a:ext cx="3671640" cy="32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ffcc"/>
                </a:solidFill>
                <a:latin typeface="Verdana"/>
              </a:rPr>
              <a:t>Somos poços de problemas ou rios de felicidade, mas somos cheios de possibilidades e o melhor de nós pode sempre sobressair, como tímidos e firmes raios de sol que varam as nuvens e acabam iluminando o d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6000">
    <p:push dir="r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24000" y="333360"/>
            <a:ext cx="8496000" cy="6191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95280" y="404640"/>
            <a:ext cx="8353440" cy="6048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68360" y="476280"/>
            <a:ext cx="8207280" cy="5905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6"/>
          <a:stretch/>
        </p:blipFill>
        <p:spPr>
          <a:xfrm>
            <a:off x="0" y="0"/>
            <a:ext cx="1895400" cy="17524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7"/>
          <a:stretch/>
        </p:blipFill>
        <p:spPr>
          <a:xfrm>
            <a:off x="0" y="5084640"/>
            <a:ext cx="1666800" cy="177336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900000" y="692280"/>
            <a:ext cx="7417080" cy="5473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971640" y="765000"/>
            <a:ext cx="7272360" cy="53280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042920" y="1474920"/>
            <a:ext cx="7129440" cy="29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ccffcc"/>
                </a:solidFill>
                <a:latin typeface="Verdana"/>
              </a:rPr>
              <a:t>Crédit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ccffcc"/>
                </a:solidFill>
                <a:latin typeface="Verdana"/>
              </a:rPr>
              <a:t>Texto: Letícia Thompson – As lições da naturez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ccffcc"/>
                </a:solidFill>
                <a:uFillTx/>
                <a:latin typeface="Verdana"/>
                <a:hlinkClick r:id="rId10"/>
              </a:rPr>
              <a:t>www.leticiathompson.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ccffcc"/>
                </a:solidFill>
                <a:latin typeface="Verdana"/>
              </a:rPr>
              <a:t>Imagens: Int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ccffcc"/>
                </a:solidFill>
                <a:latin typeface="Verdana"/>
              </a:rPr>
              <a:t>Música: Secret Garden – Poem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ccffcc"/>
                </a:solidFill>
                <a:latin typeface="Verdana"/>
              </a:rPr>
              <a:t>Formatação: Beth Nor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ccffcc"/>
                </a:solidFill>
                <a:latin typeface="Verdana"/>
              </a:rPr>
              <a:t>E-mail: </a:t>
            </a:r>
            <a:r>
              <a:rPr b="0" lang="pt-BR" sz="2000" spc="-1" strike="noStrike" u="sng">
                <a:solidFill>
                  <a:srgbClr val="ccffcc"/>
                </a:solidFill>
                <a:uFillTx/>
                <a:latin typeface="Verdana"/>
                <a:hlinkClick r:id="rId11"/>
              </a:rPr>
              <a:t>bethnorling@globo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r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8T22:27:52Z</dcterms:created>
  <dc:creator>Beth Norling</dc:creator>
  <dc:description/>
  <dc:language>en-US</dc:language>
  <cp:lastModifiedBy>Beth Norling</cp:lastModifiedBy>
  <dcterms:modified xsi:type="dcterms:W3CDTF">2007-06-09T18:17:20Z</dcterms:modified>
  <cp:revision>7</cp:revision>
  <dc:subject/>
  <dc:title>As_licoes_da_natureza</dc:title>
</cp:coreProperties>
</file>