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Ernesto%20Cortazar%20-%20River%20of%20Dreams%20-cut8.wav" ContentType="audio/x-wav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9294-CF3E-44DE-AB37-0A81994C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B514-364C-4809-9CD4-CD007A23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0D52-0AFD-4B07-8C2B-A1D28823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B00-848B-4A2D-83B1-243B8A5D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536F-5109-4859-B8D3-AE811E12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6FA1-BF8C-45F7-98F1-CB0764AD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8AD-CCA8-48C0-BAAB-015A4232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A1F6-9F99-40FB-B27D-703C72C5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4560-0E18-428F-9E4B-A2B3A627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C8D4-A530-4F0B-A1B3-8F54DDEA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FAC5-44D2-4996-9E39-97025F80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F32C-8ABF-4174-AFDC-1B65E0B7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84A9-2BC0-46F5-9433-BB5CF09DE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Ernesto%20Cortazar%20-%20River%20of%20Dreams%20-cut8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611"/>
            </a:avLst>
          </a:prstGeom>
          <a:gradFill rotWithShape="0">
            <a:gsLst>
              <a:gs pos="0">
                <a:srgbClr val="000000"/>
              </a:gs>
              <a:gs pos="50000">
                <a:srgbClr val="cccc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jesus%20solitário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248160"/>
          </a:xfrm>
          <a:prstGeom prst="rect">
            <a:avLst/>
          </a:prstGeom>
          <a:ln w="38160">
            <a:solidFill>
              <a:srgbClr val="faf400"/>
            </a:solidFill>
            <a:miter/>
          </a:ln>
        </p:spPr>
      </p:pic>
      <p:sp>
        <p:nvSpPr>
          <p:cNvPr id="43" name=""/>
          <p:cNvSpPr/>
          <p:nvPr/>
        </p:nvSpPr>
        <p:spPr>
          <a:xfrm flipH="1">
            <a:off x="6019920" y="380880"/>
            <a:ext cx="2666880" cy="1905120"/>
          </a:xfrm>
          <a:custGeom>
            <a:avLst/>
            <a:gdLst>
              <a:gd name="textAreaLeft" fmla="*/ 416880 w 2666880"/>
              <a:gd name="textAreaRight" fmla="*/ 2667240 w 266688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21600" h="21600">
                <a:moveTo>
                  <a:pt x="3375" y="0"/>
                </a:moveTo>
                <a:lnTo>
                  <a:pt x="21600" y="0"/>
                </a:ln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21600" y="21600"/>
                </a:lnTo>
                <a:lnTo>
                  <a:pt x="3375" y="21600"/>
                </a:lnTo>
                <a:close/>
              </a:path>
              <a:path w="21600" h="21600">
                <a:moveTo>
                  <a:pt x="0" y="0"/>
                </a:moveTo>
                <a:lnTo>
                  <a:pt x="675" y="0"/>
                </a:lnTo>
                <a:lnTo>
                  <a:pt x="675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350" y="0"/>
                </a:moveTo>
                <a:lnTo>
                  <a:pt x="2700" y="0"/>
                </a:lnTo>
                <a:lnTo>
                  <a:pt x="2700" y="21600"/>
                </a:lnTo>
                <a:lnTo>
                  <a:pt x="1350" y="216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6019920" y="2362320"/>
            <a:ext cx="2666880" cy="1981080"/>
          </a:xfrm>
          <a:custGeom>
            <a:avLst/>
            <a:gdLst>
              <a:gd name="textAreaLeft" fmla="*/ 416880 w 2666880"/>
              <a:gd name="textAreaRight" fmla="*/ 2667240 w 266688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3375" y="0"/>
                </a:moveTo>
                <a:lnTo>
                  <a:pt x="21600" y="0"/>
                </a:ln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21600" y="21600"/>
                </a:lnTo>
                <a:lnTo>
                  <a:pt x="3375" y="21600"/>
                </a:lnTo>
                <a:close/>
              </a:path>
              <a:path w="21600" h="21600">
                <a:moveTo>
                  <a:pt x="0" y="0"/>
                </a:moveTo>
                <a:lnTo>
                  <a:pt x="675" y="0"/>
                </a:lnTo>
                <a:lnTo>
                  <a:pt x="675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350" y="0"/>
                </a:moveTo>
                <a:lnTo>
                  <a:pt x="2700" y="0"/>
                </a:lnTo>
                <a:lnTo>
                  <a:pt x="2700" y="21600"/>
                </a:lnTo>
                <a:lnTo>
                  <a:pt x="1350" y="216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6019920" y="4495680"/>
            <a:ext cx="2666880" cy="1905120"/>
          </a:xfrm>
          <a:custGeom>
            <a:avLst/>
            <a:gdLst>
              <a:gd name="textAreaLeft" fmla="*/ 416880 w 2666880"/>
              <a:gd name="textAreaRight" fmla="*/ 2667240 w 266688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21600" h="21600">
                <a:moveTo>
                  <a:pt x="3375" y="0"/>
                </a:moveTo>
                <a:lnTo>
                  <a:pt x="21600" y="0"/>
                </a:ln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21600" y="21600"/>
                </a:lnTo>
                <a:lnTo>
                  <a:pt x="3375" y="21600"/>
                </a:lnTo>
                <a:close/>
              </a:path>
              <a:path w="21600" h="21600">
                <a:moveTo>
                  <a:pt x="0" y="0"/>
                </a:moveTo>
                <a:lnTo>
                  <a:pt x="675" y="0"/>
                </a:lnTo>
                <a:lnTo>
                  <a:pt x="675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350" y="0"/>
                </a:moveTo>
                <a:lnTo>
                  <a:pt x="2700" y="0"/>
                </a:lnTo>
                <a:lnTo>
                  <a:pt x="2700" y="21600"/>
                </a:lnTo>
                <a:lnTo>
                  <a:pt x="1350" y="216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533520"/>
            <a:ext cx="44769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solidFill>
                  <a:srgbClr val="ecf35f">
                    <a:alpha val="50000"/>
                  </a:srgbClr>
                </a:solidFill>
                <a:effectLst>
                  <a:outerShdw dist="17819" dir="2700000" blurRad="0" rotWithShape="0">
                    <a:srgbClr val="8d9138"/>
                  </a:outerShdw>
                </a:effectLst>
                <a:latin typeface="Book Antiqua"/>
              </a:rPr>
              <a:t>O Rei</a:t>
            </a:r>
            <a:endParaRPr b="1" i="1" lang="en-US" sz="7200" spc="1" strike="noStrike">
              <a:ln w="0">
                <a:noFill/>
              </a:ln>
              <a:solidFill>
                <a:srgbClr val="ecf35f">
                  <a:alpha val="50000"/>
                </a:srgbClr>
              </a:solidFill>
              <a:effectLst>
                <a:outerShdw dist="17819" dir="2700000" blurRad="0" rotWithShape="0">
                  <a:srgbClr val="8d9138"/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solidFill>
                  <a:srgbClr val="ecf35f">
                    <a:alpha val="50000"/>
                  </a:srgbClr>
                </a:solidFill>
                <a:effectLst>
                  <a:outerShdw dist="17819" dir="2700000" blurRad="0" rotWithShape="0">
                    <a:srgbClr val="8d9138"/>
                  </a:outerShdw>
                </a:effectLst>
                <a:latin typeface="Book Antiqua"/>
              </a:rPr>
              <a:t>da história</a:t>
            </a:r>
            <a:endParaRPr b="1" i="1" lang="en-US" sz="7200" spc="1" strike="noStrike">
              <a:ln w="0">
                <a:noFill/>
              </a:ln>
              <a:solidFill>
                <a:srgbClr val="ecf35f">
                  <a:alpha val="50000"/>
                </a:srgbClr>
              </a:solidFill>
              <a:effectLst>
                <a:outerShdw dist="17819" dir="2700000" blurRad="0" rotWithShape="0">
                  <a:srgbClr val="8d9138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43000" y="4800600"/>
            <a:ext cx="362916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ecf35f">
                    <a:alpha val="50000"/>
                  </a:srgbClr>
                </a:solidFill>
                <a:effectLst>
                  <a:outerShdw dist="17819" dir="2700000" blurRad="0" rotWithShape="0">
                    <a:srgbClr val="8d9138"/>
                  </a:outerShdw>
                </a:effectLst>
                <a:latin typeface="Book Antiqua"/>
              </a:rPr>
              <a:t>Letícia Thompson</a:t>
            </a:r>
            <a:endParaRPr b="1" i="1" lang="en-US" sz="2400" spc="1" strike="noStrike">
              <a:ln w="0">
                <a:noFill/>
              </a:ln>
              <a:solidFill>
                <a:srgbClr val="ecf35f">
                  <a:alpha val="50000"/>
                </a:srgbClr>
              </a:solidFill>
              <a:effectLst>
                <a:outerShdw dist="17819" dir="2700000" blurRad="0" rotWithShape="0">
                  <a:srgbClr val="8d9138"/>
                </a:outerShdw>
              </a:effectLst>
              <a:latin typeface="Book Antiqua"/>
              <a:ea typeface="Book Antiqua"/>
            </a:endParaRPr>
          </a:p>
        </p:txBody>
      </p:sp>
    </p:spTree>
  </p:cSld>
  <p:transition spd="slow" advTm="21000">
    <p:randomBar dir="vert"/>
    <p:sndAc>
      <p:stSnd>
        <p:snd r:embed="rId5" name="Ernesto%20Cortazar%20-%20River%20of%20Dreams%20-cut8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FIO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7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609480"/>
            <a:ext cx="5410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</a:rPr>
              <a:t>Conta a história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</a:rPr>
              <a:t>Que o Rei da glória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</a:rPr>
              <a:t>Não tinha onde nascer.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</a:rPr>
              <a:t>E não foi em berço de ouro,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</a:rPr>
              <a:t>Cercado de tesouros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</a:rPr>
              <a:t>Que Ele veio ao mundo.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</a:rPr>
              <a:t>Foi com humildade,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</a:rPr>
              <a:t>Com toda simplicidade.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</a:rPr>
              <a:t>À nós se deu essa grande verdade: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</a:rPr>
              <a:t>Não importa onde você nasce,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</a:rPr>
              <a:t>Ou que você possui,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</a:rPr>
              <a:t>O mais importante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</a:rPr>
              <a:t>É o que você 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ee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2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jesus%20na%20pedra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5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533520"/>
            <a:ext cx="754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Guarda seu coração,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Tudo o que provém dele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Vai determinar sua vida.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Natal não é tradição,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Nem troca de presentes,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É Deus vindo em forma de homem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Para resgatar o próprio homem.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É o amor transformando-se em gente,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Para que o mundo seja diferente.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Ama-te a ti mesmo,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Ao que está ao teu lado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E ao que está distante,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O pobre, o necessitado, os sem esperança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E você vai ter entendido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A verdadeira mensagem do Nat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ee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2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0bf6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120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45720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0bf63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0bf63"/>
                </a:solidFill>
                <a:latin typeface="Times New Roman"/>
              </a:rPr>
              <a:t>Ernesto Cortazar - River of D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175248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bf63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bf63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2895480"/>
            <a:ext cx="716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a0bf63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firstslide"/>
          </p:cNvPr>
          <p:cNvSpPr/>
          <p:nvPr/>
        </p:nvSpPr>
        <p:spPr>
          <a:xfrm>
            <a:off x="762120" y="487692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0bf63"/>
                </a:solidFill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"/>
          </p:cNvPr>
          <p:cNvSpPr/>
          <p:nvPr/>
        </p:nvSpPr>
        <p:spPr>
          <a:xfrm>
            <a:off x="3429000" y="4724280"/>
            <a:ext cx="213372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a0bf63"/>
                </a:solidFill>
                <a:latin typeface="Times New Roman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a0bf63"/>
                </a:solidFill>
                <a:latin typeface="Times New Roman"/>
              </a:rPr>
              <a:t>Letíc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endshow"/>
          </p:cNvPr>
          <p:cNvSpPr/>
          <p:nvPr/>
        </p:nvSpPr>
        <p:spPr>
          <a:xfrm>
            <a:off x="6324480" y="4876920"/>
            <a:ext cx="190512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0bf63"/>
                </a:solidFill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ee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4:32:42Z</dcterms:created>
  <dc:creator>ssoliver@terra.com.br </dc:creator>
  <dc:description>Texto: Letícia Thompson </dc:description>
  <dc:language>en-US</dc:language>
  <cp:lastModifiedBy>Sérgio S. Oliver</cp:lastModifiedBy>
  <dcterms:modified xsi:type="dcterms:W3CDTF">2004-11-04T04:47:56Z</dcterms:modified>
  <cp:revision>2</cp:revision>
  <dc:subject>PPS</dc:subject>
  <dc:title>O Rei da história</dc:title>
</cp:coreProperties>
</file>