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gif" ContentType="image/gif"/>
  <Override PartName="/ppt/media/Ernesto%20Cortazar%20-%20Alone.wav" ContentType="audio/x-wav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B66-6AA8-44E9-ABC4-6AE64DF8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C6C-84BC-4CB4-BC6E-0A366591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932-1670-495B-A197-EB8A2D5C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7DE-503D-4E7B-B3D0-90FD229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5AF-CA9B-48C0-AA80-18D69CD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4BD-C975-4884-A366-89D3501C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5A6-6C99-4508-910D-2612C4EE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857-6F2F-4B7A-AA0B-435BE46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3A8-1CDD-444C-9B9D-C4F232A9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E8E-6243-48AA-99EC-BFCB513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8D7-E696-41AD-A175-F16A6E4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F9C-E0C6-44FA-ACCD-DFDCB59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91D-E5A9-4577-8A7C-A661E7B71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audio" Target="../media/Ernesto%20Cortazar%20-%20Alon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8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0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1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2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13.jpe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24720" cy="6191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280360" cy="6048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 flipH="1" rot="5400000">
            <a:off x="7514280" y="790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flipH="1" rot="5400000">
            <a:off x="7514280" y="5227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5400000">
            <a:off x="7514280" y="3140280"/>
            <a:ext cx="2421000" cy="838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484360" y="249228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66"/>
                  </a:outerShdw>
                </a:effectLst>
                <a:latin typeface="Arial Black"/>
              </a:rPr>
              <a:t>A PAZ INTERIOR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6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3933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66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66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24720" cy="6191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04640"/>
            <a:ext cx="8280360" cy="60487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 flipH="1" rot="5400000">
            <a:off x="7514280" y="790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 flipH="1" rot="5400000">
            <a:off x="7514280" y="5227920"/>
            <a:ext cx="242100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 flipH="1" rot="5400000">
            <a:off x="7514280" y="3140280"/>
            <a:ext cx="24210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2000" y="191628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32360" y="1628640"/>
            <a:ext cx="390852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é esse caminho que queremos todos atravessar. É essa senda onde as culpas ficaram para trás, o sentimento de dever cumprido fica presente e o arco-íris aponta para o infinito. Buscamos todos, com vontade, força, verdadeira lu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3640" y="1700280"/>
            <a:ext cx="38354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mos, talvez, um pouco desajeitados nessa nossa busca. Queremos sim, com a força do nosso coração e da nossa alma, mas tropeçamos sempre nesses sentimentos humanos que nos fazem, se não iguais a todo mundo, bem par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84920" y="2133720"/>
            <a:ext cx="38350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umulamos os restos do dia, nos esquecemos de varrer a casa da alma a cada noite para o repouso tranqüilo e reparador para o novo recomeço na manhã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59280" y="907920"/>
            <a:ext cx="398160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os dificuldade em perdoar, esquecer, passar por cima e ir em frente. E a alma se inquieta, a paz tarda a chegar porque colocamos, nós mesmos, impedimentos. Achamos que dar o braço a torcer e seguir em frente seria nos curvar e somos por demais orgulhosos para isso. Optamos, então, por buscar a paz de outras maneiras. Outras maneiras... como se existissem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11840" y="1504800"/>
            <a:ext cx="390816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haverá paz no mundo enquanto ela não começar no coração do homem. Enquanto esse mesmo homem não começar a tirar de si as pedrinhas que incomodam a si e aos outros e não pensar na felicidade alheia como um objetivo tão importante como a felicidade próp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932360" y="1844640"/>
            <a:ext cx="3835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haverá paz interior enquanto o exterior estiver em guerra, enquanto não compreendermos que somos o sal da terra e que se nossa luz não brilhar todos os caminhos serão esc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3640" y="2565360"/>
            <a:ext cx="38163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não está no alto ou em baixo, nos mares ou nas montanhas e nem mesmo nas maravilhosas flores que tanto nos fascin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92280"/>
            <a:ext cx="9144000" cy="547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5000"/>
            <a:ext cx="9144000" cy="532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6640"/>
            <a:ext cx="9144000" cy="5184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3360"/>
            <a:ext cx="4464000" cy="6191280"/>
          </a:xfrm>
          <a:custGeom>
            <a:avLst/>
            <a:gdLst>
              <a:gd name="textAreaLeft" fmla="*/ 217800 w 4464000"/>
              <a:gd name="textAreaRight" fmla="*/ 4246200 w 4464000"/>
              <a:gd name="textAreaTop" fmla="*/ 217800 h 6191280"/>
              <a:gd name="textAreaBottom" fmla="*/ 5973480 h 6191280"/>
            </a:gdLst>
            <a:ahLst/>
            <a:rect l="textAreaLeft" t="textAreaTop" r="textAreaRight" b="textAreaBottom"/>
            <a:pathLst>
              <a:path w="21600" h="29957">
                <a:moveTo>
                  <a:pt x="3600" y="0"/>
                </a:moveTo>
                <a:arcTo wR="3600" hR="3600" stAng="16200000" swAng="-5400000"/>
                <a:lnTo>
                  <a:pt x="0" y="26357"/>
                </a:lnTo>
                <a:arcTo wR="3600" hR="3600" stAng="10800000" swAng="-5400000"/>
                <a:lnTo>
                  <a:pt x="18000" y="29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04640"/>
            <a:ext cx="4321080" cy="6048720"/>
          </a:xfrm>
          <a:custGeom>
            <a:avLst/>
            <a:gdLst>
              <a:gd name="textAreaLeft" fmla="*/ 210600 w 4321080"/>
              <a:gd name="textAreaRight" fmla="*/ 4110480 w 4321080"/>
              <a:gd name="textAreaTop" fmla="*/ 210600 h 6048720"/>
              <a:gd name="textAreaBottom" fmla="*/ 5838120 h 604872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 rot="16200000">
            <a:off x="-783360" y="78300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 rot="16200000">
            <a:off x="-783360" y="3132360"/>
            <a:ext cx="2421000" cy="853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 rot="16200000">
            <a:off x="-783360" y="5220000"/>
            <a:ext cx="2421000" cy="853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859280" y="1844640"/>
            <a:ext cx="39816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paz interior começa onde começa nossa compreensão de que nada somos se de nós não damos. Se não a encontramos, é porque buscamos errado. Ela não começa do lado de fora, ela começa e se termina em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9:53:03Z</dcterms:created>
  <dc:creator>Beth Norling</dc:creator>
  <dc:description/>
  <dc:language>en-US</dc:language>
  <cp:lastModifiedBy>Beth Norling</cp:lastModifiedBy>
  <dcterms:modified xsi:type="dcterms:W3CDTF">2008-04-26T21:04:47Z</dcterms:modified>
  <cp:revision>10</cp:revision>
  <dc:subject/>
  <dc:title>A_paz_interior</dc:title>
</cp:coreProperties>
</file>