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gif" ContentType="image/gif"/>
  <Override PartName="/ppt/media/Ernesto%20Cortazar%20-%20Alone.wav" ContentType="audio/x-wav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A80-AC3A-4610-8EA3-4C072365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2A7-7233-401A-B208-6BAB35B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155-9021-4CBF-8FE4-7AD77C35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7AB-3279-49CF-95F1-62E7343E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FDF-317F-4DCE-A31B-A8A1BC2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616-72C8-417F-8053-7841C05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F4B-9BF1-4D33-8B53-C79FE38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B91-BEA8-47DF-ACD1-8A98DDD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55C-6E2E-45A8-8EEB-F46F711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825-180A-45DC-8942-45783CE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D5D-7649-4619-8978-7BE12C5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084-C1C8-4FE7-8B9F-E43B509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2E8-60DD-4149-B093-7386680E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audio" Target="../media/Ernesto%20Cortazar%20-%20Alon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8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0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1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2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3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24720" cy="6191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280360" cy="6048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flipH="1" rot="5400000">
            <a:off x="7514280" y="790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flipH="1" rot="5400000">
            <a:off x="7514280" y="5227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5400000">
            <a:off x="7514280" y="3140280"/>
            <a:ext cx="2421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484360" y="249228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66"/>
                  </a:outerShdw>
                </a:effectLst>
                <a:latin typeface="Arial Black"/>
              </a:rPr>
              <a:t>A PAZ INTERIOR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6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3933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66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6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24720" cy="6191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04640"/>
            <a:ext cx="8280360" cy="6048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 flipH="1" rot="5400000">
            <a:off x="7514280" y="790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 flipH="1" rot="5400000">
            <a:off x="7514280" y="5227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 flipH="1" rot="5400000">
            <a:off x="7514280" y="3140280"/>
            <a:ext cx="24210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191628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32360" y="1628640"/>
            <a:ext cx="390852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é esse caminho que queremos todos atravessar. É essa senda onde as culpas ficaram para trás, o sentimento de dever cumprido fica presente e o arco-íris aponta para o infinito. Buscamos todos, com vontade, força, verdadeira lu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3640" y="1700280"/>
            <a:ext cx="3835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mos, talvez, um pouco desajeitados nessa nossa busca. Queremos sim, com a força do nosso coração e da nossa alma, mas tropeçamos sempre nesses sentimentos humanos que nos fazem, se não iguais a todo mundo, bem par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84920" y="2133720"/>
            <a:ext cx="38350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umulamos os restos do dia, nos esquecemos de varrer a casa da alma a cada noite para o repouso tranqüilo e reparador para o novo recomeço na manhã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59280" y="907920"/>
            <a:ext cx="398160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os dificuldade em perdoar, esquecer, passar por cima e ir em frente. E a alma se inquieta, a paz tarda a chegar porque colocamos, nós mesmos, impedimentos. Achamos que dar o braço a torcer e seguir em frente seria nos curvar e somos por demais orgulhosos para isso. Optamos, então, por buscar a paz de outras maneiras. Outras maneiras... como se existissem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11840" y="1504800"/>
            <a:ext cx="390816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haverá paz no mundo enquanto ela não começar no coração do homem. Enquanto esse mesmo homem não começar a tirar de si as pedrinhas que incomodam a si e aos outros e não pensar na felicidade alheia como um objetivo tão importante como a felicidade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932360" y="1844640"/>
            <a:ext cx="3835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haverá paz interior enquanto o exterior estiver em guerra, enquanto não compreendermos que somos o sal da terra e que se nossa luz não brilhar todos os caminhos serão esc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3640" y="2565360"/>
            <a:ext cx="38163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não está no alto ou em baixo, nos mares ou nas montanhas e nem mesmo nas maravilhosas flores que tanto nos fascin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59280" y="1844640"/>
            <a:ext cx="39816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começa onde começa nossa compreensão de que nada somos se de nós não damos. Se não a encontramos, é porque buscamos errado. Ela não começa do lado de fora, ela começa e se termina em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9:53:03Z</dcterms:created>
  <dc:creator>Beth Norling</dc:creator>
  <dc:description/>
  <dc:language>en-US</dc:language>
  <cp:lastModifiedBy>Beth Norling</cp:lastModifiedBy>
  <dcterms:modified xsi:type="dcterms:W3CDTF">2008-04-26T21:04:47Z</dcterms:modified>
  <cp:revision>10</cp:revision>
  <dc:subject/>
  <dc:title>A_paz_interior</dc:title>
</cp:coreProperties>
</file>