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3.jpeg" ContentType="image/jpeg"/>
  <Override PartName="/ppt/media/image20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01%20Gracias%20a%20la%20vida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F6B-E0B8-4EC7-835A-8891AA57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D6D-C8D6-476F-964B-F2DAA8E7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23-471E-4584-925C-86FFF568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52C-E68D-4620-8827-47B98843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82E-E8CE-4690-89D8-FEFF351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2B4-7119-4792-A9DB-196EE7B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995-5FC0-4533-B674-76EAA11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136-3297-4866-8A61-9B107226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724-CFF5-474B-ABDF-B65CD3F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E25-AC83-496A-8315-85A865B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09E-235A-493F-8EC9-A81CB34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227-38DB-4321-9744-BC03703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90E-FDAB-4C7D-A50C-0728A99A4C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Gracias%20a%20la%20vi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89000"/>
            <a:ext cx="61912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Paternoster AH"/>
              </a:rPr>
              <a:t>En Chile,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Paternoster AH"/>
              <a:ea typeface="Paternoster A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Paternoster AH"/>
              </a:rPr>
              <a:t>¡hasta el desierto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Paternoster AH"/>
              <a:ea typeface="Paternoster A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Paternoster AH"/>
              </a:rPr>
              <a:t>florece!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Paternoster AH"/>
              <a:ea typeface="Paternoster AH"/>
            </a:endParaRPr>
          </a:p>
        </p:txBody>
      </p:sp>
    </p:spTree>
  </p:cSld>
  <p:transition spd="slow" advTm="7000">
    <p:cover dir="r"/>
    <p:sndAc>
      <p:stSnd>
        <p:snd r:embed="rId2" name="01%20Gracias%20a%20la%20vi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1840" y="111240"/>
            <a:ext cx="8516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o brotan si la cantidad de lluvia caída es suficiente para iniciar el ciclo. Así, en lugares en donde nunca se vio vegetación, aparecen plantas y flores en cantidades extraordin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120" y="182520"/>
            <a:ext cx="8445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un año lluvioso, el desierto se convierte en mar, en un mar de flores. Se atribuye este curioso acontecimiento climático al fenómeno del Niño- oscilación del s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ver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3120" y="255600"/>
            <a:ext cx="8372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s regiones privilegiadas con este maravilloso fenómeno son la carretera de la costa entre Puerto Viejo y Huasco. Los sectores más llamativos se encuentran en los llanos de Vallenar y Copiapó. Sin embargo, todo el desierto en general, se pone más verde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ver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1840" y="5229360"/>
            <a:ext cx="8588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 fenómeno del desierto florido provoca un fuerte impacto sobre el sistema ecológico de la zona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uran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te evento, aumenta en forma notable la cantidad de insectos y aves, de los cuales en años secos, se ven muy poco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82520"/>
            <a:ext cx="8351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e es hermoso de norte a sur y gracias a su geografía única, se puede llegar en unas horas a la montaña o al mar, a un volcán o a unas termas, a un géiser o a un bosque, a la cordillera o a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ver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1840" y="260280"/>
            <a:ext cx="86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arte de sus paisajes naturales, buen clima y vida cultural, las ciudades chilenas están entre las más económicas del mundo para vivir. Un estudio de Global Property Guide, que considera a 112 urbes del mundo, calificó a Santiago como la décima más barata en términos de metro cuad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5013360"/>
            <a:ext cx="8805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o aparte de los costos competitivos que ofrece Chile, destaca también su avance en materia de calidad de vida en los últimos años.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os ranking internacionales califican a Chile como uno de los mejores países para vivir en América Latina. Su capital, Santiago,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 la segunda mejor ciudad para vivir de América La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cover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136440"/>
            <a:ext cx="8661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sus montañas, su majestuosa Cordillera de los Andes, sus ríos y lagos, sus campos, su extenso mar y sus grandes ciudades, Chile es un país excep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126828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 DECODE"/>
              </a:rPr>
              <a:t>¡Un país en donde hasta el desierto florece!.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 DECODE"/>
              <a:ea typeface="AR DECODE"/>
            </a:endParaRPr>
          </a:p>
        </p:txBody>
      </p:sp>
    </p:spTree>
  </p:cSld>
  <p:transition spd="slow" advTm="10000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360" y="4005360"/>
            <a:ext cx="633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Andes"/>
              </a:rPr>
              <a:t>¡Felices fiestas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/>
                </a:outerShdw>
              </a:effectLst>
              <a:latin typeface="Andes"/>
              <a:ea typeface="And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Andes"/>
              </a:rPr>
              <a:t>patrias Chile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/>
                </a:outerShdw>
              </a:effectLst>
              <a:latin typeface="Andes"/>
              <a:ea typeface="Ande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6021360"/>
            <a:ext cx="2143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 ESSENCE"/>
              </a:rPr>
              <a:t>18 de Septiembre 201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 ESSENCE"/>
              <a:ea typeface="AR ESSENC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101080" y="6021360"/>
            <a:ext cx="609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Secret Recipe"/>
              </a:rPr>
              <a:t>Angie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Secret Recipe"/>
              <a:ea typeface="Secret Recip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8760" y="208080"/>
            <a:ext cx="87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desierto de Atacama, el más árido del mundo, ubicado al norte de Chile, se produce un fenómeno climático espectacula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136440"/>
            <a:ext cx="858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isaje desértico se convierte en un jardín, con más de 200 tipos de flores, únicas en el mundo, que cubren valles y cerros. Esto, gracias a las lluvias de invierno que caen en la zona, entre Julio y Septiembre y que a veces son superiores a los 15 m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3120" y="208080"/>
            <a:ext cx="858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En los comienzos de Octubre y hasta fines de Noviembre, ¡nadie podría imaginar que lo que ven sus ojos es un desier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182520"/>
            <a:ext cx="8588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res de todos colores aparecen, principalmente cerca de la costa, formando una hermosa alfombra multicolo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5805360"/>
            <a:ext cx="8732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s de las más bellas son las "añañucas", que crecen de diferentes col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1840" y="260280"/>
            <a:ext cx="8661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mbién la "garra de león", de tono rojo y amarillo, que puede alcanzar u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ámetro de 15 cm. y lamentablemente se encuentra en peligro de exti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8760" y="208080"/>
            <a:ext cx="866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cuando la lluvia no se deja ver por esa zona y se mantiene seca, bajo las rocas, las semillas esperan pacientemente, a que el cielo riegue esos suelos, para florec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1840" y="5222880"/>
            <a:ext cx="8516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fenómeno se produce de 3 a 8 años, dependiendo de las lluvias y es posible gracias a la capacidad de las plantas, adaptadas al clima desértico, de mantener sus semillas bajo unos centímetros de la superficie, por años y hasta por déc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52:30Z</dcterms:created>
  <dc:creator>angelica garcia</dc:creator>
  <dc:description/>
  <dc:language>en-US</dc:language>
  <cp:lastModifiedBy>angelica garcia</cp:lastModifiedBy>
  <dcterms:modified xsi:type="dcterms:W3CDTF">2011-09-17T17:48:53Z</dcterms:modified>
  <cp:revision>12</cp:revision>
  <dc:subject/>
  <dc:title>Diapositiva 1</dc:title>
</cp:coreProperties>
</file>