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3.jpeg" ContentType="image/jpeg"/>
  <Override PartName="/ppt/media/image20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01%20Gracias%20a%20la%20vida.wav" ContentType="audio/x-wav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EF6D-523E-404F-9DF8-4D39E204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24BB-FA8D-4BBB-8668-4B91655A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2DEF-C3BE-4E12-8518-8FDDF59E2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4E25-55A9-4F24-BF62-82BABA588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7948-9E9C-41BC-9196-4EA50B94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3C15-5409-48C5-93C0-410619E9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F440-7C5A-4F61-9CC9-6693BD40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8A55-8477-4F62-89E3-582DFBEF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1E31-DBB0-4C7C-B142-2F9B867B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2162-91A8-406B-83DC-F1637090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87E2-AB6A-426C-ABB8-71A13EE9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1C87-8257-45C8-AFBD-422A7684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D55E-4749-4D6E-8A29-35DF465DD84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1%20Gracias%20a%20la%20vid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76360" y="189000"/>
            <a:ext cx="6191280" cy="36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0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Paternoster AH"/>
              </a:rPr>
              <a:t>En Chile,</a:t>
            </a:r>
            <a:endParaRPr b="1" lang="en-US" sz="66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Paternoster AH"/>
              <a:ea typeface="Paternoster AH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Paternoster AH"/>
              </a:rPr>
              <a:t>¡hasta el desierto</a:t>
            </a:r>
            <a:endParaRPr b="1" lang="en-US" sz="66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Paternoster AH"/>
              <a:ea typeface="Paternoster AH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Paternoster AH"/>
              </a:rPr>
              <a:t>florece!</a:t>
            </a:r>
            <a:endParaRPr b="1" lang="en-US" sz="66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Paternoster AH"/>
              <a:ea typeface="Paternoster AH"/>
            </a:endParaRPr>
          </a:p>
        </p:txBody>
      </p:sp>
    </p:spTree>
  </p:cSld>
  <p:transition spd="slow" advTm="7000">
    <p:cover dir="r"/>
    <p:sndAc>
      <p:stSnd>
        <p:snd r:embed="rId2" name="01%20Gracias%20a%20la%20vid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1840" y="111240"/>
            <a:ext cx="851688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o brotan si la cantidad de lluvia caída es suficiente para iniciar el ciclo. Así, en lugares en donde nunca se vio vegetación, aparecen plantas y flores en cantidades extraordinari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cover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3120" y="182520"/>
            <a:ext cx="844560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 un año lluvioso, el desierto se convierte en mar, en un mar de flores. Se atribuye este curioso acontecimiento climático al fenómeno del Niño- oscilación del s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cover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3120" y="255600"/>
            <a:ext cx="83725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Las regiones privilegiadas con este maravilloso fenómeno son la carretera de la costa entre Puerto Viejo y Huasco. Los sectores más llamativos se encuentran en los llanos de Vallenar y Copiapó. Sin embargo, todo el desierto en general, se pone más verde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cover dir="r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1840" y="5229360"/>
            <a:ext cx="85881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l fenómeno del desierto florido provoca un fuerte impacto sobre el sistema ecológico de la zona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urant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te evento, aumenta en forma notable la cantidad de insectos y aves, de los cuales en años secos, se ven muy poco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over dir="r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82520"/>
            <a:ext cx="835164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ile es hermoso de norte a sur y gracias a su geografía única, se puede llegar en unas horas a la montaña o al mar, a un volcán o a unas termas, a un géiser o a un bosque, a la cordillera o al ca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cover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1840" y="260280"/>
            <a:ext cx="866124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parte de sus paisajes naturales, buen clima y vida cultural, las ciudades chilenas están entre las más económicas del mundo para vivir. Un estudio de Global Property Guide, que considera a 112 urbes del mundo, calificó a Santiago como la décima más barata en términos de metro cuad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7000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7480" y="5013360"/>
            <a:ext cx="880560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ero aparte de los costos competitivos que ofrece Chile, destaca también su avance en materia de calidad de vida en los últimos años.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Los ranking internacionales califican a Chile como uno de los mejores países para vivir en América Latina. Su capital, Santiago, 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 la segunda mejor ciudad para vivir de América Lat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9000">
    <p:cover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8760" y="136440"/>
            <a:ext cx="866124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 sus montañas, su majestuosa Cordillera de los Andes, sus ríos y lagos, sus campos, su extenso mar y sus grandes ciudades, Chile es un país excep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4000" y="1268280"/>
            <a:ext cx="8280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 DECODE"/>
              </a:rPr>
              <a:t>¡Un país en donde hasta el desierto florece!.</a:t>
            </a:r>
            <a:endParaRPr b="1" lang="en-US" sz="4000" spc="1" strike="noStrike">
              <a:ln w="0">
                <a:noFill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 DECODE"/>
              <a:ea typeface="AR DECODE"/>
            </a:endParaRPr>
          </a:p>
        </p:txBody>
      </p:sp>
    </p:spTree>
  </p:cSld>
  <p:transition spd="slow" advTm="10000">
    <p:cover dir="r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76360" y="4005360"/>
            <a:ext cx="63374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1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07932" dir="2700000" blurRad="0" rotWithShape="0">
                    <a:srgbClr val="000000"/>
                  </a:outerShdw>
                </a:effectLst>
                <a:latin typeface="Andes"/>
              </a:rPr>
              <a:t>¡Felices fiestas 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07932" dir="2700000" blurRad="0" rotWithShape="0">
                  <a:srgbClr val="000000"/>
                </a:outerShdw>
              </a:effectLst>
              <a:latin typeface="Andes"/>
              <a:ea typeface="Ande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07932" dir="2700000" blurRad="0" rotWithShape="0">
                    <a:srgbClr val="000000"/>
                  </a:outerShdw>
                </a:effectLst>
                <a:latin typeface="Andes"/>
              </a:rPr>
              <a:t>patrias Chile!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07932" dir="2700000" blurRad="0" rotWithShape="0">
                  <a:srgbClr val="000000"/>
                </a:outerShdw>
              </a:effectLst>
              <a:latin typeface="Andes"/>
              <a:ea typeface="Andes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9640" y="6021360"/>
            <a:ext cx="21430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 ESSENCE"/>
              </a:rPr>
              <a:t>18 de Septiembre 2011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 ESSENCE"/>
              <a:ea typeface="AR ESSENCE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101080" y="6021360"/>
            <a:ext cx="6094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Secret Recipe"/>
              </a:rPr>
              <a:t>Angie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Secret Recipe"/>
              <a:ea typeface="Secret Recipe"/>
            </a:endParaRPr>
          </a:p>
        </p:txBody>
      </p:sp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82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8760" y="208080"/>
            <a:ext cx="87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el desierto de Atacama, el más árido del mundo, ubicado al norte de Chile, se produce un fenómeno climático espectacula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cover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1840" y="136440"/>
            <a:ext cx="858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paisaje desértico se convierte en un jardín, con más de 200 tipos de flores, únicas en el mundo, que cubren valles y cerros. Esto, gracias a las lluvias de invierno que caen en la zona, entre Julio y Septiembre y que a veces son superiores a los 15 mm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cover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3120" y="208080"/>
            <a:ext cx="85899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!En los comienzos de Octubre y hasta fines de Noviembre, ¡nadie podría imaginar que lo que ven sus ojos es un desier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1840" y="182520"/>
            <a:ext cx="85881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ores de todos colores aparecen, principalmente cerca de la costa, formando una hermosa alfombra multicolor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cover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1840" y="5805360"/>
            <a:ext cx="87328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as de las más bellas son las "añañucas", que crecen de diferentes col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1840" y="260280"/>
            <a:ext cx="866124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mbién la "garra de león", de tono rojo y amarillo, que puede alcanzar un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ámetro de 15 cm. y lamentablemente se encuentra en peligro de extin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cover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8760" y="208080"/>
            <a:ext cx="8661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o cuando la lluvia no se deja ver por esa zona y se mantiene seca, bajo las rocas, las semillas esperan pacientemente, a que el cielo riegue esos suelos, para florec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cover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1840" y="5222880"/>
            <a:ext cx="851688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fenómeno se produce de 3 a 8 años, dependiendo de las lluvias y es posible gracias a la capacidad de las plantas, adaptadas al clima desértico, de mantener sus semillas bajo unos centímetros de la superficie, por años y hasta por déc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cover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52:30Z</dcterms:created>
  <dc:creator>angelica garcia</dc:creator>
  <dc:description/>
  <dc:language>en-US</dc:language>
  <cp:lastModifiedBy>angelica garcia</cp:lastModifiedBy>
  <dcterms:modified xsi:type="dcterms:W3CDTF">2011-09-17T17:48:53Z</dcterms:modified>
  <cp:revision>12</cp:revision>
  <dc:subject/>
  <dc:title>Diapositiva 1</dc:title>
</cp:coreProperties>
</file>