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Ernesto%20Cortazar%20-%20Lara's%20Theme.wav" ContentType="audio/x-wav"/>
  <Override PartName="/ppt/media/image15.jpeg" ContentType="image/jpeg"/>
  <Override PartName="/ppt/media/image4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0B2-54A5-4FF5-9352-91C8B0F1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C3A-9C96-40E7-A15A-1FA5C509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6F2-86BD-4463-8230-D8564F2A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EB6-E4F2-4916-A9D2-D5F316C0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7E5-17C3-4AF9-83A6-223AB595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B64-F069-489A-9A1A-8601690B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6F6-E1FF-4CCD-8BAA-2E57AC48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5FC-0963-42A3-8FE2-A669F24F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F62-7AC6-44F3-AA73-C7CE85D3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609-1468-4A6B-9332-5FEC70B3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67F-71B1-4722-8022-D9C30998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3A1-2755-4625-974B-343F044D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95E0-8BFA-4EE9-B39A-CFE6F6500FF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audio" Target="../media/Ernesto%20Cortazar%20-%20Lara&apos;s%20Theme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5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0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2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3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547640" y="3141720"/>
            <a:ext cx="6201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LHERES E FLORES </a:t>
            </a:r>
            <a:endParaRPr b="0" i="1" lang="en-US" sz="40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4437000"/>
            <a:ext cx="34671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5480" y="4437000"/>
            <a:ext cx="69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amizade, inteiras, anjos visíveis,  doutoras e profess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23840" y="400536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história do mundo, canal pelo qual o próprio Deus fez-se conh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51520" y="2198520"/>
            <a:ext cx="563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exto: Letícia Thompson – Mulheres e F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úsica: Ernesto Cortazar – Lara’s Th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bethnorling@globo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95480" y="3168720"/>
            <a:ext cx="70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itos se enganam quando pensam que uma mulher é uma f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, não 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36450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Uma mulher é a terra que, fertiliz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nascer todas as flo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a mãe de todas el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o campo que recebe o sol e a chuv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florescer o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50760" y="3716280"/>
            <a:ext cx="715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uitivas, amam o adivinh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ra elas, importa menos o buquê de fl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pensei em você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que vem escondido atrás d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lus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23840" y="4292640"/>
            <a:ext cx="68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 acolhem assim a lembrança como se estivessem abraçando todas as flores e fossem delas a rainh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23840" y="414972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zem grandes as pequenas histórias e tornam menores as grandes 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23840" y="429264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 amor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eu finjo que sou frágil e você finge que acredita” lhes cai muit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23840" y="4221000"/>
            <a:ext cx="70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rdem a cabeça e não querem perder 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66760" y="479736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maternidade, grand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1:36:12Z</dcterms:created>
  <dc:creator>Beth Norling</dc:creator>
  <dc:description/>
  <dc:language>en-US</dc:language>
  <cp:lastModifiedBy>Letícia Thompson</cp:lastModifiedBy>
  <dcterms:modified xsi:type="dcterms:W3CDTF">2007-03-08T15:06:09Z</dcterms:modified>
  <cp:revision>6</cp:revision>
  <dc:subject/>
  <dc:title>Slide 1</dc:title>
</cp:coreProperties>
</file>