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Ernesto%20Cortazar%20-%20Lara's%20Theme.wav" ContentType="audio/x-wav"/>
  <Override PartName="/ppt/media/image15.jpeg" ContentType="image/jpeg"/>
  <Override PartName="/ppt/media/image4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648-2206-4702-8126-7EFD43BA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5B9-552A-4B6C-B48E-2DF28DC7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70F-8886-4725-9AC8-46F618E9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E80-8819-40A5-BF1C-6806915F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AD5-9E7A-44AF-828A-E69B0486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BDF-A61E-4964-98D4-F79D8BBE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480-AE30-408B-9E2A-0E584678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753-248D-4AB8-BE17-8DAD5D24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513-41C1-485E-B340-A1BB6CEF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566-CD09-4594-ABF7-B896F4F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192-9785-4802-9F94-50CAF5D3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3DC-F8F0-4037-9EB0-8DD4172A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A3C7-54F1-4E27-BBC7-FAA8C79D94B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audio" Target="../media/Ernesto%20Cortazar%20-%20Lara&apos;s%20Theme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5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0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2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3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547640" y="3141720"/>
            <a:ext cx="6201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ES E FLORES </a:t>
            </a:r>
            <a:endParaRPr b="0" i="1" lang="en-US" sz="40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443700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5480" y="443700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amizade, inteiras, anjos visíveis,  doutoras e prof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23840" y="400536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história do mundo, canal pelo qual o próprio Deus fez-se conh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51520" y="2198520"/>
            <a:ext cx="563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exto: Letícia Thompson – Mulheres e F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úsica: Ernesto Cortazar – Lara’s Th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bethnorling@globo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95480" y="3168720"/>
            <a:ext cx="70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itos se enganam quando pensam que uma mulher é uma f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, não 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645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Uma mulher é a terra que, fertiliz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nascer todas as flo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a mãe de todas el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o campo que recebe o sol e a chuv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florescer o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50760" y="3716280"/>
            <a:ext cx="71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uitivas, amam o adivinh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ra elas, importa menos o buquê de f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pensei em você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que vem escondido atrás d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lus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29264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 acolhem assim a lembrança como se estivessem abraçando todas as flores e fossem delas a rainh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23840" y="414972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zem grandes as pequenas histórias e tornam menores as grandes 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23840" y="429264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 amor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eu finjo que sou frágil e você finge que acredita” lhes cai muit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23840" y="4221000"/>
            <a:ext cx="70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rdem a cabeça e não querem perder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66760" y="479736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maternidade, grand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1:36:12Z</dcterms:created>
  <dc:creator>Beth Norling</dc:creator>
  <dc:description/>
  <dc:language>en-US</dc:language>
  <cp:lastModifiedBy>Letícia Thompson</cp:lastModifiedBy>
  <dcterms:modified xsi:type="dcterms:W3CDTF">2007-03-08T15:06:09Z</dcterms:modified>
  <cp:revision>6</cp:revision>
  <dc:subject/>
  <dc:title>Slide 1</dc:title>
</cp:coreProperties>
</file>