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BAE-7CFA-4704-8DE4-C093B4BD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855-E8E5-40B3-82A0-AFCAF7E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40E-2711-4112-9112-147CFFD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1C1-0D86-44F6-984E-6877F369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F70-91F1-4FA8-AB30-3B181C63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189-93A1-40C1-A7BC-39CBAC0C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009-9982-4644-AB97-1A70D53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4D5-81E5-407E-A397-E99DB69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2AA-5912-4028-9D9A-6DF0DD24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E8F-2BD7-4DEF-861C-A9E7D3B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5C1-017E-4C20-9E4E-322A789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C44-3A2F-4EFD-A3B6-9F9DF555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241-42E8-4B15-B4A0-EAFEA140CD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elinedion_overtheraibow.wav" TargetMode="External"/><Relationship Id="rId3" Type="http://schemas.microsoft.com/office/2007/relationships/media" Target="file:///tmp/home/.config/libreoffice/4/user/gallery/celinedion_overtheraibow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457200"/>
            <a:ext cx="845820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66ff66"/>
                </a:solidFill>
                <a:latin typeface="Lucida Handwriting"/>
              </a:rPr>
              <a:t>Um</a:t>
            </a:r>
            <a:r>
              <a:rPr b="0" lang="en-US" sz="4000" spc="-1" strike="noStrike">
                <a:solidFill>
                  <a:srgbClr val="99cc00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e80000"/>
                </a:solidFill>
                <a:latin typeface="Lucida Handwriting"/>
              </a:rPr>
              <a:t>toque de 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luz </a:t>
            </a:r>
            <a:r>
              <a:rPr b="0" lang="en-US" sz="4000" spc="-1" strike="noStrike">
                <a:solidFill>
                  <a:srgbClr val="ffff99"/>
                </a:solidFill>
                <a:latin typeface="Lucida Handwriting"/>
              </a:rPr>
              <a:t>e c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fca"/>
                </a:solidFill>
                <a:latin typeface="Lucida Handwriting"/>
              </a:rPr>
              <a:t>para</a:t>
            </a:r>
            <a:r>
              <a:rPr b="0" lang="en-US" sz="4000" spc="-1" strike="noStrike">
                <a:solidFill>
                  <a:srgbClr val="1b1bff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Lucida Handwriting"/>
              </a:rPr>
              <a:t>ter uma </a:t>
            </a: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em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41ff"/>
                </a:solidFill>
                <a:latin typeface="Lucida Handwriting"/>
              </a:rPr>
              <a:t>mais 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radiante</a:t>
            </a: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635280" y="278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920" y="189000"/>
            <a:ext cx="3809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7a05"/>
                </a:solidFill>
                <a:latin typeface="Lucida Handwriting"/>
              </a:rPr>
              <a:t>Imagina uma pirâmide de luz dour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7a05"/>
                </a:solidFill>
                <a:latin typeface="Lucida Handwriting"/>
              </a:rPr>
              <a:t>ao redor de teu corp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08240" y="4538520"/>
            <a:ext cx="57117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7a05"/>
                </a:solidFill>
                <a:latin typeface="Lucida Handwriting"/>
              </a:rPr>
              <a:t>...para proteger e  manter tua energia em perfeito  equilí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284720" y="0"/>
            <a:ext cx="39625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Imagina uma pirâmide de luz prateada em torno de tu corp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2637000"/>
            <a:ext cx="4068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regará tua energia com  a proteção divina</a:t>
            </a:r>
            <a:r>
              <a:rPr b="0" lang="en-US" sz="3200" spc="-1" strike="noStrike">
                <a:solidFill>
                  <a:srgbClr val="333333"/>
                </a:solidFill>
                <a:latin typeface="Lucida Handwrit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50"/>
                            </p:stCondLst>
                            <p:childTnLst>
                              <p:par>
                                <p:cTn id="1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7920" y="2349360"/>
            <a:ext cx="7739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Muita luz e muita cor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765000"/>
            <a:ext cx="266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317"/>
                </a:solidFill>
                <a:latin typeface="Lucida Handwriting"/>
              </a:rPr>
              <a:t>Um toque</a:t>
            </a:r>
            <a:r>
              <a:rPr b="0" lang="en-US" sz="3600" spc="-1" strike="noStrike">
                <a:solidFill>
                  <a:srgbClr val="ff4317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ff4317"/>
                </a:solidFill>
                <a:latin typeface="Lucida Handwriting"/>
              </a:rPr>
              <a:t>verme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00640"/>
            <a:ext cx="8534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4317"/>
                </a:solidFill>
                <a:latin typeface="Lucida Handwriting"/>
              </a:rPr>
              <a:t>... Para irradiar energía, sensualidade e paix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"/>
                            </p:stCondLst>
                            <p:childTnLst>
                              <p:par>
                                <p:cTn id="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457200"/>
            <a:ext cx="8305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5512"/>
                </a:solidFill>
                <a:latin typeface="Lucida Handwriting"/>
              </a:rPr>
              <a:t>  </a:t>
            </a:r>
            <a:r>
              <a:rPr b="0" lang="en-US" sz="3600" spc="-1" strike="noStrike">
                <a:solidFill>
                  <a:srgbClr val="ec5512"/>
                </a:solidFill>
                <a:latin typeface="Lucida Handwriting"/>
              </a:rPr>
              <a:t>Um  toque   laranj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95288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c5512"/>
                </a:solidFill>
                <a:latin typeface="Lucida Handwriting"/>
              </a:rPr>
              <a:t>...para perceber alegría, calor e criativid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75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Um  toque   amarel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8915400" cy="16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...para expandir inteligênci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      </a:t>
            </a: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entusiasmo e aumentar te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	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	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	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  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otim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75"/>
                            </p:stCondLst>
                            <p:childTnLst>
                              <p:par>
                                <p:cTn id="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762120"/>
            <a:ext cx="8305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1c8"/>
                </a:solidFill>
                <a:latin typeface="Lucida Handwriting"/>
              </a:rPr>
              <a:t>   </a:t>
            </a:r>
            <a:r>
              <a:rPr b="0" lang="en-US" sz="3600" spc="-1" strike="noStrike">
                <a:solidFill>
                  <a:srgbClr val="ff66cc"/>
                </a:solidFill>
                <a:latin typeface="Lucida Handwriting"/>
              </a:rPr>
              <a:t>Um toque  ros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181480"/>
            <a:ext cx="7925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Lucida Handwriting"/>
              </a:rPr>
              <a:t>para compartilhar o amor de teu coraç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d2"/>
                </a:solidFill>
                <a:latin typeface="Lucida Handwriting"/>
              </a:rPr>
              <a:t>Um toque azul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105520"/>
            <a:ext cx="8001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2"/>
                </a:solidFill>
                <a:latin typeface="Lucida Handwriting"/>
              </a:rPr>
              <a:t>...para equilibrar, tranqüilizar,   aumentar tua autoconfiança e intui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1268280"/>
            <a:ext cx="8534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ffa3"/>
                </a:solidFill>
                <a:latin typeface="Lucida Handwriting"/>
              </a:rPr>
              <a:t>  </a:t>
            </a:r>
            <a:r>
              <a:rPr b="0" lang="en-US" sz="3600" spc="-1" strike="noStrike">
                <a:solidFill>
                  <a:srgbClr val="d1ffa3"/>
                </a:solidFill>
                <a:latin typeface="Lucida Handwriting"/>
              </a:rPr>
              <a:t>Um  toque  ver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869000"/>
            <a:ext cx="755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d1ffa3"/>
                </a:solidFill>
                <a:latin typeface="Lucida Handwriting"/>
              </a:rPr>
              <a:t>...para  equilibrar e cur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6094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bbff"/>
                </a:solidFill>
                <a:latin typeface="Lucida Handwriting"/>
              </a:rPr>
              <a:t> </a:t>
            </a:r>
            <a:r>
              <a:rPr b="0" lang="en-US" sz="3200" spc="-1" strike="noStrike">
                <a:solidFill>
                  <a:srgbClr val="e089ff"/>
                </a:solidFill>
                <a:latin typeface="Lucida Handwriting"/>
              </a:rPr>
              <a:t>Um toque  violet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800600"/>
            <a:ext cx="8001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a0"/>
                </a:solidFill>
                <a:latin typeface="Lucida Handwriting"/>
              </a:rPr>
              <a:t>   </a:t>
            </a:r>
            <a:r>
              <a:rPr b="0" lang="en-US" sz="3200" spc="-1" strike="noStrike">
                <a:solidFill>
                  <a:srgbClr val="e089ff"/>
                </a:solidFill>
                <a:latin typeface="Lucida Handwriting"/>
              </a:rPr>
              <a:t>...para transmutar energias   negativas em positivas e reforçar o caminho espiri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609480"/>
            <a:ext cx="708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Um toque  branc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440" y="5346720"/>
            <a:ext cx="86868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5512"/>
                </a:solidFill>
                <a:latin typeface="Lucida Handwriting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...</a:t>
            </a:r>
            <a:r>
              <a:rPr b="0" lang="en-US" sz="3400" spc="-1" strike="noStrike">
                <a:solidFill>
                  <a:srgbClr val="ffffff"/>
                </a:solidFill>
                <a:latin typeface="Lucida Handwriting"/>
              </a:rPr>
              <a:t>para aumentar tua  paz interior e tua pureza de espírit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4:37:43Z</dcterms:created>
  <dc:creator/>
  <dc:description/>
  <dc:language>en-US</dc:language>
  <cp:lastModifiedBy>Rogério</cp:lastModifiedBy>
  <dcterms:modified xsi:type="dcterms:W3CDTF">2006-10-13T14:35:15Z</dcterms:modified>
  <cp:revision>39</cp:revision>
  <dc:subject/>
  <dc:title>Un toque de luz y color</dc:title>
</cp:coreProperties>
</file>