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SarahBrightman-LaCaliffa_-cu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94840" y="659772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Times New Roman"/>
              </a:rPr>
              <a:t>Colacio.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3673440" cy="63374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808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80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6477120"/>
            <a:ext cx="4572000" cy="3808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>
            <a:off x="4572000" y="6477120"/>
            <a:ext cx="4572000" cy="380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7"/>
          <a:stretch/>
        </p:blipFill>
        <p:spPr>
          <a:xfrm rot="5400000">
            <a:off x="5748840" y="3202920"/>
            <a:ext cx="6408720" cy="3808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8"/>
          <a:stretch/>
        </p:blipFill>
        <p:spPr>
          <a:xfrm rot="16200000">
            <a:off x="-3013560" y="3202920"/>
            <a:ext cx="640872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arahBrightman-LaCaliffa_-cut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79480" y="1865160"/>
            <a:ext cx="693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8200" y="1865160"/>
            <a:ext cx="721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71640" y="1844640"/>
            <a:ext cx="7272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LACIO. J SLID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PRESEN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516640"/>
            <a:ext cx="40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Rolagem dos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Auto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fade thruBlk="true"/>
    <p:sndAc>
      <p:stSnd>
        <p:snd r:embed="rId1" name="SarahBrightman-LaCaliffa_-cu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3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700000" y="2295360"/>
            <a:ext cx="553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e agradeço, Pai, por ser Tua filha,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or poder ver toda essa maravilha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que somente Tu poderias criar!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916360" y="4292640"/>
            <a:ext cx="337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presentação: Colacio.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95640" y="57340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8/07/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1341360"/>
            <a:ext cx="799308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utora Texto: Ilze Soa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Imagem da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úsica: La Califfa – Sarah Bright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presentação: Colacio.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ontato: colacio.j@superig.com.b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27/09/20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94960" y="4365720"/>
            <a:ext cx="79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Visite o site:  http://www.ilzesoares.recantodasletras.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32000" y="2492280"/>
            <a:ext cx="512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Prece de Todo Dia</a:t>
            </a: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48000" y="580536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Georgia"/>
              </a:rPr>
              <a:t>Texto de:  Ilze So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05400" y="2060640"/>
            <a:ext cx="591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nhor, mostre-me sempre o caminh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a alcançar teu amor e carinho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doe-me quando preciso for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sina-me o verdadeiro amor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81360" y="2081160"/>
            <a:ext cx="5371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Não me cegue diante da realidade,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or pior que seja a verdade.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juda-me a enfrentar provações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sem balbuciar reclamações.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26360" y="2081160"/>
            <a:ext cx="528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Dai-me a serenidade para aceitar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udo que eu não puder mudar.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Não me prives, Pai, da saúde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 que minha cabeça nunca mude.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84600" y="2081160"/>
            <a:ext cx="536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onserva a minha lucidez,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te que chegue minha vez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de partir daqui para outro mundo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desse Universo profundo.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14040" y="2081160"/>
            <a:ext cx="551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Que eu sempre veja com clareza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o real valor da natureza,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sabendo preservar tudo que criaste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 que neste mundo ainda existe.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62680" y="2081160"/>
            <a:ext cx="4415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Dai-me amigos verdadeiros,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leais e companheiros,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que me ajudem a dizer: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Sou feliz, amo viver!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97360" y="2295360"/>
            <a:ext cx="494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Deus, não me deixe insensível,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que eu possa aos outros ajudar,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sem jamais me intimidar.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lacio.j Slides</dc:creator>
  <dc:description>Autora Texto: Ilze Soares 
Imagem da internet
Música: La Califfa – Sarah Brightman
Apresentação: Colacio.j
Contato: colacio.j@superig.com.br
27/09/2012
</dc:description>
  <dc:language>en-US</dc:language>
  <cp:lastModifiedBy>terminal</cp:lastModifiedBy>
  <dcterms:modified xsi:type="dcterms:W3CDTF">2012-09-27T12:33:21Z</dcterms:modified>
  <cp:revision>10</cp:revision>
  <dc:subject>Apresentação slide</dc:subject>
  <dc:title>Prece de todo dia - Ilze Soares</dc:title>
</cp:coreProperties>
</file>