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2.jpeg" ContentType="image/jpeg"/>
  <Override PartName="/ppt/media/Ray%20Conniff%201.wav" ContentType="audio/x-wav"/>
  <Override PartName="/ppt/media/image2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FC2-1ED8-4768-8701-2D6E8681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E16-03F0-458F-A13D-B84412C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CA0-389B-4310-A25A-949CD090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2F7-CBAF-4A33-A1BB-B484393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60D-DA3D-42A0-A329-50615D0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5C2-76D6-402A-81BA-2733579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A2A-F424-46E1-BDB7-FB812DFD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865-BC0F-41DF-B01D-C7B67A52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68A-2E93-40E6-87DB-45BC7A8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D69-E75A-4D8B-9EE9-2212908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FFE-ED4C-487F-B0DF-5980748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5C7-02BD-4DB2-9863-F00688B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C396-19C4-4371-9813-86AEE1B3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ay%20Conniff%201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ercadolivre.com.br/org-img/items/MLB/012005/24806998_9726.jpg&amp;imgrefurl=http://shopping.interney.com.br/joias_relogios_e_oculos/joias_ouro/outros/&amp;h=90&amp;w=89&amp;sz=4&amp;tbnid=6CpFYc6qKIlISM:&amp;tbnh=74&amp;tbnw=73&amp;hl=pt-BR&amp;start=29&amp;prev=/images%3Fq%3Drelogio%2Bde%2Bpulso%2Bantigo%26start%3D20%26svnum%3D10%26hl%3Dpt-BR%26lr%3D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.br/imgres?imgurl=http://www.mercadolivre.com.br/org-img/items/MLB/102005/19999792_9973.jpg&amp;imgrefurl=http://produto.mercadolivre.com.br/MLB-33118929--_JM&amp;h=90&amp;w=89&amp;sz=3&amp;tbnid=KFnpE69ZZocLlM:&amp;tbnh=74&amp;tbnw=73&amp;hl=pt-BR&amp;start=1&amp;prev=/images%3Fq%3Dcal%25C3%25A7as%2Brisca%2Bde%2Bgiz%26svnum%3D10%26hl%3Dpt-BR%26lr%3D%26sa%3D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zanesville.ohiou.edu/emedia/Advertising%2520archive/images/coca%2520cola%25201939B.jpg&amp;imgrefurl=http://www.zanesville.ohiou.edu/emedia/Advertising%2520archive/&amp;h=675&amp;w=459&amp;sz=198&amp;tbnid=eREQ2Qf_kkL_dM:&amp;tbnh=137&amp;tbnw=93&amp;hl=pt-BR&amp;start=13&amp;prev=/images%3Fq%3Dcoca-cola%26svnum%3D10%26hl%3Dpt-BR%26lr%3D%26sa%3D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.br/imgres?imgurl=http://revisitampb.festim.net/archives/emilinha-borba.jpg&amp;imgrefurl=http://revisitampb.festim.net/&amp;h=386&amp;w=260&amp;sz=19&amp;tbnid=HxR7tuSI4sth4M:&amp;tbnh=119&amp;tbnw=80&amp;hl=pt-BR&amp;start=1&amp;prev=/images%3Fq%3DEmilinha%2BBorba%26svnum%3D10%26hl%3Dpt-BR%26lr%3D%26sa%3D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.br/imgres?imgurl=http://www.mpbnet.com.br/musicos/marlene/images/marlene.gif&amp;imgrefurl=http://www.mpbnet.com.br/musicos/marlene/&amp;h=245&amp;w=184&amp;sz=17&amp;tbnid=ghN6hVdPIE2MlM:&amp;tbnh=105&amp;tbnw=78&amp;hl=pt-BR&amp;start=64&amp;prev=/images%3Fq%3Dmarlene%26start%3D60%26svnum%3D10%26hl%3Dpt-BR%26lr%3D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.br/imgres?imgurl=http://katia.cabaretvoltaire.com/blog/imagens/scott.jpg&amp;imgrefurl=http://katia.cabaretvoltaire.com/blog/archives/2002_02.html&amp;h=150&amp;w=94&amp;sz=20&amp;tbnid=VbScgrLZV60vQM:&amp;tbnh=90&amp;tbnw=56&amp;hl=pt-BR&amp;start=1&amp;prev=/images%3Fq%3DEmuls%25C3%25A3o%2Bde%2BScott%26svnum%3D10%26hl%3Dpt-BR%26lr%3D%26sa%3D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geocities.com/Colosseum/4533/bianchi01.jpg&amp;imgrefurl=http://www.geocities.com/Colosseum/4533/foto0013.html&amp;h=274&amp;w=390&amp;sz=25&amp;tbnid=Jb5AXeeDL-uuiM:&amp;tbnh=84&amp;tbnw=120&amp;hl=pt-BR&amp;start=3&amp;prev=/images%3Fq%3DCopa%2BRoca%26svnum%3D10%26hl%3Dpt-BR%26lr%3D%26sa%3D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m-nazare.pt/monumentos/imagens/coreto.gif&amp;imgrefurl=http://www.cm-nazare.pt/monumentos/coreto.htm&amp;h=200&amp;w=200&amp;sz=24&amp;tbnid=MrMEv05_33ykDM:&amp;tbnh=99&amp;tbnw=99&amp;hl=pt-BR&amp;start=2&amp;prev=/images%3Fq%3DCoreto%26svnum%3D10%26hl%3Dpt-BR%26lr%3D%26sa%3D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.br/imgres?imgurl=http://www.cigarro.med.br/yolanda_small.jpg&amp;imgrefurl=http://www.cigarro.med.br/fotos.htm&amp;h=153&amp;w=100&amp;sz=5&amp;tbnid=L9itKF0wO8jnCM:&amp;tbnh=91&amp;tbnw=59&amp;hl=pt-BR&amp;start=1&amp;prev=/images%3Fq%3DCigarro%2BYolanda%26svnum%3D10%26hl%3Dpt-BR%26lr%3D%26sa%3D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.br/imgres?imgurl=http://www.terra.com.br/istoe/comport/images/145012b.jpg&amp;imgrefurl=http://www.terra.com.br/istoe/comport/145012.htm&amp;h=250&amp;w=250&amp;sz=15&amp;tbnid=hn-ID_Swx2s-iM:&amp;tbnh=106&amp;tbnw=106&amp;hl=pt-BR&amp;start=3&amp;prev=/images%3Fq%3DLeite%2Bde%2Bmagn%25C3%25A9sia%26svnum%3D10%26hl%3Dpt-BR%26lr%3D%26sa%3D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aringi.com.br/aberj/imagens/regu01.jpg&amp;imgrefurl=http://www.caringi.com.br/aberj/regulamentacao.htm&amp;h=174&amp;w=180&amp;sz=5&amp;tbnid=MhQRNuURJp3jrM:&amp;tbnh=92&amp;tbnw=96&amp;hl=pt-BR&amp;start=32&amp;prev=/images%3Fq%3DVintem%26start%3D20%26svnum%3D10%26hl%3Dpt-BR%26lr%3D%26sa%3DN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om.br/imgres?imgurl=http://img45.exs.cx/img45/6786/tostao_70.jpg&amp;imgrefurl=http://forum-numismatica.com/viewtopic.php%3Ft%3D192%26start%3D75%26sid%3D38971f07a30d0cfe9ab485d0bed49832&amp;h=951&amp;w=973&amp;sz=175&amp;tbnid=xwp3ZKfgX1dL-M:&amp;tbnh=144&amp;tbnw=148&amp;hl=pt-BR&amp;start=107&amp;prev=/images%3Fq%3DTOST%25C3%2583O%26start%3D100%26svnum%3D10%26hl%3Dpt-BR%26lr%3D%26sa%3D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.br/imgres?imgurl=http://www.numismatics.by.ru/c_images/portug20.jpg&amp;imgrefurl=http://www.numismatics.by.ru/c_pages/portug.htm&amp;h=146&amp;w=276&amp;sz=10&amp;tbnid=wJnX1uPpN47ACM:&amp;tbnh=57&amp;tbnw=109&amp;hl=pt-BR&amp;start=113&amp;prev=/images%3Fq%3DTOST%25C3%2583O%26start%3D100%26svnum%3D10%26hl%3Dpt-BR%26lr%3D%26sa%3D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.br/imgres?imgurl=http://www.promemoriadeindaiatuba.hpg.ig.com.br/museu/Imagens/4656.JPG&amp;imgrefurl=http://www.promemoriadeindaiatuba.hpg.ig.com.br/museu/numismatica.htm&amp;h=121&amp;w=240&amp;sz=7&amp;tbnid=WisKvtrU5OxtrM:&amp;tbnh=52&amp;tbnw=104&amp;hl=pt-BR&amp;start=77&amp;prev=/images%3Fq%3DVINTEM%26start%3D60%26svnum%3D10%26hl%3Dpt-BR%26lr%3D%26sa%3DN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orfo.net/Web/historiapublicidad/1961/Img/Veramon.gif&amp;imgrefurl=http://www.morfo.net/Web/historiapublicidad/1961/Pages/Iconos.html&amp;h=417&amp;w=300&amp;sz=19&amp;tbnid=IxkjWstQQWiJeM:&amp;tbnh=122&amp;tbnw=87&amp;hl=pt-BR&amp;start=2&amp;prev=/images%3Fq%3DVeramon%26svnum%3D10%26hl%3Dpt-BR%26lr%3D%26sa%3D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images.google.com.br/imgres?imgurl=http://www.novartis.com.br/products/pt/otc/cibalena.jpg&amp;imgrefurl=http://www.novartis.com.br/products/pt/otc.shtml&amp;h=117&amp;w=170&amp;sz=11&amp;tbnid=m2NwVtV5UoRvyM:&amp;tbnh=64&amp;tbnw=94&amp;hl=pt-BR&amp;start=2&amp;prev=/images%3Fq%3DCibalena%26svnum%3D10%26hl%3Dpt-BR%26lr%3D%26sa%3DG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images.google.com.br/imgres?imgurl=http://www2.anhembi.br/php/museudamoda/imagens/representacoes/11a.jpg&amp;imgrefurl=http://www2.anhembi.br/php/museudamoda/imagens.htm&amp;h=180&amp;w=125&amp;sz=21&amp;tbnid=oWAGIqZq-tn48M:&amp;tbnh=96&amp;tbnw=66&amp;hl=pt-BR&amp;start=24&amp;prev=/images%3Fq%3DRevista%2BFon-fon%26start%3D20%26svnum%3D10%26hl%3Dpt-BR%26lr%3D%26sa%3DN" TargetMode="External"/><Relationship Id="rId6" Type="http://schemas.openxmlformats.org/officeDocument/2006/relationships/image" Target="../media/image38.jpeg"/><Relationship Id="rId7" Type="http://schemas.openxmlformats.org/officeDocument/2006/relationships/hyperlink" Target="http://images.google.com.br/imgres?imgurl=http://feiramoderna.net/blog/img/eucalol_sdumont.jpg&amp;imgrefurl=http://www.feiramoderna.net/blog/&amp;h=300&amp;w=199&amp;sz=29&amp;tbnid=8SDkBJjU_1FxoM:&amp;tbnh=111&amp;tbnw=73&amp;hl=pt-BR&amp;start=1&amp;prev=/images%3Fq%3DEstampas%2BEucalol%26svnum%3D10%26hl%3Dpt-BR%26lr%3D%26sa%3DG" TargetMode="External"/><Relationship Id="rId8" Type="http://schemas.openxmlformats.org/officeDocument/2006/relationships/image" Target="../media/image39.jpeg"/><Relationship Id="rId9" Type="http://schemas.openxmlformats.org/officeDocument/2006/relationships/hyperlink" Target="http://images.google.com.br/imgres?imgurl=http://www.whirligig-tv.co.uk/tv/children/westerns/rintin3.jpg&amp;imgrefurl=http://www.whirligig-tv.co.uk/tv/children/westerns/rintintin.htm&amp;h=272&amp;w=227&amp;sz=8&amp;tbnid=xEiLhji8GAFscM:&amp;tbnh=108&amp;tbnw=90&amp;hl=pt-BR&amp;start=13&amp;prev=/images%3Fq%3DRin-tin-tin%26svnum%3D10%26hl%3Dpt-BR%26lr%3D%26sa%3DG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ercadolivre.com.br/org-img/items/MLB/102005/33365328_9888.jpg&amp;imgrefurl=http://produto.mercadolivre.com.br/MLB-32459092--_JM&amp;h=90&amp;w=90&amp;sz=3&amp;tbnid=d8I1HKpVw0EoyM:&amp;tbnh=74&amp;tbnw=74&amp;hl=pt-BR&amp;start=1&amp;prev=/images%3Fq%3Dradio%2Bcapelinha%26svnum%3D10%26hl%3Dpt-BR%26lr%3D%26sa%3DG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novomilenio.inf.br/ano01/0101b009f.jpg&amp;imgrefurl=http://novomilenio.inf.br/ano01/0101b009.htm&amp;h=399&amp;w=290&amp;sz=47&amp;tbnid=FvO-fhFaFkmsvM:&amp;tbnh=120&amp;tbnw=87&amp;hl=pt-BR&amp;start=3&amp;prev=/images%3Fq%3DAlmanaque%2BTico-tico%26svnum%3D10%26hl%3Dpt-BR%26lr%3D%26sa%3D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google.com.br/imgres?imgurl=http://www.novoaemfolha.com/arquivos/biotonico_fontoura.jpg&amp;imgrefurl=http://www.novoaemfolha.com/arquivos/cat__arquivos_maria_helena_novoa.html&amp;h=519&amp;w=360&amp;sz=29&amp;tbnid=T2zWl_EosT3a7M:&amp;tbnh=128&amp;tbnw=88&amp;hl=pt-BR&amp;start=6&amp;prev=/images%3Fq%3DBiot%25C3%25B4nico%2BFontoura%26svnum%3D10%26hl%3Dpt-BR%26lr%3D%26sa%3D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google.com.br/imgres?imgurl=http://www.aspirina.cl/img/nuevas/cafiaspirina.jpg&amp;imgrefurl=http://www.aspirina.cl/cafiaspirina.asp&amp;h=233&amp;w=200&amp;sz=14&amp;tbnid=cqO_OwFK-AI30M:&amp;tbnh=104&amp;tbnw=89&amp;hl=pt-BR&amp;start=1&amp;prev=/images%3Fq%3DCafiaspirina%26svnum%3D10%26hl%3Dpt-BR%26lr%3D%26sa%3D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google.com.br/imgres?imgurl=http://portalpublicitario.com/campanas/grafiteca/medicamentos/cafiaspirina.jpg&amp;imgrefurl=http://portalpublicitario.com/campanas/grafiteca/ver_imagen.asp%3Fid%3D156&amp;h=266&amp;w=348&amp;sz=105&amp;tbnid=bEIbDYmEzrozUM:&amp;tbnh=88&amp;tbnw=116&amp;hl=pt-BR&amp;start=20&amp;prev=/images%3Fq%3DCafiaspirina%26svnum%3D10%26hl%3Dpt-BR%26lr%3D%26sa%3D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brockerturismo.com.br/maria-fumaca.jpg&amp;imgrefurl=http://www.brockerturismo.com.br/&amp;h=170&amp;w=197&amp;sz=6&amp;tbnid=7lIt57NQRUM2pM:&amp;tbnh=84&amp;tbnw=98&amp;hl=pt-BR&amp;start=2&amp;prev=/images%3Fq%3DTrem%2B%2522Maria%2BFuma%25C3%25A7a%2522%26svnum%3D10%26hl%3Dpt-BR%26lr%3D%26sa%3D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com.br/imgres?imgurl=http://memoriaviva.digi.com.br/careta/cruzeirop.jpg&amp;imgrefurl=http://memoriaviva.digi.com.br/careta/outras.htm&amp;h=209&amp;w=155&amp;sz=16&amp;tbnid=l8SK2lwUA11BVM:&amp;tbnh=100&amp;tbnw=74&amp;hl=pt-BR&amp;start=3&amp;prev=/images%3Fq%3Drevista%2BO%2BCRUZEIRO%26svnum%3D10%26hl%3Dpt-BR%26lr%3D%26sa%3D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lidernet.com.br/loja/fotos/0004413.jpg&amp;imgrefurl=http://preco2.buscape.com.br/cera-pasta.html&amp;h=73&amp;w=128&amp;sz=6&amp;tbnid=Wv2mOknyMyiFHM:&amp;tbnh=48&amp;tbnw=85&amp;hl=pt-BR&amp;start=1&amp;prev=/images%3Fq%3DCera%2BParquetina%26svnum%3D10%26hl%3Dpt-BR%26lr%3D%26sa%3D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images.google.com.br/imgres?imgurl=http://geocities.yahoo.com.br/fld2001/gvpet.jpg&amp;imgrefurl=http://geocities.yahoo.com.br/fld2001/legadodevargas.htm&amp;h=469&amp;w=488&amp;sz=32&amp;tbnid=dW7WGhWGmrovSM:&amp;tbnh=122&amp;tbnw=127&amp;hl=pt-BR&amp;start=16&amp;prev=/images%3Fq%3DGetulio%2BVargas%26svnum%3D10%26hl%3Dpt-BR%26lr%3D%26sa%3DG" TargetMode="External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adorocinemabrasileiro.com.br/filmes/primeira-missa/primeira-missa-poster01.jpg&amp;imgrefurl=http://www.adorocinemabrasileiro.com.br/filmes/primeira-missa/primeira-missa.asp&amp;h=399&amp;w=250&amp;sz=33&amp;tbnid=_24gKYsOHFJLGM:&amp;tbnh=120&amp;tbnw=75&amp;hl=pt-BR&amp;start=2&amp;prev=/images%3Fq%3Dmissa%26svnum%3D10%26hl%3Dpt-BR%26lr%3D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rainhadam.com/imagens/damaantiga.jpg&amp;imgrefurl=http://rainhadam.com/nisia16.html&amp;h=444&amp;w=205&amp;sz=19&amp;tbnid=y42n04ZxMkXbSM:&amp;tbnh=124&amp;tbnw=57&amp;hl=pt-BR&amp;start=17&amp;prev=/images%3Fq%3Ddama%2Bantiga%26svnum%3D10%26hl%3Dpt-BR%26lr%3D%26sa%3D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hapeusriobranco.com.br/imagens/chapeu_3021.jpg&amp;imgrefurl=http://www.chapeusriobranco.com.br/detalhe_produto.asp%3FProdID%3D3021%26CatID%3D5&amp;h=242&amp;w=290&amp;sz=10&amp;tbnid=kMGIPFkq_f6_KM:&amp;tbnh=91&amp;tbnw=110&amp;hl=pt-BR&amp;start=18&amp;prev=/images%3Fq%3Dchap%25C3%25A9us%2B%26svnum%3D10%26hl%3Dpt-BR%26lr%3D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br/imgres?imgurl=http://www.riogrande.com.br/Clipart/times/flamengo.jpg&amp;imgrefurl=http://www.riogrande.com.br/Clipart/times/flamengo.html&amp;h=321&amp;w=300&amp;sz=15&amp;tbnid=23QHTRM3yKsEpM:&amp;tbnh=114&amp;tbnw=106&amp;hl=pt-BR&amp;start=12&amp;prev=/images%3Fq%3Dflamengo%26svnum%3D10%26hl%3Dpt-BR%26lr%3D%26sa%3D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br/imgres?imgurl=http://www.casaaurea.com.br/assets/images/Bonde-Rosa300.jpg&amp;imgrefurl=http://www.casaaurea.com.br/html/where.html&amp;h=273&amp;w=300&amp;sz=44&amp;tbnid=Zqg16jwyMKZc1M:&amp;tbnh=101&amp;tbnw=111&amp;hl=pt-BR&amp;start=4&amp;prev=/images%3Fq%3Dbonde%26svnum%3D10%26hl%3Dpt-BR%26lr%3D%26sa%3D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iaviva.digi.com.br/ocruzeiro/171059su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br/imgres?imgurl=http://www.mercadolivre.com.br/org-img/preview/MLB/012005/21346051_4408.jpg&amp;imgrefurl=http://www.mercadolivre.com.br/jm/item%3Fsite%3DMLB%26id%3D24888481&amp;h=250&amp;w=250&amp;sz=7&amp;tbnid=raUjcukTNk9SqM:&amp;tbnh=106&amp;tbnw=106&amp;hl=pt-BR&amp;start=5&amp;prev=/images%3Fq%3Dgeladeira%2Bantiga%26svnum%3D10%26hl%3Dpt-BR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.br/imgres?imgurl=http://www.filetdomoraes.com.br/delivery/imagens/telefone_antigo.gif&amp;imgrefurl=http://www.filetdomoraes.com.br/delivery/filets.htm&amp;h=160&amp;w=200&amp;sz=21&amp;tbnid=lBr6K_JKzVBSKM:&amp;tbnh=79&amp;tbnw=99&amp;hl=pt-BR&amp;start=1&amp;prev=/images%3Fq%3Dtelefone%2Bantigo%26svnum%3D10%26hl%3Dpt-BR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propagandasantigas.blogger.com.br/sonrisal4.jpg&amp;imgrefurl=http://www.propagandasantigas.blogger.com.br/2005_09_01_archive.html&amp;h=606&amp;w=453&amp;sz=40&amp;tbnid=OGK0P-8j7byNwM:&amp;tbnh=133&amp;tbnw=99&amp;hl=pt-BR&amp;start=9&amp;prev=/images%3Fq%3Dsonrisal%26svnum%3D10%26hl%3Dpt-BR%26lr%3D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memoriaviva.digi.com.br/ocruzeiro/260360su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br/imgres?imgurl=http://www.divertudo.com.br/carn3.gif&amp;imgrefurl=http://www.divertudo.com.br/historia14.htm&amp;h=272&amp;w=228&amp;sz=9&amp;tbnid=wQ0RfTkM5PYOiM:&amp;tbnh=108&amp;tbnw=90&amp;hl=pt-BR&amp;start=4&amp;prev=/images%3Fq%3Dconfete%26svnum%3D10%26hl%3Dpt-BR%26lr%3D%26sa%3D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rianet.ondavideo.com/pt/getimage.asp%3Fid%3D986&amp;imgrefurl=http://rianet.ondavideo.com/pt/noticias.asp%3Facr%3Dcdd&amp;h=77&amp;w=77&amp;sz=4&amp;tbnid=Rq7ULZEc11_XwM:&amp;tbnh=69&amp;tbnw=69&amp;hl=pt-BR&amp;start=86&amp;prev=/images%3Fq%3DLan%25C3%25A7a-%2Bperfume%26start%3D80%26svnum%3D10%26hl%3Dpt-BR%26lr%3D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br/imgres?imgurl=http://www.microfone.jor.br/gifs/Empregos_mic.jpg&amp;imgrefurl=http://www.microfone.jor.br/newprincipal.htm&amp;h=624&amp;w=344&amp;sz=28&amp;tbnid=GmknPjnumfyeRM:&amp;tbnh=134&amp;tbnw=73&amp;hl=pt-BR&amp;start=2&amp;prev=/images%3Fq%3Dmicrofone%2B%26svnum%3D10%26hl%3Dpt-BR%26lr%3D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.br/imgres?imgurl=http://www.radionacional.com.pe/images/logoRNP.jpg&amp;imgrefurl=http://www.radionacional.com.pe/noticias.asp&amp;h=421&amp;w=626&amp;sz=26&amp;tbnid=LzD5-DFdyo4uGM:&amp;tbnh=90&amp;tbnw=134&amp;hl=pt-BR&amp;start=2&amp;prev=/images%3Fq%3DRadio%2BNacional%26svnum%3D10%26hl%3Dpt-BR%26lr%3D%26sa%3D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.br/imgres?imgurl=http://www.danielbrtoys.com/Variados/LancaPerfumeRodo_2.jpg&amp;imgrefurl=http://www.danielbrtoys.com/BrinqAnt.html&amp;h=240&amp;w=320&amp;sz=12&amp;tbnid=Ez3AFMahu26txM:&amp;tbnh=84&amp;tbnw=113&amp;hl=pt-BR&amp;start=41&amp;prev=/images%3Fq%3Dlan%25C3%25A7a%2Bperfume%26start%3D40%26svnum%3D10%26hl%3Dpt-BR%26lr%3D%26sa%3D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alovelyworld.com/webbresil/gimage/bre071.jpg&amp;imgrefurl=http://www.alovelyworld.com/webbresil/htmgb/bre071.htm&amp;h=1046&amp;w=1656&amp;sz=136&amp;tbnid=g1wYL_emAbhubM:&amp;tbnh=94&amp;tbnw=150&amp;hl=pt-BR&amp;start=9&amp;prev=/images%3Fq%3DMaracan%25C3%25A3%26svnum%3D10%26hl%3Dpt-BR%26lr%3D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residencialcaroline.com.br/imagens/lazer_beira_mar.jpg&amp;imgrefurl=http://www.residencialcaroline.com.br/conteudo/lazer.htm&amp;h=114&amp;w=195&amp;sz=13&amp;tbnid=M2FACK4Ps8xtqM:&amp;tbnh=57&amp;tbnw=98&amp;hl=pt-BR&amp;start=19&amp;prev=/images%3Fq%3DPasseios%2B%25C3%25A0%2Bbeira-mar%26svnum%3D10%26hl%3Dpt-BR%26lr%3D%26sa%3D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iglo20.tercera.cl/1940-49/galpubli/imagenes/1949.glostora.gif&amp;imgrefurl=http://siglo20.tercera.cl/1940-49/galpubli/publi08.htm&amp;h=328&amp;w=220&amp;sz=22&amp;tbnid=E2aTf_EZtajHiM:&amp;tbnh=114&amp;tbnw=76&amp;hl=pt-BR&amp;start=11&amp;prev=/images%3Fq%3DGlostora%26svnum%3D10%26hl%3Dpt-BR%26lr%3D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.br/imgres?imgurl=http://www.pinmeup.com.br/membros/k/fotolog/873.jpg&amp;imgrefurl=http://www.pinmeup.com.br/membros/fotolog_album.asp%3Fn%3Dk&amp;h=80&amp;w=80&amp;sz=3&amp;tbnid=uOrZwDF8w3aQIM:&amp;tbnh=70&amp;tbnw=70&amp;hl=pt-BR&amp;start=44&amp;prev=/images%3Fq%3DGumex%26start%3D40%26svnum%3D10%26hl%3Dpt-BR%26lr%3D%26sa%3DN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m.br/imgres?imgurl=http://www.garcianieto.com/images/Telegrama-lectura%2520de%2520la%2520R.A.E-Juan%2520Vicente%2520Navarrete.jpg.jpg&amp;imgrefurl=http://www.garcianieto.com/felicitaciones.htm&amp;h=724&amp;w=664&amp;sz=74&amp;tbnid=ixpEFnQscMfI5M:&amp;tbnh=139&amp;tbnw=127&amp;hl=pt-BR&amp;start=1&amp;prev=/images%3Fq%3Dtelegrama%26svnum%3D10%26hl%3Dpt-BR%26lr%3D%26sa%3D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84464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comic"/>
              </a:rPr>
              <a:t>RECORDAR  É  VI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Ray%20Conniff%2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549360"/>
            <a:ext cx="316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em que se dizia "demorou" só pra quem''chegasse atra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62064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2708280"/>
            <a:ext cx="2187720" cy="221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80000" y="32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As calças não perdiam o vinco, picada era só na bunda, e só se aquela febre profunda não tivesse melh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27280" y="1195200"/>
            <a:ext cx="3457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No meu tempo coca era refrigerante e todo homem elegante abria a porta do car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tergal, do banlon, do terilene, da Emilinha e da Marlene no sucesso mu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mocinho e do vilão com cara de mau, do reclame de fortificante do óleo de   fígado de  bacalh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1565280" cy="230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692280"/>
            <a:ext cx="1681200" cy="250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429000"/>
            <a:ext cx="1598760" cy="2152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2924280"/>
            <a:ext cx="1477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56000" y="4076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Aceitava-se qualquer cigarro sem medo de ser um novo f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ó preço podia ser barato;  bicho era só o animal e cara, o rosto do pobre mor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2116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42920" y="1052640"/>
            <a:ext cx="69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cocoroca, do tempo da Copa Roca, que muita gente não v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547560"/>
            <a:ext cx="67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o coreto, da banda, do velho cigarro Yolanda vendido na venda da es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a estricnina, veneno tão poderoso, sou do tempo do leite de magnés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sagu, do fubá  Mimoso e do fosfato que curava a amné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'Do progresso tão abrupto que todo mundo assistiu; porém, político corrupto, o rato que sai da toc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Ora! Esse sempre existi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184140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16280"/>
            <a:ext cx="1216080" cy="187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170028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26028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em que Benjor se chamava Jorge Bem, a carne do bife era acém, rabo de cachorro era bo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No meu tempo não hav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ogonofe, sou do tempo do to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também do vinté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zona com seus bordéis,  programas de dez mil ré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500280"/>
            <a:ext cx="1224000" cy="1173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1628640"/>
            <a:ext cx="14097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349360"/>
            <a:ext cx="1038240" cy="54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221000"/>
            <a:ext cx="990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16360" y="619200"/>
            <a:ext cx="280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'Sou do tempo da Cibalena e do Veramon. Só não vi a revista Fon-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i filmes do Rin-tin-tin.''Sou do tempo da confeitaria Manon, da magia, do pó de pirlimpimp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692280"/>
            <a:ext cx="104472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765000"/>
            <a:ext cx="1584360" cy="107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2060640"/>
            <a:ext cx="1238040" cy="18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84360" y="3573360"/>
            <a:ext cx="1135080" cy="1727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16720" y="2060640"/>
            <a:ext cx="1279440" cy="153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80000" y="4005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'Colecionei estampas Eucalol, acompanhei o lançamento da Avon, tomei o fortificante Calcigen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357228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PRK 30, do rádio tipo capelinha, dos contos da Carochinh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Do tempo do remédio anunciado: "Veja, ilustre passageiro, o belo tipo faceiro que o senhor tem a seu 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Mas, no entanto, acredite, quase morreu de bronquite, salvou-o o Rhum Creosotado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76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9640" y="3645000"/>
            <a:ext cx="43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'Fui leitor do almanaque Tico-Tico, do tempo em que trabalhador ficava 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3429000"/>
            <a:ext cx="167148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052640"/>
            <a:ext cx="13366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1413000"/>
            <a:ext cx="147960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1628640"/>
            <a:ext cx="1871640" cy="141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da Cafiaspirinda compressa de antiflugestina, do Biotônico Fontoura e do bálsamo  bengu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2920" y="260280"/>
            <a:ext cx="7201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ou do tempo do óleo de linhaça, andei no Maria Fuma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 muito a revista Cruzeiro, escrevi com caneta- tinteiro, separei o joio do trigo, vi muito vigarista na cade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692280"/>
            <a:ext cx="2158920" cy="185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3429000"/>
            <a:ext cx="1654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258480"/>
            <a:ext cx="7559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discursos do Presidente G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860640"/>
            <a:ext cx="846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Tempo de se curtir a vida sem medo de bala pe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de respeito pelos p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Enfim, sou de um tempo que não volta mai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907920"/>
            <a:ext cx="1800360" cy="101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765000"/>
            <a:ext cx="2232000" cy="2144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9360" y="333360"/>
            <a:ext cx="70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Casa Cavè, do taco com cera Parqueti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06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ó não fui garçom da Santa-Ceia...também não sou assim tão a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84720" y="76392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ou de um tempo distante, o chamado tempo do onça, tempo em que qualquer esquina era uma geringo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060640"/>
            <a:ext cx="1847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76640"/>
            <a:ext cx="457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ou do tempo em que se amarrava cachorro com lingüiça, do tempo em que, aos domingos, a gente ia à  mi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5290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4149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'(*) Carlos Alberto L. Andrade, jornalista, advogado, historiad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psicografando um amigo daquele tempo, em Quatis (RJ)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76280"/>
            <a:ext cx="1919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67280" y="765000"/>
            <a:ext cx="244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rago lembranças bacanas das Casas Pernambucanas, das farras, no bonde aberto, dos chapéus da Casa  Alberto, tempo em que adultério era crime e o Flamengo ainda tinh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765000"/>
            <a:ext cx="1728720" cy="143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708280"/>
            <a:ext cx="1546200" cy="16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692280"/>
            <a:ext cx="3384360" cy="30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920" y="4653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 do tempo do buscapé, do rojão e do xarope São João, do tempo em que menino só gostava de men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32000" y="707760"/>
            <a:ext cx="288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futebol era pra macho, tempo em que ninguém sossegava o facho nos bailes de  formatura, dos playboys botando banca, tempo que o telefone era p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geladeira era bran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se confiava nas companhias aéreas, em que a penicilina curava as doenças vené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33360"/>
            <a:ext cx="200196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rcRect l="17825" t="0" r="17825" b="0"/>
          <a:stretch/>
        </p:blipFill>
        <p:spPr>
          <a:xfrm>
            <a:off x="6227640" y="1197000"/>
            <a:ext cx="259236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2997360"/>
            <a:ext cx="2232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549360"/>
            <a:ext cx="302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Tempo do confete e serpentina nas festas de Carnaval do Sírio, do Monte Líbano, dos bailes do Municip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bicarbonato de sódio, do lançamento do Sonri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205000"/>
            <a:ext cx="131904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98100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981000"/>
            <a:ext cx="2219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48000" y="84312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a Rádio Nacional, do lança perfume no Carnaval, do calouro na hora da peneira, tempo em que pó era apenas po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097360" cy="17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476280"/>
            <a:ext cx="1990800" cy="365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2924280"/>
            <a:ext cx="2305080" cy="15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3357720"/>
            <a:ext cx="3024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981000"/>
            <a:ext cx="69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do terno de risca de giz, da calça de boca apertada, da Lapa de Madame Satã , de poder ir torcer no Maracanã e lembrar da mãe do j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060640"/>
            <a:ext cx="525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549360"/>
            <a:ext cx="69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do "Doi Codi". E do comigo-ninguém-pode, da ditadura envergonh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 do tempo em que ficar era não ir, tempo de permitir passeios à beira-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133720"/>
            <a:ext cx="49690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00360" y="258480"/>
            <a:ext cx="3887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brilhantina, do laquê, da Glostora, do Gum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rreio não tinha Sedex, o que vinha era tele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zendo uma má notí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a polícia perseguia todo sambista que tivesse alguma f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Tempo em que mulher é que usava brinco, e que as portas não tinham tri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2064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62064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162864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15:29Z</dcterms:created>
  <dc:creator>Badyr &amp; Tildinha</dc:creator>
  <dc:description/>
  <dc:language>en-US</dc:language>
  <cp:lastModifiedBy>Badyr &amp; Tildinha</cp:lastModifiedBy>
  <dcterms:modified xsi:type="dcterms:W3CDTF">2006-04-08T15:42:40Z</dcterms:modified>
  <cp:revision>19</cp:revision>
  <dc:subject/>
  <dc:title>Slide 1</dc:title>
</cp:coreProperties>
</file>