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My%20Way.waw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B1B-AA45-4E96-917D-6C5C8615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B3F-D1A7-4FB2-9A81-04EDF57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9E4-CFC3-4F03-B7CA-B1969C8C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8C1-AB9D-4546-A46C-4B11E86A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614-60CA-4B97-BBFE-FA21F1A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0FB-C2F0-45CF-AA5E-955C9D1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D6D-1F34-46F9-B5F6-51FB69B7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945-4257-4DAB-AD23-92FE318C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74C-1E35-438A-A86C-200DAC6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C76-5D8E-4E7A-B12D-A117C0E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54D-3756-42CD-B693-E8187FE6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96E-8F87-48D0-AD98-8A59B7B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55F7-5AD7-4555-9194-D3EF816F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y%20Way.w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153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"...O maior erro do ser humano,                      é tentar tirar da cabeça aquilo que não sai do coração..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80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3399"/>
                </a:solidFill>
                <a:latin typeface="Tahoma"/>
              </a:rPr>
              <a:t>NADA ACONTECE POR ACAS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My%20Way.w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hamaram o Dr.Howard Kel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Quando escutou o nome do povoado de onde ela viera, uma estranha </a:t>
            </a:r>
            <a:br>
              <a:rPr sz="3200"/>
            </a:b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luz encheu seus ol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Imediatamente, vestido com a sua bata de médico, foi ver a paciente.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Reconheceu imediatamente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 aquel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terminou-se a fazer o melhor para salvar aquela vid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Passou a dedicar atenção especial àquela paciente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epois de uma demorada luta pela vida da enferma, ganhou a bata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5257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Dr. Kelly pediu a administração d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hospital que lhe enviasse a fatura total dos gastos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ara aprov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105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a conferiu, depois escreveu algo e mandou entregá-la no quarto da paci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a tinha medo de abri-la, porque sabia que levaria o resto da sua vida para pagar todos os ga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as finalmente abriu a fatura algo lhe chamou a atenção, pois estava escrito o seguinte: "Totalmente pago há muitos anos com um copo de leite ass.: Dr.Howard Kell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Lágrimas de alegria correram dos olhos da mulher e seu coração feliz rezou assim: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989000"/>
            <a:ext cx="7162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Um dia, um rapaz pobre que vendia mercadorias de port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em porta para pagar seus estudos, viu que só lhe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restava uma simples moeda de dez centavos e tinha fo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Graças meu Deus porque teu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mor se manifestou nas mãos e nos corações humano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om agora você tem duas opções: pode enviar esta mensagem e compartilhá-la com seus am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u pode ignorá-la e dizer que nada tocou o seu coraçã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is bem... esta mensagem tocou meu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 por isso estou ompartilhando-a com vocês!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"Na vida nada acontece por aca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 que você faz ho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876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de fazer a diferença em sua vida amanhã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789000"/>
            <a:ext cx="83055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Decidiu que pediria comida na próxima casa. Porém, seus nervos o traíram quando uma encantadora mulher jovem lhe abriu 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m vez de comida, pediu um copo de água. Ela pensou que jovem parecia faminto e assim lhe deu um grande copo de leite. Ele bebeu devagar e depois lhe perguntou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Quanto lhe devo?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Não me deves nada - respondeu 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continuou: - Minha mãe sempre nos ensinou a nunca aceitar pagamento por uma oferta caridos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le disse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Pois te agradeço de todo coração.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ndo Howard Kelly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aiu daquela casa, não só se sentiu mais forte fisicamente, mas também sua fé em Deus e nos homens ficou mais for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já estava resignado a se render e deixar 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nos depois, essa jovem mulher ficou gravemente doente.                             Os médicos locais estavam con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inalmente a enviaram à cidade grande, onde chamaram um especialista para estudar sua rara enfermidade.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7:30Z</dcterms:created>
  <dc:creator>Gabriel Jorge Lisboa</dc:creator>
  <dc:description/>
  <dc:language>en-US</dc:language>
  <cp:lastModifiedBy>Gabriel Jorge Lisboa</cp:lastModifiedBy>
  <dcterms:modified xsi:type="dcterms:W3CDTF">2005-11-03T23:42:33Z</dcterms:modified>
  <cp:revision>2</cp:revision>
  <dc:subject/>
  <dc:title> "...O maior erro do ser humano,                      é tentar tirar da cabeça aquilo que não sai do coração..." </dc:title>
</cp:coreProperties>
</file>