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medita%C3%A7%C3%A3o.wav" ContentType="audio/x-wav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0C28-B342-4AB2-AD77-57D19760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2769-C26A-4A15-8E7C-8E134B24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AE84-FAD3-4395-A594-7BF6A987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4347-D4E0-4499-A782-D7E42FDA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AE5F-9F14-4699-84E7-8DB9E287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3411-4487-44A6-882E-4C60B2C5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39E8-40F5-408C-8BAB-062105A7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0876-279C-4416-BDA4-503C2CF0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C1FC-DAE1-46B6-A657-C38A17B9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C6F6-A669-413F-BD11-828F56B4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86DC-95C8-4B09-AA09-11187846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257A-94CE-47FA-B97F-8E360B9A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FB4F-5238-48C6-B88D-151266722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audio" Target="../media/medita&#231;&#227;o.wav"/><Relationship Id="rId9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hyperlink" Target="mailto:raquelfogo@hotmail.co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a0002"/>
              </a:gs>
              <a:gs pos="50000">
                <a:srgbClr val="a50021"/>
              </a:gs>
              <a:gs pos="100000">
                <a:srgbClr val="0a000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há de alecrim!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16360" y="5877000"/>
            <a:ext cx="43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lecri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8207280" cy="619128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46" name=""/>
          <p:cNvSpPr txBox="1"/>
          <p:nvPr/>
        </p:nvSpPr>
        <p:spPr>
          <a:xfrm>
            <a:off x="2214720" y="2436840"/>
            <a:ext cx="4714560" cy="19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ALECRIM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A ERVA DA MEN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slow">
    <p:split dir="out" orient="vert"/>
    <p:sndAc>
      <p:stSnd>
        <p:snd r:embed="rId8" name="medita%C3%A7%C3%A3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0c00"/>
            </a:gs>
            <a:gs pos="50000">
              <a:srgbClr val="cccc00"/>
            </a:gs>
            <a:gs pos="100000">
              <a:srgbClr val="0c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38480" y="2057400"/>
            <a:ext cx="3475080" cy="868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56000" y="273240"/>
            <a:ext cx="5456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alecrim é digestivo e sudorífero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juda a assimilação do açúcar (no diabete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é indicado para recompor o sistema nervos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ós uma longa atividade intelectual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 recomendado para a queda de cabelo, caspa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idados com a pele, lesões e queimaduras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curar resfriados e bronquites, para cansaço ment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estafa; ainda para perda de memória, aumentan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pacidade de aprendizad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8207280" cy="619128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755640" y="765000"/>
            <a:ext cx="7848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O alecrim é digestivo e sudorífero.</a:t>
            </a:r>
            <a:br>
              <a:rPr sz="3200"/>
            </a:b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            Ajuda  a  assimilação  do  açúcar (no diabetes) e é indicado para recompor  o sis- tema nervoso após  uma longa atividade in-  telectual.</a:t>
            </a:r>
            <a:br>
              <a:rPr sz="3200"/>
            </a:b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           É recomendado para a queda de ca- belo,  caspa,  cuidados com  a pele, lesões e queimaduras;     para   curar   resfriados e bronquites, para cansaço mental e estafa 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Ainda,  para perda de memória, aumentan- do a capacidade de aprendiz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0f0c"/>
            </a:gs>
            <a:gs pos="50000">
              <a:srgbClr val="ffffcc"/>
            </a:gs>
            <a:gs pos="100000">
              <a:srgbClr val="0f0f0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17160" y="456120"/>
            <a:ext cx="6709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 uma graciosa lenda a respeito do alecrim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do Maria fugiu para o Egito, levando no col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menino Jesus, as flores do caminho iam se abrin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à medida que a sagrada família passava por elas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lilás ergueu seus galhos orgulhosos e emplumado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lírio abriu seu cálic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alecrim, sem pétalas nem beleza, entristece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entando não poder agradar o menino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8207280" cy="619128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39640" y="765000"/>
            <a:ext cx="8136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Existe uma graciosa lenda a respeito do alecrim:</a:t>
            </a:r>
            <a:br>
              <a:rPr sz="3200"/>
            </a:b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                   quando Maria fugiu para  o Egito, levando  no  colo o menino Jesus,  as flores do caminho  iam  se  abrindo  à medida que a sa- grada família passava por elas.</a:t>
            </a:r>
            <a:br>
              <a:rPr sz="3200"/>
            </a:b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           O lilás ergueu seus galhos orgulhosos e emplumados, o lírio  abriu  seu  cálice.  O ale-</a:t>
            </a:r>
            <a:br>
              <a:rPr sz="3200"/>
            </a:b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 crim,  sem  pétalas  nem  beleza,   entristeceu lamentando não poder agradar o menino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77640" y="2467800"/>
            <a:ext cx="658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 seguida, olhou a seu redor, procurando um lug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estendê-la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O lírio quebrará sob o peso, e o lilás é alto demai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31560" y="2558160"/>
            <a:ext cx="3435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sada, Maria parou à beira do Rio e, enquan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riança dormia, lavou suas roupinha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eguida, olhou a seu redor, procurando um lug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 estendê-la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O lírio quebrará sob o peso, e o lilás é alto demai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cou-as então sobre o alecrim e ele suspir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alegria, agradeceu de coração a nova oportunida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as sustentou ao Sol durante toda a manhã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8064360" cy="619128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755640" y="54936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Cansada, Maria parou à beira do Rio e, enquanta criança dormia,  lavou suas roupi-  nh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Em  seguida,  olhou  a seu  redor, procu-  rando um lugar para estendê-las.</a:t>
            </a:r>
            <a:br>
              <a:rPr sz="3200"/>
            </a:b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     'O lírio quebrará  sob  o  peso,  e  o lilás é alto dem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Colocou-as  então  sobre  o  alecrim e ele suspirou de alegria, agradeceu  de  coração a nova oportunidade e as sustentou ao Sol durante toda a manhã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4826160" cy="3907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192720" y="6033240"/>
            <a:ext cx="2951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rigada, gentil alecrim! - disse Maria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qui por diante, ostentarás flores azuis pa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arem o manto azul que estou usan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8207280" cy="6191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11280" y="3357720"/>
            <a:ext cx="85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- Obrigada,  gentil alecrim! disse Maria.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Daqui por diante, ostentarás flores azu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ara recordarem o manto azul que est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s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3880" y="1981080"/>
            <a:ext cx="5554800" cy="4114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19640" y="2650680"/>
            <a:ext cx="59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não apenas flores te dou em agradecimento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 todos os galhos que sustentaram as roupa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pequeno Jesus, serão aromático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8207280" cy="619128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1079640" y="249228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-E não apenas flores te dou em agra-  decimento, mas todos os galhos que sus- tentaram  as  roupas  do pequeno Jesus, serão aromát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01800" y="728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042920" y="1052640"/>
            <a:ext cx="4537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u abençôo folha, caule e flor, que a partir deste instant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erão aroma de santidade e emanarão alegria.'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om chá de alecrim pra você!!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8207280" cy="619128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611280" y="1916280"/>
            <a:ext cx="79930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Eu abençôo folha, caule e flor,  que a partir deste instante terão aroma de santi-  dade e emanarão alegria.  ...e assim  foi  !</a:t>
            </a:r>
            <a:br>
              <a:rPr sz="3200"/>
            </a:b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pt-BR" sz="4000" spc="-1" strike="noStrike">
                <a:solidFill>
                  <a:srgbClr val="ff0000"/>
                </a:solidFill>
                <a:latin typeface="Times New Roman"/>
              </a:rPr>
              <a:t>BOM CHÁ PARA VOCÊ  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87280" y="0"/>
            <a:ext cx="7380360" cy="3911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68360" y="4653000"/>
            <a:ext cx="5616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xto recebido por e- 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magens-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ormatado por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pt-BR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raquelfogo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Adaptação : jnoronha13@uol.com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3"/>
            </a:gs>
            <a:gs pos="50000">
              <a:srgbClr val="000099"/>
            </a:gs>
            <a:gs pos="100000">
              <a:srgbClr val="0000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5640" y="2467800"/>
            <a:ext cx="25210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á dias em que se tem a impressã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 se estar dentro de um espesso nevoeiro.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udo parece monótono e difícil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 o coração fica triste.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É a noite escura da alma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8207280" cy="619128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611280" y="2997360"/>
            <a:ext cx="79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á dias em que se tem a impressão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 se estar dentro de um espesso nevoeiro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Tudo parece monótono e difícil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e o coração fica triste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             É a noite escura da al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417080" cy="5113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900000" y="2372760"/>
            <a:ext cx="31672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ra meu aniversário e justamente um dest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as estranhos, quando uma voz interior me disse:-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'Você precisa tomar chá de alecrim!'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ui ao jardim e lá estava nosso viçoso pé de alecrim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eressante é que quase todos que visitam nosso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ardins demonstram afeição e respeito pelo alecrim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1008000" y="692280"/>
            <a:ext cx="7236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ra meu aniversário e justamente um destes dias estranhos, quando pensei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Vou tomar um chá de alecrim!’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ui ao jardim e lá encontrei um viçoso pé de alecrim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Interessante é que quase todos que visitam nossos jardins demonstram afeição e respeito pelo alecr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8064360" cy="590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829080" y="4797000"/>
            <a:ext cx="32011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fesso que nunca liguei muito para ele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s, naquele dia, com toda reverência, colhi alguns ramos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i um chá e o servi em uma linda xícara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 aroma era muito agradável e, a cada gole que bebia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nti a mente ir clareand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68360" y="404640"/>
            <a:ext cx="8280360" cy="604872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684360" y="2060640"/>
            <a:ext cx="799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nfesso que nunca liguei muito para ele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s, naquele dia, com toda reverência, colhi alguns  ramos,  preparei  um  chá  e me servi  em uma linda xícara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O  aroma  era  muito  agradável  e,  a cada gole que bebia, senti a mente ir clareand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50000">
              <a:srgbClr val="000099"/>
            </a:gs>
            <a:gs pos="100000">
              <a:srgbClr val="00000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3" name="">
            <a:hlinkClick r:id="" action="ppaction://hlinkshowjump?jump=firstslide"/>
          </p:cNvPr>
          <p:cNvSpPr/>
          <p:nvPr/>
        </p:nvSpPr>
        <p:spPr>
          <a:xfrm>
            <a:off x="8244000" y="5734080"/>
            <a:ext cx="576000" cy="86508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865080"/>
              <a:gd name="textAreaBottom" fmla="*/ 828000 h 865080"/>
            </a:gdLst>
            <a:ahLst/>
            <a:rect l="textAreaLeft" t="textAreaTop" r="textAreaRight" b="textAreaBottom"/>
            <a:pathLst>
              <a:path w="21600" h="32434">
                <a:moveTo>
                  <a:pt x="0" y="0"/>
                </a:moveTo>
                <a:lnTo>
                  <a:pt x="21600" y="0"/>
                </a:lnTo>
                <a:lnTo>
                  <a:pt x="21600" y="32434"/>
                </a:lnTo>
                <a:lnTo>
                  <a:pt x="0" y="32434"/>
                </a:lnTo>
                <a:close/>
              </a:path>
              <a:path fill="lightenLess" w="21600" h="324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34">
                <a:moveTo>
                  <a:pt x="21600" y="0"/>
                </a:moveTo>
                <a:lnTo>
                  <a:pt x="21600" y="32434"/>
                </a:lnTo>
                <a:lnTo>
                  <a:pt x="20200" y="31034"/>
                </a:lnTo>
                <a:lnTo>
                  <a:pt x="20200" y="1400"/>
                </a:lnTo>
                <a:close/>
              </a:path>
              <a:path fill="darkenLess" w="21600" h="32434">
                <a:moveTo>
                  <a:pt x="21600" y="32434"/>
                </a:moveTo>
                <a:lnTo>
                  <a:pt x="0" y="32434"/>
                </a:lnTo>
                <a:lnTo>
                  <a:pt x="1400" y="31034"/>
                </a:lnTo>
                <a:lnTo>
                  <a:pt x="20200" y="31034"/>
                </a:lnTo>
                <a:close/>
              </a:path>
              <a:path fill="lighten" w="21600" h="32434">
                <a:moveTo>
                  <a:pt x="0" y="32434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34"/>
                </a:lnTo>
                <a:close/>
              </a:path>
              <a:path fill="darken" w="21600" h="32434">
                <a:moveTo>
                  <a:pt x="10800" y="9254"/>
                </a:moveTo>
                <a:lnTo>
                  <a:pt x="13376" y="11865"/>
                </a:lnTo>
                <a:lnTo>
                  <a:pt x="13376" y="10124"/>
                </a:lnTo>
                <a:lnTo>
                  <a:pt x="15152" y="10124"/>
                </a:lnTo>
                <a:lnTo>
                  <a:pt x="15152" y="13641"/>
                </a:lnTo>
                <a:lnTo>
                  <a:pt x="17763" y="16217"/>
                </a:lnTo>
                <a:lnTo>
                  <a:pt x="16109" y="16217"/>
                </a:lnTo>
                <a:lnTo>
                  <a:pt x="16109" y="23406"/>
                </a:lnTo>
                <a:lnTo>
                  <a:pt x="5491" y="23406"/>
                </a:lnTo>
                <a:lnTo>
                  <a:pt x="5491" y="16217"/>
                </a:lnTo>
                <a:lnTo>
                  <a:pt x="3837" y="16217"/>
                </a:lnTo>
                <a:close/>
              </a:path>
              <a:path fill="darkenLess" w="21600" h="32434">
                <a:moveTo>
                  <a:pt x="13376" y="11865"/>
                </a:moveTo>
                <a:lnTo>
                  <a:pt x="13376" y="10124"/>
                </a:lnTo>
                <a:lnTo>
                  <a:pt x="15152" y="10124"/>
                </a:lnTo>
                <a:lnTo>
                  <a:pt x="15152" y="13641"/>
                </a:lnTo>
                <a:close/>
              </a:path>
              <a:path fill="darkenLess" w="21600" h="32434">
                <a:moveTo>
                  <a:pt x="9877" y="19716"/>
                </a:moveTo>
                <a:lnTo>
                  <a:pt x="11723" y="19716"/>
                </a:lnTo>
                <a:lnTo>
                  <a:pt x="11723" y="23406"/>
                </a:lnTo>
                <a:lnTo>
                  <a:pt x="16109" y="23406"/>
                </a:lnTo>
                <a:lnTo>
                  <a:pt x="16109" y="16217"/>
                </a:lnTo>
                <a:lnTo>
                  <a:pt x="5491" y="16217"/>
                </a:lnTo>
                <a:lnTo>
                  <a:pt x="5491" y="23406"/>
                </a:lnTo>
                <a:lnTo>
                  <a:pt x="9877" y="234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43360" y="2469600"/>
            <a:ext cx="35229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ma sensação de bem-estar e alegria foi se espalhand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lo corpo e senti enorme felicidade no coração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quei muito impressionada com a capacida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sa planta transmitir alegria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ás, o nome alecrim já lembra alegria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 pesquisar a respeito e - veja só que maravilh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684360" y="1628640"/>
            <a:ext cx="8064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ma sensação de bem-estar e alegria foi se espalhando  pelo corpo e senti  a sensação de enorme felicidade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iquei muito impressionada com a capa- cidade  dessa   planta   transmitir  alegria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Aliás,  o  nome  alecrim  já lembra alegria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Resolvi   pesquisar  a respeito  e  veja   só que maravilh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7272360" cy="5545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donut">
            <a:avLst>
              <a:gd name="adj" fmla="val 1043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5516640"/>
            <a:ext cx="129528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20000" y="260280"/>
            <a:ext cx="1873080" cy="1152720"/>
          </a:xfrm>
          <a:prstGeom prst="parallelogram">
            <a:avLst>
              <a:gd name="adj" fmla="val 4062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445000"/>
            <a:ext cx="1800000" cy="986040"/>
          </a:xfrm>
          <a:prstGeom prst="parallelogram">
            <a:avLst>
              <a:gd name="adj" fmla="val 4563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95640" y="2067840"/>
            <a:ext cx="4248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cc00"/>
                </a:solidFill>
                <a:latin typeface="Times New Roman"/>
              </a:rPr>
              <a:t>O alecrim - Rosmarinos officinalis, planta nativa</a:t>
            </a:r>
            <a:br>
              <a:rPr sz="1200"/>
            </a:br>
            <a:r>
              <a:rPr b="0" lang="pt-BR" sz="1200" spc="-1" strike="noStrike">
                <a:solidFill>
                  <a:srgbClr val="ffcc00"/>
                </a:solidFill>
                <a:latin typeface="Times New Roman"/>
              </a:rPr>
              <a:t>da região mediterrânea - foi muito apreciado</a:t>
            </a:r>
            <a:br>
              <a:rPr sz="1200"/>
            </a:br>
            <a:r>
              <a:rPr b="0" lang="pt-BR" sz="1200" spc="-1" strike="noStrike">
                <a:solidFill>
                  <a:srgbClr val="ffcc00"/>
                </a:solidFill>
                <a:latin typeface="Times New Roman"/>
              </a:rPr>
              <a:t>na Idade Média e no Renascimento, aparecendo</a:t>
            </a:r>
            <a:br>
              <a:rPr sz="1200"/>
            </a:br>
            <a:r>
              <a:rPr b="0" lang="pt-BR" sz="1200" spc="-1" strike="noStrike">
                <a:solidFill>
                  <a:srgbClr val="ffcc00"/>
                </a:solidFill>
                <a:latin typeface="Times New Roman"/>
              </a:rPr>
              <a:t>em várias fórmulas, inclusive a 'Água da Rainha da Hungria',</a:t>
            </a:r>
            <a:br>
              <a:rPr sz="1200"/>
            </a:br>
            <a:r>
              <a:rPr b="0" lang="pt-BR" sz="1200" spc="-1" strike="noStrike">
                <a:solidFill>
                  <a:srgbClr val="ffcc00"/>
                </a:solidFill>
                <a:latin typeface="Times New Roman"/>
              </a:rPr>
              <a:t>famosa solução rejuvenescedora.</a:t>
            </a:r>
            <a:br>
              <a:rPr sz="1200"/>
            </a:br>
            <a:br>
              <a:rPr sz="1200"/>
            </a:br>
            <a:r>
              <a:rPr b="0" lang="pt-BR" sz="1200" spc="-1" strike="noStrike">
                <a:solidFill>
                  <a:srgbClr val="ffcc00"/>
                </a:solidFill>
                <a:latin typeface="Times New Roman"/>
              </a:rPr>
              <a:t>Elizabeth da Hungria recebeu, aos 72 anos, a receita</a:t>
            </a:r>
            <a:br>
              <a:rPr sz="1200"/>
            </a:br>
            <a:r>
              <a:rPr b="0" lang="pt-BR" sz="1200" spc="-1" strike="noStrike">
                <a:solidFill>
                  <a:srgbClr val="ffcc00"/>
                </a:solidFill>
                <a:latin typeface="Times New Roman"/>
              </a:rPr>
              <a:t>de um anjo (um monge?) quando estava</a:t>
            </a:r>
            <a:br>
              <a:rPr sz="1200"/>
            </a:br>
            <a:br>
              <a:rPr sz="1200"/>
            </a:br>
            <a:r>
              <a:rPr b="0" lang="pt-BR" sz="1200" spc="-1" strike="noStrike">
                <a:solidFill>
                  <a:srgbClr val="ffcc00"/>
                </a:solidFill>
                <a:latin typeface="Times New Roman"/>
              </a:rPr>
              <a:t>paralítica e sofria de gota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539640" y="1341360"/>
            <a:ext cx="806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O alecrim - Rosmarinos officinalis, planta nativa   da   região   mediterrânea  - foi muito apreciada na Idade Média e no  Renascimen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to, aparecendo em várias fórmulas, inclusive a 'Água da Rainha da Hungria', famosa solu- ção rejuvenescedora.</a:t>
            </a:r>
            <a:br>
              <a:rPr sz="3200"/>
            </a:b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    Elizabeth da Hungria recebeu, aos 72 anos, a receita de um anjo (um monge?) quando estava paralítica e sofria de go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17"/>
            </a:gs>
            <a:gs pos="50000">
              <a:srgbClr val="990033"/>
            </a:gs>
            <a:gs pos="100000">
              <a:srgbClr val="46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0"/>
            <a:ext cx="1258920" cy="68580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71360" y="2468520"/>
            <a:ext cx="3035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Com o uso do preparado, recobrou a saúde,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a beleza e a alegria.</a:t>
            </a:r>
            <a:br>
              <a:rPr sz="1000"/>
            </a:b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O rei da Polônia chegou a pedi-la em casamento!</a:t>
            </a:r>
            <a:br>
              <a:rPr sz="1000"/>
            </a:b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Madame de Sévigné recomendava água de alecrim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contra a tristeza, para recuperar a alegria.</a:t>
            </a:r>
            <a:br>
              <a:rPr sz="1000"/>
            </a:b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Rudolf Steiner afirmava que o alecrim é, acima de tudo,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uma planta calorífera que fortalece o centro vital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e age em todo o organismo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8280360" cy="6335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468360" y="105264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pt-BR" sz="3200" spc="-1" strike="noStrike">
                <a:solidFill>
                  <a:srgbClr val="3333cc"/>
                </a:solidFill>
                <a:latin typeface="Times New Roman"/>
              </a:rPr>
              <a:t>Com o uso do preparado, recobrou a saú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imes New Roman"/>
              </a:rPr>
              <a:t>de,  a beleza e a alegria. O rei da Polônia che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imes New Roman"/>
              </a:rPr>
              <a:t>gou a pedí-la em casamento!</a:t>
            </a:r>
            <a:br>
              <a:rPr sz="3200"/>
            </a:br>
            <a:r>
              <a:rPr b="1" lang="pt-BR" sz="3200" spc="-1" strike="noStrike">
                <a:solidFill>
                  <a:srgbClr val="3333cc"/>
                </a:solidFill>
                <a:latin typeface="Times New Roman"/>
              </a:rPr>
              <a:t>      Madame de Sévigné recomendava água de alecrim  contra  a  tristeza,  para  recuperar  a alegria.</a:t>
            </a:r>
            <a:br>
              <a:rPr sz="3200"/>
            </a:br>
            <a:r>
              <a:rPr b="1" lang="pt-BR" sz="3200" spc="-1" strike="noStrike">
                <a:solidFill>
                  <a:srgbClr val="3333cc"/>
                </a:solidFill>
                <a:latin typeface="Times New Roman"/>
              </a:rPr>
              <a:t>      Rudolf  Steiner  afirmava  que  o alecrim é, acima de tudo, uma planta  calorífera  que for- talece o centro vital e age em todo o organism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5000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00cc99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lém disso, equilibra a temperatura do sangue e,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ravés dele, de todo o corpo.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r isso é recomendado contra anemia, menstruação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suficiente e problemas de irrigação sangüínea.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ambém atua no fígado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 uma melhor irrigação dos órgãos estimula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 metabolism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987640" y="836640"/>
            <a:ext cx="4869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ém disso, equilibra a temperatura do sangue 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ravés dele, de todo o corpo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 isso é recomendado contra anemia, menstruaçã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ficiente e problemas de irrigação sangüínea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mbém atua no fígado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uma melhor irrigação dos órgãos estimul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metabolis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39640" y="404640"/>
            <a:ext cx="8136000" cy="604872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684360" y="1628640"/>
            <a:ext cx="7920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Times New Roman"/>
              </a:rPr>
              <a:t>         </a:t>
            </a:r>
            <a:r>
              <a:rPr b="1" lang="pt-BR" sz="3200" spc="-1" strike="noStrike">
                <a:solidFill>
                  <a:srgbClr val="ffcc00"/>
                </a:solidFill>
                <a:latin typeface="Times New Roman"/>
              </a:rPr>
              <a:t>Além disso, equilibra a temperatura do sangue e, através dele, de todo o corpo.</a:t>
            </a:r>
            <a:br>
              <a:rPr sz="3200"/>
            </a:br>
            <a:r>
              <a:rPr b="1" lang="pt-BR" sz="3200" spc="-1" strike="noStrike">
                <a:solidFill>
                  <a:srgbClr val="ffcc00"/>
                </a:solidFill>
                <a:latin typeface="Times New Roman"/>
              </a:rPr>
              <a:t>         Por isso é recomendado contra anemia, menstruação     insuficiente  e  problemas de irrigação sangüínea.</a:t>
            </a:r>
            <a:br>
              <a:rPr sz="3200"/>
            </a:br>
            <a:r>
              <a:rPr b="1" lang="pt-BR" sz="3200" spc="-1" strike="noStrike">
                <a:solidFill>
                  <a:srgbClr val="ffcc00"/>
                </a:solidFill>
                <a:latin typeface="Times New Roman"/>
              </a:rPr>
              <a:t>       Também atua no fígado.</a:t>
            </a:r>
            <a:br>
              <a:rPr sz="3200"/>
            </a:br>
            <a:r>
              <a:rPr b="1" lang="pt-BR" sz="3200" spc="-1" strike="noStrike">
                <a:solidFill>
                  <a:srgbClr val="ffcc00"/>
                </a:solidFill>
                <a:latin typeface="Times New Roman"/>
              </a:rPr>
              <a:t>       E uma  melhor irrigação dos órgãos es- timula o metabolismo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0900"/>
            </a:gs>
            <a:gs pos="50000">
              <a:srgbClr val="ff9900"/>
            </a:gs>
            <a:gs pos="100000">
              <a:srgbClr val="0f0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096560" y="2316240"/>
            <a:ext cx="41475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 ex-viciado em drogas revelou que tivera uma visã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 Jesus que o tornou capaz de livrar-se do vício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esus lhe sugeria que tomasse chá de alecrim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 regenerar e limpar as células do corpo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is o alecrim continha todas as cor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 arco-íris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8351640" cy="619128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468360" y="1341360"/>
            <a:ext cx="8207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m ex-viciado em drogas revelou que tivera  uma  visão divina que o tornou cap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 livrar-se do vício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Foi- lhe indicado  que  tomasse  chá  de alecrim para regenerar e limpar as células do corpo, pois  o alecrim continha todas as cores do arco-ír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20:36:30Z</dcterms:created>
  <dc:creator>Jorge N. Noronha</dc:creator>
  <dc:description/>
  <dc:language>en-US</dc:language>
  <cp:lastModifiedBy>Jorge N. Noronha</cp:lastModifiedBy>
  <dcterms:modified xsi:type="dcterms:W3CDTF">2009-03-17T21:25:27Z</dcterms:modified>
  <cp:revision>2</cp:revision>
  <dc:subject/>
  <dc:title>Slide 1</dc:title>
</cp:coreProperties>
</file>