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Enya_-_Dances_With_Wolves.wav" ContentType="audio/x-wav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26E-9132-486E-938D-80D72B37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A31-15BF-4CFC-9997-072B2D9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872-A24C-42F7-8478-FE3DD184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FD7-B029-4E0F-953A-F8777593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CD1-81BB-439A-B1FE-4B02623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CB0-B2F7-4C90-98D6-F240F4D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584-4709-4CB0-ADB3-B4C801F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27C-78E5-4064-93FD-E83ADF4F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DFC-F3BD-4307-B2AA-0197415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72A-68F9-48EB-9325-EE264E4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9CF-295E-40C9-9ED1-AA2F437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E23-D89B-444E-842A-15C6090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B0D-B694-4B35-88F9-5EF402B9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audio" Target="../media/Enya_-_Dances_With_Wolv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bethnorling@globo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6280"/>
            <a:ext cx="7921440" cy="583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4581360"/>
            <a:ext cx="5086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99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LHE PARA TRÁS!</a:t>
            </a:r>
            <a:endParaRPr b="0" i="1" lang="en-US" sz="4000" spc="1" strike="noStrike">
              <a:ln w="9360">
                <a:solidFill>
                  <a:srgbClr val="99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59280" y="5734080"/>
            <a:ext cx="29620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9360">
                <a:solidFill>
                  <a:srgbClr val="99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5334120"/>
            <a:ext cx="179064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353360" y="0"/>
            <a:ext cx="179064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3836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7505640" y="5200560"/>
            <a:ext cx="163836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04640"/>
            <a:ext cx="439272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907920"/>
            <a:ext cx="374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stá vendo o caminho percorr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ntre quedas e tropeços, subidas e descidas, momentos bons e ruins, chegamos até a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Vivemos histórias que não pertencem a ninguém mais. Guardamos na memória fatos que máquina nenhuma no mundo conseguirá revelar: fazem parte das nossas lembranças, nossos passos e da pessoa única que s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41360"/>
            <a:ext cx="352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Mas, infelizmente, temos o hábito de guardar cicatrizes do que nos fez infelizes e olharmos como uma lembrança distante e apagada o que nos deu alegria. É possível ressentir uma grande dor com grande intensidade, trazendo à tona as mesmas emoções vividas, mas como é difícil ressentir do mesmo jeito uma felicidade que um dia nos fez vibr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1268280"/>
            <a:ext cx="3527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 ideal seria inverter as situações. Guardar na pele e na alma cicatrizes do que nos fez bem e nos lembrar do mal sem muita nitidez. Guardar das pessoas o lado bom, o bem que nos fizeram e o que de bom vivemos juntos. Talvez devesse constar com mais freqüência as palavras “perdão” e “compreensão” no nosso dicioná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62864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De vez em quando, digo, olhe para trás!  Mas não se volte completamente. Olhe apenas o bastante para se lembrar das suas lições para que estas te sirvam no presente. Não lamente o que ficou, o que fez ou deixou de fazer. O que é importante seu coração carr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70028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lhe diante de si! Há esse véu encobrindo o que virá, deixando entrever apenas o que seus sonhos permitem. Mas existe dentro de você uma sabedoria de alguém que desbravou alguns anos da história. Existe dentro de você uma força que te torna capa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981000"/>
            <a:ext cx="352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 dia chega insistente como as marés do oceano. Às vezes calmo, outras turbulento, mas presente sempre. Vivo sempre. Cada noite dormida é uma vitória, cada manhã, um novo desafio. E você nunca está sozinho, mesmo quando se sente solitário. Todo o seu passado está gravado em você, como gravadas estão as pessoas que você am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1341360"/>
            <a:ext cx="352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Levante esse véu pouquinho a pouquinho a cada amanhecer; sem pressa, saboreando a vida como uma aventura, nem sempre como um mar calmo e tranqüilo, mas possível, muito possivelmente vitori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Construa hoje as suas marcas de amanhã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280360" cy="604872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1844640"/>
            <a:ext cx="678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Texto: Letícia Thompson – Olhe para trá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Música: Enya – Dances with wo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bethnorling@globo.com</a:t>
            </a: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43:18Z</dcterms:created>
  <dc:creator>Beth Norling</dc:creator>
  <dc:description/>
  <dc:language>en-US</dc:language>
  <cp:lastModifiedBy>Beth Norling</cp:lastModifiedBy>
  <dcterms:modified xsi:type="dcterms:W3CDTF">2007-03-06T11:09:59Z</dcterms:modified>
  <cp:revision>9</cp:revision>
  <dc:subject/>
  <dc:title>Olhe_para_tras</dc:title>
</cp:coreProperties>
</file>