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3.gif" ContentType="image/gif"/>
  <Override PartName="/ppt/media/image6.png" ContentType="image/png"/>
  <Override PartName="/ppt/media/image12.jpeg" ContentType="image/jpeg"/>
  <Override PartName="/ppt/media/Enya_-_Dances_With_Wolves.wav" ContentType="audio/x-wav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D27-6DFA-4826-AD1A-497D1572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6F8-1E78-49A4-A942-10DD209B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ACB-3BA7-41DD-A5A8-FC8DDDD6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1D2-B715-4240-AEB5-6F3B0383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D57-032B-4E0B-99E6-50CDC05D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E32-7F9C-42B5-A7B0-67471313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1C7-B4B8-4961-984F-C55DB440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2FD-6FF4-453E-A526-A41C3899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069-D772-4A86-9BDD-892F436E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E8D-EFA8-449A-8BF9-30EF4D45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337-0F60-4198-AC5F-056BEF64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8F3-587A-45A4-9B53-598F65AF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8751-C7CA-404A-8F57-861F31334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audio" Target="../media/Enya_-_Dances_With_Wolves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www.leticiathompson.net/" TargetMode="External"/><Relationship Id="rId4" Type="http://schemas.openxmlformats.org/officeDocument/2006/relationships/hyperlink" Target="mailto:bethnorling@globo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76280"/>
            <a:ext cx="7921440" cy="583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79640" y="4581360"/>
            <a:ext cx="5086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99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LHE PARA TRÁS!</a:t>
            </a:r>
            <a:endParaRPr b="0" i="1" lang="en-US" sz="4000" spc="1" strike="noStrike">
              <a:ln w="9360">
                <a:solidFill>
                  <a:srgbClr val="99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59280" y="5734080"/>
            <a:ext cx="29620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66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400" spc="1" strike="noStrike">
              <a:ln w="9360">
                <a:solidFill>
                  <a:srgbClr val="9966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5334120"/>
            <a:ext cx="179064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353360" y="0"/>
            <a:ext cx="179064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38360" cy="165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7505640" y="5200560"/>
            <a:ext cx="163836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04640"/>
            <a:ext cx="439272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907920"/>
            <a:ext cx="3743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Está vendo o caminho percorr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Entre quedas e tropeços, subidas e descidas, momentos bons e ruins, chegamos até aqu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Vivemos histórias que não pertencem a ninguém mais. Guardamos na memória fatos que máquina nenhuma no mundo conseguirá revelar: fazem parte das nossas lembranças, nossos passos e da pessoa única que so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04640"/>
            <a:ext cx="432108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1341360"/>
            <a:ext cx="352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Mas, infelizmente, temos o hábito de guardar cicatrizes do que nos fez infelizes e olharmos como uma lembrança distante e apagada o que nos deu alegria. É possível ressentir uma grande dor com grande intensidade, trazendo à tona as mesmas emoções vividas, mas como é difícil ressentir do mesmo jeito uma felicidade que um dia nos fez vibr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04640"/>
            <a:ext cx="432108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1268280"/>
            <a:ext cx="3527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O ideal seria inverter as situações. Guardar na pele e na alma cicatrizes do que nos fez bem e nos lembrar do mal sem muita nitidez. Guardar das pessoas o lado bom, o bem que nos fizeram e o que de bom vivemos juntos. Talvez devesse constar com mais freqüência as palavras “perdão” e “compreensão” no nosso dicioná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04640"/>
            <a:ext cx="432108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1628640"/>
            <a:ext cx="3527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De vez em quando, digo, olhe para trás!  Mas não se volte completamente. Olhe apenas o bastante para se lembrar das suas lições para que estas te sirvam no presente. Não lamente o que ficou, o que fez ou deixou de fazer. O que é importante seu coração carre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432108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1700280"/>
            <a:ext cx="3527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Olhe diante de si! Há esse véu encobrindo o que virá, deixando entrever apenas o que seus sonhos permitem. Mas existe dentro de você uma sabedoria de alguém que desbravou alguns anos da história. Existe dentro de você uma força que te torna capaz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04640"/>
            <a:ext cx="432108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981000"/>
            <a:ext cx="352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O dia chega insistente como as marés do oceano. Às vezes calmo, outras turbulento, mas presente sempre. Vivo sempre. Cada noite dormida é uma vitória, cada manhã, um novo desafio. E você nunca está sozinho, mesmo quando se sente solitário. Todo o seu passado está gravado em você, como gravadas estão as pessoas que você am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04640"/>
            <a:ext cx="4321080" cy="604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1341360"/>
            <a:ext cx="3527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Levante esse véu pouquinho a pouquinho a cada amanhecer; sem pressa, saboreando a vida como uma aventura, nem sempre como um mar calmo e tranqüilo, mas possível, muito possivelmente vitori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Construa hoje as suas marcas de amanhã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c2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4640"/>
            <a:ext cx="8280360" cy="6048720"/>
          </a:xfrm>
          <a:prstGeom prst="rect">
            <a:avLst/>
          </a:prstGeom>
          <a:noFill/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95480" y="1844640"/>
            <a:ext cx="678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Crédit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Texto: Letícia Thompson – Olhe para trá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Música: Enya – Dances with wol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E-mail: </a:t>
            </a:r>
            <a:r>
              <a:rPr b="0" lang="pt-BR" sz="2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bethnorling@globo.com</a:t>
            </a:r>
            <a:r>
              <a:rPr b="1" lang="pt-BR" sz="2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9:43:18Z</dcterms:created>
  <dc:creator>Beth Norling</dc:creator>
  <dc:description/>
  <dc:language>en-US</dc:language>
  <cp:lastModifiedBy>Beth Norling</cp:lastModifiedBy>
  <dcterms:modified xsi:type="dcterms:W3CDTF">2007-03-06T11:09:59Z</dcterms:modified>
  <cp:revision>9</cp:revision>
  <dc:subject/>
  <dc:title>Olhe_para_tras</dc:title>
</cp:coreProperties>
</file>