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3.jpeg" ContentType="image/jpeg"/>
  <Override PartName="/ppt/media/86%20Anne%20Murray%20-%20You%20needed%20me.wav" ContentType="audio/x-wav"/>
  <Override PartName="/ppt/media/image16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2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D03A-7E56-4316-B7D8-1C4033DAC242}" type="slidenum">
              <a:rPr b="1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E9B8-0F5E-497B-AC93-A9D7E051703D}" type="slidenum">
              <a:rPr b="1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4A58-FE2B-4C2B-9BAF-3B0763B70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56B8-874E-4109-B9D6-2DCBE897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B47C-E80C-4721-A103-81423AD8E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DE9F-A57B-4990-BBE9-1F9FB3D62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58E9-B27D-4CBE-BA75-E35357C2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1045-553D-4E6A-907F-55849D60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7DD6-1F44-4658-92D1-2927A024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406F-4D30-4706-AAAD-878F53EE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3BF8-D7FC-4B35-A3B2-3A79BB27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FE53-641B-498E-B897-91705AF8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D442-A3CD-420A-AACE-2BA0BE53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2BB8-4E47-4234-AA70-D4DDF26C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B2DE-CCF4-4380-AF76-E106BAD69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86%20Anne%20Murray%20-%20You%20needed%20m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2"/>
          <p:cNvSpPr txBox="1"/>
          <p:nvPr/>
        </p:nvSpPr>
        <p:spPr>
          <a:xfrm>
            <a:off x="428760" y="4005360"/>
            <a:ext cx="8715240" cy="12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s 12 aglomerações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is povoadas do mundo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zoom dir="out"/>
    <p:sndAc>
      <p:stSnd>
        <p:snd r:embed="rId2" name="86%20Anne%20Murray%20-%20You%20needed%20m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3462120" y="372960"/>
            <a:ext cx="48837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A número 4 é Bombaim (Índia)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om 20.041.000 de habitant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684360" y="333360"/>
            <a:ext cx="7920000" cy="82548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62699"/>
                </a:solidFill>
                <a:latin typeface="Verdana"/>
              </a:rPr>
              <a:t>A número 3 é São Paulo (Brasil) com 20.262.000 de habitantes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142920" y="5780160"/>
            <a:ext cx="7453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 Rounded MT Bold"/>
              </a:rPr>
              <a:t>Uma cidade que cresce em passos gigantesco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l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026"/>
          <p:cNvSpPr/>
          <p:nvPr/>
        </p:nvSpPr>
        <p:spPr>
          <a:xfrm>
            <a:off x="2742120" y="260280"/>
            <a:ext cx="46504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A número 2 é Delhi (Índia)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om 22.157.000 de habitant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Text Box 1027"/>
          <p:cNvSpPr/>
          <p:nvPr/>
        </p:nvSpPr>
        <p:spPr>
          <a:xfrm>
            <a:off x="4800600" y="2097000"/>
            <a:ext cx="40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(Toda a Índia tem uma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população de 1.100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milhões de habitantes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1196640" y="177840"/>
            <a:ext cx="70617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Verdana"/>
              </a:rPr>
              <a:t>E no 1° posto, a indiscutível campeã,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Verdana"/>
              </a:rPr>
              <a:t>é TOKYO, Japão com 36.669.000 de habitant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048120" y="6308640"/>
            <a:ext cx="60958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Verdana"/>
              </a:rPr>
              <a:t>Uma verdadeira explosão demográfica!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in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206280" y="228600"/>
            <a:ext cx="8686800" cy="247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ffff"/>
                </a:solidFill>
                <a:latin typeface="Arial"/>
              </a:rPr>
              <a:t>Algumas observações importantes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Nenhuma cidade européia figura nessa lista. Moscou é a cidade européia mais povoada (10,5 milhões), e figura em 19º lugar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Na Índia tem três cidades com muitos millhões de habitante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elhi,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Bombaim e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Calcutá. As três juntas superam 57 milhões de habitantes.!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990720" y="5373720"/>
            <a:ext cx="79246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Verdana"/>
              </a:rPr>
              <a:t>Agora alguns aspectos das condições em que se vive nas grandes cidades, sobretudo nas asiáticas..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9" descr="slide0027_image012"/>
          <p:cNvPicPr/>
          <p:nvPr/>
        </p:nvPicPr>
        <p:blipFill>
          <a:blip r:embed="rId1"/>
          <a:stretch/>
        </p:blipFill>
        <p:spPr>
          <a:xfrm>
            <a:off x="0" y="0"/>
            <a:ext cx="10015560" cy="69055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71" name="Text Box 11"/>
          <p:cNvSpPr/>
          <p:nvPr/>
        </p:nvSpPr>
        <p:spPr>
          <a:xfrm>
            <a:off x="293040" y="712800"/>
            <a:ext cx="39052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ritannic Bold"/>
              </a:rPr>
              <a:t>Aquí vivem milhares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ritannic Bold"/>
              </a:rPr>
              <a:t>de família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468360" y="2492280"/>
            <a:ext cx="532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Verdana"/>
              </a:rPr>
              <a:t>Os transportes e as unidades habitacionais fazem com que as pessoas se sintam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1255320" y="5516640"/>
            <a:ext cx="725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Verdana"/>
              </a:rPr>
              <a:t>comprimidas, amontoadas, espremidas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Verdana"/>
              </a:rPr>
              <a:t>em pequenos espaços…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500"/>
                            </p:stCondLst>
                            <p:childTnLst>
                              <p:par>
                                <p:cTn id="17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slide0026_image010"/>
          <p:cNvPicPr/>
          <p:nvPr/>
        </p:nvPicPr>
        <p:blipFill>
          <a:blip r:embed="rId1"/>
          <a:stretch/>
        </p:blipFill>
        <p:spPr>
          <a:xfrm>
            <a:off x="0" y="0"/>
            <a:ext cx="9605880" cy="69022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75" name="Text Box 15"/>
          <p:cNvSpPr/>
          <p:nvPr/>
        </p:nvSpPr>
        <p:spPr>
          <a:xfrm>
            <a:off x="539640" y="549360"/>
            <a:ext cx="3810240" cy="1557000"/>
          </a:xfrm>
          <a:prstGeom prst="rect">
            <a:avLst/>
          </a:prstGeom>
          <a:solidFill>
            <a:srgbClr val="ffff66">
              <a:alpha val="50000"/>
            </a:srgbClr>
          </a:solidFill>
          <a:ln w="381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Os edifícios multifamiliares se assemelham a enormes formigueiros!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slide0004_image009"/>
          <p:cNvPicPr/>
          <p:nvPr/>
        </p:nvPicPr>
        <p:blipFill>
          <a:blip r:embed="rId1"/>
          <a:stretch/>
        </p:blipFill>
        <p:spPr>
          <a:xfrm>
            <a:off x="0" y="0"/>
            <a:ext cx="9217080" cy="71740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77" name="Text Box 12"/>
          <p:cNvSpPr/>
          <p:nvPr/>
        </p:nvSpPr>
        <p:spPr>
          <a:xfrm>
            <a:off x="519120" y="1268280"/>
            <a:ext cx="37162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8f8f8"/>
                </a:solidFill>
                <a:latin typeface="Verdana"/>
              </a:rPr>
              <a:t>Uma praia saturad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8f8f8"/>
                </a:solidFill>
                <a:latin typeface="Verdana"/>
              </a:rPr>
              <a:t>de banhista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slide0022_image006"/>
          <p:cNvPicPr/>
          <p:nvPr/>
        </p:nvPicPr>
        <p:blipFill>
          <a:blip r:embed="rId1"/>
          <a:stretch/>
        </p:blipFill>
        <p:spPr>
          <a:xfrm>
            <a:off x="-828720" y="0"/>
            <a:ext cx="11177640" cy="6900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Freeway 09"/>
          <p:cNvPicPr/>
          <p:nvPr/>
        </p:nvPicPr>
        <p:blipFill>
          <a:blip r:embed="rId1"/>
          <a:stretch/>
        </p:blipFill>
        <p:spPr>
          <a:xfrm>
            <a:off x="179280" y="333360"/>
            <a:ext cx="8750520" cy="626436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sp>
        <p:nvSpPr>
          <p:cNvPr id="80" name="Text Box 7"/>
          <p:cNvSpPr/>
          <p:nvPr/>
        </p:nvSpPr>
        <p:spPr>
          <a:xfrm>
            <a:off x="5143680" y="4572000"/>
            <a:ext cx="3789360" cy="2014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ejam esta autoestrada saturada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 digam com sinceridade se não é muito melhor viver em cidades menores.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ma Cidade, para que seja “vivível”, não devería ter mais de 500.000 habitantes…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Text Box 21"/>
          <p:cNvSpPr/>
          <p:nvPr/>
        </p:nvSpPr>
        <p:spPr>
          <a:xfrm>
            <a:off x="3708360" y="61182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ciudad-los-angeles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29560" y="333360"/>
            <a:ext cx="815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o número 12 está Los Ângeles, com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12.762.000 de habitantes em sua área metropolitana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split dir="in" orient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felipe\Desktop\Fondos\arco de mano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Dove"/>
          <p:cNvPicPr/>
          <p:nvPr/>
        </p:nvPicPr>
        <p:blipFill>
          <a:blip r:embed="rId2"/>
          <a:stretch/>
        </p:blipFill>
        <p:spPr>
          <a:xfrm>
            <a:off x="4067280" y="3141720"/>
            <a:ext cx="714240" cy="647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630440" y="142920"/>
            <a:ext cx="62006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A número 11 é Buenos Aires, Argentina,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que chega aos 13.074.000 de habitant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l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karachi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764280" y="404640"/>
            <a:ext cx="757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No posto de número 10 está Karachi (Paquistão),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com 13.125.000 de habitant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split dir="in" orient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831960" y="228600"/>
            <a:ext cx="69087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A número 9 é Dhaka (Bangladesh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om 14.648.000 de habitant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2240280" y="333360"/>
            <a:ext cx="52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A número 8 é Calcutá (Índia) com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15.552.000 de alma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split dir="in" orient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2151360" y="228600"/>
            <a:ext cx="472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A número 7 é Shangai (China)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om 16.575.000 de habitant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285840" y="2643120"/>
            <a:ext cx="7924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 Rounded MT Bold"/>
              </a:rPr>
              <a:t>Como país, a China tem 1.300 milhões de habitantes,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 Rounded MT Bold"/>
              </a:rPr>
              <a:t>A mesma poulação que, em 1939, tinha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Rounded MT Bold"/>
              </a:rPr>
              <a:t>o MUNDO todo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418760" y="228600"/>
            <a:ext cx="62157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A número 6 é Nova York com 19.425.000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de  habitant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669240" y="228600"/>
            <a:ext cx="60573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A número 5 é a Cidade do Méxic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com 19.460.000 d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habitantes em sua área metropolitana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851280" y="5589720"/>
            <a:ext cx="471636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 Rounded MT Bold"/>
              </a:rPr>
              <a:t>Em 1939 toda República Mexicana contava com este número de habitant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hecker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" presetSubtype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4T00:13:36Z</dcterms:created>
  <dc:creator/>
  <dc:description/>
  <dc:language>en-US</dc:language>
  <cp:lastModifiedBy>Ecologus</cp:lastModifiedBy>
  <dcterms:modified xsi:type="dcterms:W3CDTF">2010-12-22T15:54:47Z</dcterms:modified>
  <cp:revision>145</cp:revision>
  <dc:subject/>
  <dc:title>Presentación de PowerPoint</dc:title>
</cp:coreProperties>
</file>