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3.jpeg" ContentType="image/jpeg"/>
  <Override PartName="/ppt/media/86%20Anne%20Murray%20-%20You%20needed%20me.wav" ContentType="audio/x-wav"/>
  <Override PartName="/ppt/media/image16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A322-9519-4CFF-AEC8-96BFE9B639FB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8E6C-A010-4AFE-85B4-04318D82BB26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3EA-5D74-4706-BC41-0064899C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9253-682E-434D-B9FE-323FEEFF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A77-A595-49C1-9EB4-FD6A3290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F85-2637-46DD-BC1A-3953B4F8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BB52-483C-41ED-B76E-ECEB7633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CC6-8BB2-49B8-9500-C84E2475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D60-A243-4B35-9802-7ADBB66A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3BC-7B02-4A8B-AE7E-93A81F44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D497-1D04-4134-857C-2FBAF32E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7EE-60B7-463A-B723-31BD5BB7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019F-5392-4E4F-B48E-D50C2146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53E-2949-4DFB-AB30-E3719D67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EA76-511A-469D-AF38-E785AA843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86%20Anne%20Murray%20-%20You%20needed%20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2"/>
          <p:cNvSpPr txBox="1"/>
          <p:nvPr/>
        </p:nvSpPr>
        <p:spPr>
          <a:xfrm>
            <a:off x="428760" y="4005360"/>
            <a:ext cx="871524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s 12 aglomeraçõe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is povoadas do mundo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  <p:sndAc>
      <p:stSnd>
        <p:snd r:embed="rId2" name="86%20Anne%20Murray%20-%20You%20needed%20m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462120" y="372960"/>
            <a:ext cx="48837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 número 4 é Bombaim (Índia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m 20.041.000 de habitan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4360" y="333360"/>
            <a:ext cx="7920000" cy="82548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62699"/>
                </a:solidFill>
                <a:latin typeface="Verdana"/>
              </a:rPr>
              <a:t>A número 3 é São Paulo (Brasil) com 20.262.000 de habitante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42920" y="5780160"/>
            <a:ext cx="7453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Rounded MT Bold"/>
              </a:rPr>
              <a:t>Uma cidade que cresce em passos gigantesco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026"/>
          <p:cNvSpPr/>
          <p:nvPr/>
        </p:nvSpPr>
        <p:spPr>
          <a:xfrm>
            <a:off x="2742120" y="260280"/>
            <a:ext cx="46504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 número 2 é Delhi (Índia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m 22.157.000 de habitan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027"/>
          <p:cNvSpPr/>
          <p:nvPr/>
        </p:nvSpPr>
        <p:spPr>
          <a:xfrm>
            <a:off x="4800600" y="209700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(Toda a Índia tem um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população de 1.1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milhões de habitantes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196640" y="177840"/>
            <a:ext cx="70617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E no 1° posto, a indiscutível campeã,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é TOKYO, Japão com 36.669.000 de habitan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048120" y="6308640"/>
            <a:ext cx="6095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Uma verdadeira explosão demográfica!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in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06280" y="228600"/>
            <a:ext cx="8686800" cy="24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ffff"/>
                </a:solidFill>
                <a:latin typeface="Arial"/>
              </a:rPr>
              <a:t>Algumas observações importantes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enhuma cidade européia figura nessa lista. Moscou é a cidade européia mais povoada (10,5 milhões), e figura em 19º lugar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a Índia tem três cidades com muitos millhões de habitant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lhi,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ombaim e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alcutá. As três juntas superam 57 milhões de habitantes.!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990720" y="5373720"/>
            <a:ext cx="7924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Agora alguns aspectos das condições em que se vive nas grandes cidades, sobretudo nas asiáticas..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slide0027_image012"/>
          <p:cNvPicPr/>
          <p:nvPr/>
        </p:nvPicPr>
        <p:blipFill>
          <a:blip r:embed="rId1"/>
          <a:stretch/>
        </p:blipFill>
        <p:spPr>
          <a:xfrm>
            <a:off x="0" y="0"/>
            <a:ext cx="10015560" cy="69055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71" name="Text Box 11"/>
          <p:cNvSpPr/>
          <p:nvPr/>
        </p:nvSpPr>
        <p:spPr>
          <a:xfrm>
            <a:off x="293040" y="712800"/>
            <a:ext cx="3905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ritannic Bold"/>
              </a:rPr>
              <a:t>Aquí vivem milhare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ritannic Bold"/>
              </a:rPr>
              <a:t>de famíli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68360" y="2492280"/>
            <a:ext cx="532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Verdana"/>
              </a:rPr>
              <a:t>Os transportes e as unidades habitacionais fazem com que as pessoas se sintam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255320" y="5516640"/>
            <a:ext cx="725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Verdana"/>
              </a:rPr>
              <a:t>comprimidas, amontoadas, espremida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Verdana"/>
              </a:rPr>
              <a:t>em pequenos espaços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slide0026_image010"/>
          <p:cNvPicPr/>
          <p:nvPr/>
        </p:nvPicPr>
        <p:blipFill>
          <a:blip r:embed="rId1"/>
          <a:stretch/>
        </p:blipFill>
        <p:spPr>
          <a:xfrm>
            <a:off x="0" y="0"/>
            <a:ext cx="9605880" cy="6902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75" name="Text Box 15"/>
          <p:cNvSpPr/>
          <p:nvPr/>
        </p:nvSpPr>
        <p:spPr>
          <a:xfrm>
            <a:off x="539640" y="549360"/>
            <a:ext cx="3810240" cy="1557000"/>
          </a:xfrm>
          <a:prstGeom prst="rect">
            <a:avLst/>
          </a:prstGeom>
          <a:solidFill>
            <a:srgbClr val="ffff66">
              <a:alpha val="50000"/>
            </a:srgbClr>
          </a:solidFill>
          <a:ln w="381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Os edifícios multifamiliares se assemelham a enormes formigueiros!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slide0004_image009"/>
          <p:cNvPicPr/>
          <p:nvPr/>
        </p:nvPicPr>
        <p:blipFill>
          <a:blip r:embed="rId1"/>
          <a:stretch/>
        </p:blipFill>
        <p:spPr>
          <a:xfrm>
            <a:off x="0" y="0"/>
            <a:ext cx="9217080" cy="7174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77" name="Text Box 12"/>
          <p:cNvSpPr/>
          <p:nvPr/>
        </p:nvSpPr>
        <p:spPr>
          <a:xfrm>
            <a:off x="519120" y="1268280"/>
            <a:ext cx="3716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Verdana"/>
              </a:rPr>
              <a:t>Uma praia saturad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8f8f8"/>
                </a:solidFill>
                <a:latin typeface="Verdana"/>
              </a:rPr>
              <a:t>de banhis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slide0022_image006"/>
          <p:cNvPicPr/>
          <p:nvPr/>
        </p:nvPicPr>
        <p:blipFill>
          <a:blip r:embed="rId1"/>
          <a:stretch/>
        </p:blipFill>
        <p:spPr>
          <a:xfrm>
            <a:off x="-828720" y="0"/>
            <a:ext cx="11177640" cy="6900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Freeway 09"/>
          <p:cNvPicPr/>
          <p:nvPr/>
        </p:nvPicPr>
        <p:blipFill>
          <a:blip r:embed="rId1"/>
          <a:stretch/>
        </p:blipFill>
        <p:spPr>
          <a:xfrm>
            <a:off x="179280" y="333360"/>
            <a:ext cx="8750520" cy="62643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80" name="Text Box 7"/>
          <p:cNvSpPr/>
          <p:nvPr/>
        </p:nvSpPr>
        <p:spPr>
          <a:xfrm>
            <a:off x="5143680" y="4572000"/>
            <a:ext cx="3789360" cy="2014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ejam esta autoestrada saturad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 digam com sinceridade se não é muito melhor viver em cidades menores.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ma Cidade, para que seja “vivível”, não devería ter mais de 500.000 habitantes…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3708360" y="61182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iudad-los-angeles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29560" y="333360"/>
            <a:ext cx="815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 número 12 está Los Ângeles, com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2.762.000 de habitantes em sua área metropolitan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in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felipe\Desktop\Fondos\arco de man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ove"/>
          <p:cNvPicPr/>
          <p:nvPr/>
        </p:nvPicPr>
        <p:blipFill>
          <a:blip r:embed="rId2"/>
          <a:stretch/>
        </p:blipFill>
        <p:spPr>
          <a:xfrm>
            <a:off x="4067280" y="3141720"/>
            <a:ext cx="714240" cy="647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630440" y="142920"/>
            <a:ext cx="6200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A número 11 é Buenos Aires, Argentina,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que chega aos 13.074.000 de habitan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karach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64280" y="404640"/>
            <a:ext cx="75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No posto de número 10 está Karachi (Paquistão),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com 13.125.000 de habitan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in" orient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31960" y="228600"/>
            <a:ext cx="69087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 número 9 é Dhaka (Bangladesh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m 14.648.000 de habitan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240280" y="333360"/>
            <a:ext cx="52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 número 8 é Calcutá (Índia) com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5.552.000 de alma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in" orient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151360" y="228600"/>
            <a:ext cx="472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 número 7 é Shangai (China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m 16.575.000 de habitan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85840" y="264312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Rounded MT Bold"/>
              </a:rPr>
              <a:t>Como país, a China tem 1.300 milhões de habitantes,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Rounded MT Bold"/>
              </a:rPr>
              <a:t>A mesma poulação que, em 1939, tinha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Rounded MT Bold"/>
              </a:rPr>
              <a:t>o MUNDO todo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418760" y="228600"/>
            <a:ext cx="62157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A número 6 é Nova York com 19.425.0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de  habitan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69240" y="228600"/>
            <a:ext cx="6057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A número 5 é a Cidade do Méxic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com 19.460.000 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habitantes em sua área metropolitan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51280" y="5589720"/>
            <a:ext cx="47163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 Rounded MT Bold"/>
              </a:rPr>
              <a:t>Em 1939 toda República Mexicana contava com este número de habitan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hecke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00:13:36Z</dcterms:created>
  <dc:creator/>
  <dc:description/>
  <dc:language>en-US</dc:language>
  <cp:lastModifiedBy>Ecologus</cp:lastModifiedBy>
  <dcterms:modified xsi:type="dcterms:W3CDTF">2010-12-22T15:54:47Z</dcterms:modified>
  <cp:revision>145</cp:revision>
  <dc:subject/>
  <dc:title>Presentación de PowerPoint</dc:title>
</cp:coreProperties>
</file>