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ai%20-%20Fabio%20Jr..wav" ContentType="audio/x-wav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129-9953-48D9-BA8F-76B18E6D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FC8-B930-4727-9FE5-66426F3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F0A-58A8-4FBA-BC4B-D23079EA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551-E5CF-48E8-8B35-9DFF3349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EA3-4E3F-4D41-8266-F7BF7F5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3F3-B622-4D9F-B2B8-BDD0658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11C-707B-4F42-938B-D3D7153D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DA6-1BBE-4CF7-B8D0-E01F5308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4AF-756A-48C4-B122-2652426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CEF-4FC9-4B2F-82C0-656ACB3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C97-DD6F-4AA6-84C9-230AEE0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E5C-E2F9-4847-B25B-9ECBEE6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260-38F9-47C9-AAF4-ED79E294C4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Pai%20-%20Fabio%20Jr.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55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838080"/>
            <a:ext cx="2133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ai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5715000"/>
            <a:ext cx="4676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(Homenagem ao meu pai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  <p:transition spd="slow" advTm="25000">
    <p:randomBar dir="vert"/>
    <p:sndAc>
      <p:stSnd>
        <p:snd r:embed="rId8" name="Pai%20-%20Fabio%20Jr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embrar de você é lembrar da estação, do trem, das viagens onde segura e confiante, eu o acompanhava. É lembrar dos longos passeios pelas matas, em busca dos pomares de   frutas silvestres, é recordá-lo risonho  ao  lado  de  minha mãe, atiçando Sultão que latia e pulava, como que a compartilhar da   felicidade que entre nós rein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É lembrar do vidro brilhante de vaga-lumes que, ensinada por você, eu sabia caçar... e das corujinhas que eu cacei sozinha, mas que você não me deixou criar. É lembrar das festas juninas, dos foguetórios, do violão que por suas mãos, eu aprendi a dedilhar... dos dobrados na harmônica em cujos baixos eu enroscava e você me fazia recomeçar. É lembrar da primeira vez que você me levou embora para estudar, sem saber que seria uma viagem sem volta, um adeus definitivo à infância e ao aconchego do meu 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3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3900"/>
                            </p:stCondLst>
                            <p:childTnLst>
                              <p:par>
                                <p:cTn id="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8380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Ah, Pai! Se você soubesse das agruras que me aguardavam e do quanto elas haveriam de nos separar, você jamais teria me levado e, da paz do meu lar, você jamais teria me apartado. Quando eu voltei, Pai, tudo estava tão mudado... e você partiu de repente, sem que eu tivesse tempo de lhe agradecer, dar o derradeiro abraço que no coração ficou enros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800"/>
                            </p:stCondLst>
                            <p:childTnLst>
                              <p:par>
                                <p:cTn id="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Você partiu sem me dar a chance de confessar o quanto você foi por mim, amado. Não houve jeito, não houve tempo, infelizmente. Mas onde quer que você esteja, no mundo da luz e da verdade, aceite esta homenagem que brota sincera em meio às minhas lágrimas de saudade...e embora com a alma embargada pela nostalgia, a tua bênção eu peço agora...</a:t>
            </a:r>
            <a:br>
              <a:rPr sz="2800"/>
            </a:b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COMO ANTIGAMEN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800"/>
                            </p:stCondLst>
                            <p:childTnLst>
                              <p:par>
                                <p:cTn id="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Fábio Jr. - 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7524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1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8954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33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914400" y="5257800"/>
            <a:ext cx="1600200" cy="6858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81280" y="5105520"/>
            <a:ext cx="1981440" cy="99036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ff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705720" y="5257800"/>
            <a:ext cx="1600200" cy="68580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3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8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3:18:49Z</dcterms:created>
  <dc:creator>ssoliver@terra.com.br </dc:creator>
  <dc:description>Música: Pai - Fábio Jr. - E-mail: ssoliver@terra.com.br </dc:description>
  <dc:language>en-US</dc:language>
  <cp:lastModifiedBy>Leticia Thompson</cp:lastModifiedBy>
  <dcterms:modified xsi:type="dcterms:W3CDTF">2004-11-02T22:15:51Z</dcterms:modified>
  <cp:revision>6</cp:revision>
  <dc:subject>PPS (Homenagem)</dc:subject>
  <dc:title>Pai</dc:title>
</cp:coreProperties>
</file>