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3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.jpeg" ContentType="image/jpeg"/>
  <Override PartName="/ppt/media/image7.png" ContentType="image/png"/>
  <Override PartName="/ppt/media/Era%20-%20Yese%20of%20eternity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E8E-DE59-475E-B243-E900272B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6FA-B382-49C0-8588-EF01765E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895-8160-4D1F-9310-5D194169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CB6-0FD1-44CC-8B07-0AFD99D8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D32-F526-4999-8405-40298C43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415-533E-4FAB-8A4F-97AEA18A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030-283F-45BE-882B-F78FDD55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219-D5B7-4BA0-A9C4-975017ED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F9A-0D46-4574-8911-6E1B1F87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A86-4BCE-4403-BFC5-0CCCC443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793-4C3D-40D8-A58A-3D1CC138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63F-D8FE-436D-AF94-F825F59A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255D-BE6B-44D0-B110-3ACCB5A1F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audio" Target="../media/Era%20-%20Yese%20of%20eternity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6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7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3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hyperlink" Target="http://www.leticiathompson.net/" TargetMode="External"/><Relationship Id="rId12" Type="http://schemas.openxmlformats.org/officeDocument/2006/relationships/hyperlink" Target="mailto:bethnorling@globo.com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8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9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0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2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3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15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765000"/>
            <a:ext cx="749016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836640"/>
            <a:ext cx="734400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411280" y="1484280"/>
            <a:ext cx="4105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DEPRESSÃO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700360" y="4653000"/>
            <a:ext cx="34671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335480" y="1268280"/>
            <a:ext cx="412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 soluções para os problemas começam com o reconhecimento d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r amigos que possam compreender já é um passo na direção da c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compreensão da dor do outro leva-lhe segurança. E, segura, uma pessoa poderá se levantar e recomeçar seu caminho, com toda ajuda que ela deve 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wheel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84720" y="2000160"/>
            <a:ext cx="41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pressã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ma doença s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 médicos são út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migos são preciosos. Orações são imprescind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wheel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6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765000"/>
            <a:ext cx="749016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836640"/>
            <a:ext cx="7344000" cy="5184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84200" y="1916280"/>
            <a:ext cx="628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rédi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xto: Letícia Thompson – A de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hlinkClick r:id="rId11"/>
              </a:rPr>
              <a:t>www.leticiathompson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magens: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úsica: Grupo Era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es of eter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ormatação: Beth Nor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hlinkClick r:id="rId12"/>
              </a:rPr>
              <a:t>bethnorling@globo.com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03880" y="1268280"/>
            <a:ext cx="398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Quando se olha o mundo de fora é muito fácil dizer o que se deve fazer, como e até qu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chamos soluções para todo mundo, desde que não estejam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 fácil falar da dor que não sentimos, do amor que não perdemos, dos problemas que não temos e da vida que não viv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mos assim muito sábios quando o espinho não está em nós!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wheel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84720" y="1628640"/>
            <a:ext cx="4319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s altos e os baixos são comuns a todo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inguém vive em linha r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 há pessoas que suportam mais facilmente as subidas e descidas da vida que outras, como umas pegam certas doenças e outras n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coisas que não se controla, pois se tivéssemos escolha, optaríamos sempre por uma vida sã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wheel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35480" y="907920"/>
            <a:ext cx="4197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depressão é uma doença como uma outra, não um capricho de quem deseja mais do que a vida pode oferecer. Só quem passou ou passa por isso sabe entender o que é. E como toda doença, deve ser reconhecida, entendida e tratada como tal. Infelizmente todo mundo não está preparado para ajudar em casos assim e tentam resolver os problemas mostrando que há pessoas mais infeliz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wheel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35480" y="1341360"/>
            <a:ext cx="412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tudo, não é possível minimizar a dor de ninguém, fazendo-o comparar sua infelicidade com as misérias do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inguém pode se sentir melhor porque do lado de fora há mais sofr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 fosse assim, seria fácil ir dormir feliz a cada dia, bastando assistir ou ler jor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wheel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08560" y="1125360"/>
            <a:ext cx="405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É claro que muitas vezes vemos uma coisa triste e pensamos no quanto somos abençoados por não vivermos aquilo. Isso é normal para todo mundo, nos faz refletir sobre a realidade d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s se passamos nossa vida com comparações não vamos a lugar nenhum, pois sempre haverá parâmetros diferentes e acabaremos nos sentindo perd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wheel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335480" y="1484280"/>
            <a:ext cx="4124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cisamos respeitar a dor e sentimento do outro, como respeitamos os limites do seu jardim. Cada vida é única e própria. Podemos ajudar uma pessoa depressiva mostrando-lhe o lado belo da vida, dando-lhe razões para olhar além do horizonte, criar objetivos e acreditar n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wheel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35480" y="1773360"/>
            <a:ext cx="3981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demos tirá-la do isolamento em que se encontra dando-lhe palavras de reconforto e amizade, fazendo-a sentir-se amada e út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zer a um depressivo que seus problemas são mínimos porque há coisas piores na vida não o fará sentir-se melho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wheel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408560" y="1268280"/>
            <a:ext cx="405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ando Jesus se referiu à pessoas com problemas e ansiedades, mandou que olhassem os lírios dos campos e as aves no céu e se repousassem, apontou para coisas bonitas e alegres, nunca disse para olharem os necessi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 Ele teve, também, Seu momento de dor, tristeza e lágrima, como todo ser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wheel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21:28:50Z</dcterms:created>
  <dc:creator>Beth Norling</dc:creator>
  <dc:description/>
  <dc:language>en-US</dc:language>
  <cp:lastModifiedBy>Beth Norling</cp:lastModifiedBy>
  <dcterms:modified xsi:type="dcterms:W3CDTF">2007-03-31T17:13:52Z</dcterms:modified>
  <cp:revision>15</cp:revision>
  <dc:subject/>
  <dc:title>A depressao</dc:title>
</cp:coreProperties>
</file>