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relaxation%20-%20piano%20-%20ernesto%20cortazar%20-%20dying%20of%20love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1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A7D-6054-4428-8C73-1374BE25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FF6-BB6E-4A5B-9292-918D2CE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BB5-D2E6-4A6D-AF4B-4F29216F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6E0-1D06-4EEC-B0F6-9237ADC3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2CF-A88C-4D2D-A16B-0F82B79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F18-3127-4D0A-B171-CA0E5351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609-D034-4F34-9102-6B92BCEA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4C6-4F6F-4DE1-A9CA-78EE68F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23D-9FBB-4400-B2A0-82AEBF6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AA1-0F40-4204-B645-719B97BC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27D-92B3-4602-9BB6-FCC416A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03E-0548-4844-BBB5-97CD420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E917-2F38-455D-9136-AC0DA40F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laxation%20-%20piano%20-%20ernesto%20cortazar%20-%20dying%20of%20lov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5157720"/>
            <a:ext cx="547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oadway"/>
              </a:rPr>
              <a:t>OS RIBEIRINHOS DOS R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oadway"/>
              </a:rPr>
              <a:t>DO MUNICÍPIO DE BR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19280" y="5013360"/>
            <a:ext cx="62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      </a:t>
            </a:r>
            <a:r>
              <a:rPr b="1" i="1" lang="en-US" sz="3600" spc="-1" strike="noStrike">
                <a:solidFill>
                  <a:srgbClr val="ffffff"/>
                </a:solidFill>
                <a:latin typeface="Broadway"/>
              </a:rPr>
              <a:t>OS RIBEIRINHOS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Broadway"/>
              </a:rPr>
              <a:t>MUNICÍPIO DE BR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20640"/>
            <a:ext cx="334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gency FB"/>
              </a:rPr>
              <a:t>Quanta miséria; quanto abandon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gency FB"/>
              </a:rPr>
              <a:t>Quanta indifere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gency FB"/>
              </a:rPr>
              <a:t>desses governante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916360" cy="306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952720" cy="3068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348000" y="0"/>
            <a:ext cx="2016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419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48000" y="2708280"/>
            <a:ext cx="2519280" cy="4149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796000" y="270828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320364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gency FB"/>
              </a:rPr>
              <a:t>Eles não tem energia elétrica, água potável,  saneamento,saú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gency FB"/>
              </a:rPr>
              <a:t>e educação,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gency FB"/>
              </a:rPr>
              <a:t>precariamente é administrada em   salas cedidas  pelos evangélicos  e as professoras pagas pela prefeitura, todavia muitas, nem possuem o ensino fundamental comple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67280" y="4653000"/>
            <a:ext cx="327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64000" y="3462480"/>
            <a:ext cx="5580000" cy="3395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89000"/>
            <a:ext cx="36702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Q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conseguem criar algumas aves, de surpresa o gavião aparece lev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nas suas g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uma de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Outro alimento que não podem mais usufruir é a caça aos animais ,  que era um dos  seus sustentos,agora é proibido pelo Ib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5580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30200"/>
            <a:ext cx="313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Legumes;  só construindo tendais suspensos,  em virtude das ma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Igrejas; só dos evangélic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que na maior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são ribeirinh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3141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331452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8120" y="3141720"/>
            <a:ext cx="6095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316872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40360" y="3284640"/>
            <a:ext cx="3203640" cy="3573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987640" y="3284640"/>
            <a:ext cx="295272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160"/>
            <a:ext cx="284328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Há seis anos, viajamos por esses rios, levando um pouco de alegria para essas crianças e isso só tem sido possível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60280"/>
            <a:ext cx="3059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m virtude da colaboração de amigas queridas e generosas, que nos ajudam, não conseguiríamos  doar  cestas tão abastec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Obrigada amig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pelo coração bonito que vocês tê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840" y="2987640"/>
            <a:ext cx="246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57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2916360" cy="328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16360" y="0"/>
            <a:ext cx="3311280" cy="35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916360" y="3573360"/>
            <a:ext cx="3330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2924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404640"/>
            <a:ext cx="327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Nasci  às margens de um desses rios e agradeço a Deus, da infância que me concedeu, das minhas raízes, da qual me orgulharei semp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9480" y="324000"/>
            <a:ext cx="304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5867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5120" y="324000"/>
            <a:ext cx="196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0280"/>
            <a:ext cx="31320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ency FB"/>
              </a:rPr>
              <a:t>Quero agradecer, a todos que nos ajudam nessa atividade e rog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ency FB"/>
              </a:rPr>
              <a:t>a Deus e ao Seu Amado Filho Jesus, que envolvam a todos eles,  na sua Proteção e no Seu Amor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32000" y="4005360"/>
            <a:ext cx="379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Imagens ribeirinhos - Mary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Texto – Mary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Música - Rela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Ernesto Cort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Formatado por  Mary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00360" y="476280"/>
            <a:ext cx="4343400" cy="1343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1552680" cy="154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93080" y="4797360"/>
            <a:ext cx="15523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0280"/>
            <a:ext cx="320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Está se aproximando o mês de viajarmos    para  os 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Turiá,  Buiuss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Murutuquara, Tajapurú e Limão pertencentes ao município de Breves Região do Arquipélago do Marajó  e um dos mais carentes do Estado do P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350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981000"/>
            <a:ext cx="295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Nesses rios, quando o barco vai passan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dezenas de crianças se aproxi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m  canoinhas,   na esperança de que algu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possa  jogar algo, que seja útil para e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594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32000" y="3500280"/>
            <a:ext cx="6012000" cy="335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981000"/>
            <a:ext cx="313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É assim, durante todos os d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durante  as nove horas em qu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mbarc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singram esses ri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fora outros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 furos, que for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o município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58720"/>
            <a:ext cx="3059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ssas famílias, que moram ao longo desses rios , só têm para alimento,o que Deus  lhes forne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eixes, camar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çaí e farinh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uando conseguem fazer uma roç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ara  pl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mandi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3500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5867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32000" y="3500280"/>
            <a:ext cx="6012000" cy="335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33360"/>
            <a:ext cx="31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O restante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fica muito difíc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de obtere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em virtude  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falta de empreg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e morar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distante 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cid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373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579600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6280"/>
            <a:ext cx="33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gency FB"/>
              </a:rPr>
              <a:t>Ao longo das margens dos rios, constituídas de varzeas, é que são construíd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gency FB"/>
              </a:rPr>
              <a:t>as palafitas   dos ribeirinh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33360"/>
            <a:ext cx="3635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e como a maré  enche e vaza,de 6 em 6 hor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continuamente as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invadem os terr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e sendo assim, não podem plantar e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sobra,aparec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cobras e demais répt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2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2195640" cy="280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492360" y="2781360"/>
            <a:ext cx="2544840" cy="240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003640" y="0"/>
            <a:ext cx="2089440" cy="2781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492360" y="0"/>
            <a:ext cx="172728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492360" y="5013360"/>
            <a:ext cx="3095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74600"/>
            <a:ext cx="3132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Quan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Maldade 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que se proveitam da situação,para prostituírem</a:t>
            </a: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essas crianças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por 1 litro d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óleo ou um prato de  comida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2376360" cy="328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5940360" cy="357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08720" y="0"/>
            <a:ext cx="3635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23:44:38Z</dcterms:created>
  <dc:creator>Maria Pereira  Costa</dc:creator>
  <dc:description/>
  <dc:language>en-US</dc:language>
  <cp:lastModifiedBy>terminal</cp:lastModifiedBy>
  <dcterms:modified xsi:type="dcterms:W3CDTF">2010-11-08T11:35:18Z</dcterms:modified>
  <cp:revision>26</cp:revision>
  <dc:subject/>
  <dc:title>Slide 1</dc:title>
</cp:coreProperties>
</file>