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Richard%20Clayderman%20-%20Nothing's%20gonna%20change%20my%20love%20for%20you.wav" ContentType="audio/x-wav"/>
  <Override PartName="/ppt/media/image9.png" ContentType="image/pn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1.jpeg" ContentType="image/jpeg"/>
  <Override PartName="/ppt/media/image7.png" ContentType="image/png"/>
  <Override PartName="/ppt/media/image3.gif" ContentType="image/gif"/>
  <Override PartName="/ppt/media/image6.png" ContentType="image/png"/>
  <Override PartName="/ppt/media/image12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5857-FD32-42C1-8BCE-D81D7B08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6E19-956A-4CC2-906E-EA198001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8A20-5128-403B-AB27-741E0140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C1C3-94EB-44B2-BEF4-13164F02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A52-2D62-47FB-ADA6-E55E47E1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8648-230C-407F-BE03-7FDCB682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EFB-141F-4B17-A2DD-992C5854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6EED-8487-452F-AB48-AEC13080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975-0851-4339-9DF0-B3069B20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AD79-0100-4B51-B510-2FA2C867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351E-0CAC-4A25-AE5F-FC8258B1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0FA-BDC9-40B0-BB26-79FB9930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0F08-D748-4B8B-9137-DD53E56FF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audio" Target="../media/Richard%20Clayderman%20-%20Nothing&apos;s%20gonna%20change%20my%20love%20for%20you.wav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hyperlink" Target="http://www.leticiathompson.net/" TargetMode="External"/><Relationship Id="rId15" Type="http://schemas.openxmlformats.org/officeDocument/2006/relationships/hyperlink" Target="mailto:bethnorling@globo.com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10.jpe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11.jpe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12.jpe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13.jpe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14.jpe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15.jpe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16.jpe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17.jpe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54770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8191440" y="138096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6991200" y="470520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3666960" y="5905440"/>
            <a:ext cx="5477040" cy="952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627280" y="1268280"/>
            <a:ext cx="38768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AGANDO COM</a:t>
            </a:r>
            <a:endParaRPr b="0" i="1" lang="en-US" sz="1800" spc="1" strike="noStrike">
              <a:ln w="0">
                <a:noFill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</a:t>
            </a:r>
            <a:endParaRPr b="0" i="1" lang="en-US" sz="1800" spc="1" strike="noStrike">
              <a:ln w="0">
                <a:noFill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ESMA MOEDA</a:t>
            </a:r>
            <a:endParaRPr b="0" i="1" lang="en-US" sz="1800" spc="1" strike="noStrike">
              <a:ln w="0">
                <a:noFill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987640" y="4869000"/>
            <a:ext cx="29624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400" spc="1" strike="noStrike">
              <a:ln w="0">
                <a:noFill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0" y="0"/>
            <a:ext cx="5477040" cy="952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8191440" y="138096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2"/>
          <a:stretch/>
        </p:blipFill>
        <p:spPr>
          <a:xfrm>
            <a:off x="6991200" y="470520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3"/>
          <a:stretch/>
        </p:blipFill>
        <p:spPr>
          <a:xfrm>
            <a:off x="3666960" y="5905440"/>
            <a:ext cx="5477040" cy="952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71640" y="1762200"/>
            <a:ext cx="720072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eead2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eead2"/>
                </a:solidFill>
                <a:latin typeface="Verdana"/>
              </a:rPr>
              <a:t>Texto: Letícia Thompson – Pagando com a mesma mo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deead2"/>
                </a:solidFill>
                <a:uFillTx/>
                <a:latin typeface="Verdana"/>
                <a:hlinkClick r:id="rId14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eead2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eead2"/>
                </a:solidFill>
                <a:latin typeface="Verdana"/>
              </a:rPr>
              <a:t>Música: Richard Clayderman – </a:t>
            </a:r>
            <a:r>
              <a:rPr b="1" lang="en-US" sz="2000" spc="-1" strike="noStrike">
                <a:solidFill>
                  <a:srgbClr val="deead2"/>
                </a:solidFill>
                <a:latin typeface="Verdana"/>
              </a:rPr>
              <a:t>Nothing’s gone change my love for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eead2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eead2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deead2"/>
                </a:solidFill>
                <a:uFillTx/>
                <a:latin typeface="Verdana"/>
                <a:hlinkClick r:id="rId15"/>
              </a:rPr>
              <a:t>bethnorling@globo.com</a:t>
            </a:r>
            <a:r>
              <a:rPr b="1" lang="pt-BR" sz="2000" spc="-1" strike="noStrike">
                <a:solidFill>
                  <a:srgbClr val="deead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0" y="0"/>
            <a:ext cx="5477040" cy="952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8191440" y="138096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6991200" y="470520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tretch/>
        </p:blipFill>
        <p:spPr>
          <a:xfrm>
            <a:off x="3666960" y="5905440"/>
            <a:ext cx="5477040" cy="952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50760" y="4365720"/>
            <a:ext cx="729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efe1"/>
                </a:solidFill>
                <a:latin typeface="Verdana"/>
              </a:rPr>
              <a:t>Viver não exige de nós tanto esforço. Mas sentir a vida e prová-la nos seus mínimos detalhes, isso sim, exige que sejamos mais que seres viventes que respi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0" y="0"/>
            <a:ext cx="5477040" cy="952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8191440" y="138096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6991200" y="470520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tretch/>
        </p:blipFill>
        <p:spPr>
          <a:xfrm>
            <a:off x="3666960" y="5905440"/>
            <a:ext cx="5477040" cy="952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50760" y="3860640"/>
            <a:ext cx="7293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efe1"/>
                </a:solidFill>
                <a:latin typeface="Verdana"/>
              </a:rPr>
              <a:t>E desejamos crescer sempre. Desejamos ser bons, melhores e não raro, superiores. Só que a noção de como chegar a um ponto alto é muitas das vezes distorcida ou mal compreendida.    Assim, fazemos exatamente o contrário e nos julgamos intelig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0" y="0"/>
            <a:ext cx="5477040" cy="952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8191440" y="138096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6991200" y="470520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3666960" y="5905440"/>
            <a:ext cx="5477040" cy="952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23840" y="3068640"/>
            <a:ext cx="7148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efe1"/>
                </a:solidFill>
                <a:latin typeface="Verdana"/>
              </a:rPr>
              <a:t>Numa briga ou desentendimento com uma ou mais pessoas, fala mais alto não quem levanta a voz, mas quem sabe controlar-se para revidar com sabedoria. Nunca pensamos que quando gritamos com uma pessoa que grita conosco ou apontamos o dedo para quem nos aponta, estamos nos colocando não num grau de superioridade, mas exatamente no mesmo nível que ela, lá embaix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547704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8191440" y="138096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2"/>
          <a:stretch/>
        </p:blipFill>
        <p:spPr>
          <a:xfrm>
            <a:off x="6991200" y="470520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3"/>
          <a:stretch/>
        </p:blipFill>
        <p:spPr>
          <a:xfrm>
            <a:off x="3666960" y="5905440"/>
            <a:ext cx="5477040" cy="952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23840" y="4653000"/>
            <a:ext cx="722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efe1"/>
                </a:solidFill>
                <a:latin typeface="Verdana"/>
              </a:rPr>
              <a:t>E quanto mais gritamos, mais descemos; quanto mais palavras ásperas usamos, mais caímos, menores fica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5477040" cy="952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8191440" y="138096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2"/>
          <a:stretch/>
        </p:blipFill>
        <p:spPr>
          <a:xfrm>
            <a:off x="6991200" y="470520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>
            <a:off x="3666960" y="5905440"/>
            <a:ext cx="5477040" cy="952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23840" y="4508640"/>
            <a:ext cx="722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efe1"/>
                </a:solidFill>
                <a:latin typeface="Verdana"/>
              </a:rPr>
              <a:t>Ninguém pode sentir-se superior por pisar em ninguém; ninguém pode sentir-se melhor por pagar com a mesma moeda quando isso significa render mal por 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0" y="0"/>
            <a:ext cx="547704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8191440" y="138096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2"/>
          <a:stretch/>
        </p:blipFill>
        <p:spPr>
          <a:xfrm>
            <a:off x="6991200" y="470520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3"/>
          <a:stretch/>
        </p:blipFill>
        <p:spPr>
          <a:xfrm>
            <a:off x="3666960" y="5905440"/>
            <a:ext cx="5477040" cy="952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50760" y="1125360"/>
            <a:ext cx="7366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efe1"/>
                </a:solidFill>
                <a:latin typeface="Verdana"/>
              </a:rPr>
              <a:t>Devemos dar de nós sim, mas somente aquilo que  as pessoas podem pegar e construir algo positivo; nossa parte humana e pequena, nossos defeitos e nossos pecados pertencem a nós e é a busca da melhoria do nosso eu que vai fazer com que diminuam em nó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95480" y="4653000"/>
            <a:ext cx="707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efe1"/>
                </a:solidFill>
                <a:latin typeface="Verdana"/>
              </a:rPr>
              <a:t>Nada mais desconcertante do que um gesto de amor quando é exatamente o contrário que se esper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13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5477040" cy="952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8191440" y="138096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6991200" y="470520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3666960" y="5905440"/>
            <a:ext cx="5477040" cy="952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23840" y="4508640"/>
            <a:ext cx="722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efe1"/>
                </a:solidFill>
                <a:latin typeface="Verdana"/>
              </a:rPr>
              <a:t>Diz a Bíblia no livro de Provérbios que quando pagamos o mal com o bem amontoamos brasas na cabeça do outro e ainda é acrescentado que com isso o Senhor nos recompensar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0" y="0"/>
            <a:ext cx="5477040" cy="952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1"/>
          <a:stretch/>
        </p:blipFill>
        <p:spPr>
          <a:xfrm>
            <a:off x="8191440" y="138096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2"/>
          <a:stretch/>
        </p:blipFill>
        <p:spPr>
          <a:xfrm>
            <a:off x="6991200" y="470520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3"/>
          <a:stretch/>
        </p:blipFill>
        <p:spPr>
          <a:xfrm>
            <a:off x="3666960" y="5905440"/>
            <a:ext cx="5477040" cy="952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50760" y="3789360"/>
            <a:ext cx="7221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efe1"/>
                </a:solidFill>
                <a:latin typeface="Verdana"/>
              </a:rPr>
              <a:t>Que a partilha da nossa vida seja da nossa parte mais bonita, aquela que ama, que sabe agir com sabedoria no momento certo, que sa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efe1"/>
                </a:solidFill>
                <a:latin typeface="Verdana"/>
              </a:rPr>
              <a:t>manter-se grande mesmo nos momentos onde ser grande exige de nós o esforço da renúncia do nosso eu, do que julgamos saber e conhe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8T12:37:29Z</dcterms:created>
  <dc:creator>Beth Norling</dc:creator>
  <dc:description/>
  <dc:language>en-US</dc:language>
  <cp:lastModifiedBy>Beth Norling</cp:lastModifiedBy>
  <dcterms:modified xsi:type="dcterms:W3CDTF">2007-05-28T13:47:00Z</dcterms:modified>
  <cp:revision>10</cp:revision>
  <dc:subject/>
  <dc:title>Pagando_com_a_mesma_moeda</dc:title>
</cp:coreProperties>
</file>