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38._Frank_Pourcel_-_Theme_From_Bilitis_1_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DF463-F891-49F9-B15E-7A4A98A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2700-626E-444D-849B-E235D0A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2132B-94D2-49C9-A4E7-E2CDF70B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0970-CE02-4C00-BD73-A53C6A5D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208E-B660-4F9E-B01C-8B662F5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89A5-989E-4DA9-A50F-78A4855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338B-4325-4908-BBD9-DEF44E4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2EF1E-4269-4738-9E87-695FE005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92B71-41E8-4ACF-9A9A-D300FCA0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9C644-7ABA-4D3B-94DF-23B6EB9B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54E84-B92E-4A94-BA65-51E383E7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FC253-16F4-45E2-8804-0F2E4531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E304D-E10C-4B88-8530-1DA7367E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E9443-DC9A-4016-A535-3CAED50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D05A9-3D87-4401-A023-9BF47AA3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48F40-5BE7-4F03-A750-B5016F0E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A27A8-0AAD-4D3C-A41F-1A1585E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224BC-F197-44F9-AC4B-E228EE1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A9246-C294-4915-90E5-CDACBA19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5C103-80AA-46C8-8D07-1209119F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AD014-5665-409F-9393-4E7E56B3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45DBE-1F66-40F2-AC67-ABE9F7AD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728A3-16C6-458A-AD8C-CB334825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D9FAC-65BA-40FD-A4C0-1D7C17D2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2CAEA-481D-4D78-84E8-99466330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48E23-037C-4FBF-90CD-4B0446F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69CA0-E91F-4D1E-92E8-23019791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85A08-81B7-43A3-B71D-9845744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EF411-B4FF-4D09-B850-73447BA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F6759-7865-4B9B-9C2C-E21FC9A7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513-D197-47AF-8559-EAC76C90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88A92-8283-4444-86EC-E5A7E57D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C1F89-21F3-4B2E-A22B-4A0689F5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A3E84-7BA6-44EC-B988-2456193C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A37EA-9517-4A35-B74D-85875F7C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D7A9C-7ACA-418B-8AF9-F3A3D4C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F035B-AFF1-4400-8A9A-044E9C0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0AE1C-32E5-4E35-AF66-A8B97ED6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E699C-2C9B-4267-8864-D318D1FF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E4909-ED80-40B6-AF20-9C3D9A0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38AC8-4201-46BE-A87A-E31881C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E3C-1684-4FE2-A32B-EE2633C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9FAFC-10F6-4682-8B30-91066EA8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A5E41-7FA9-4B12-8E85-DE2EE96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6213E-E5EC-4107-9240-685704C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D8337-CF45-48AE-B06A-C4B254A3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FAF2-749D-4183-BF9B-018A7507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F24-DA4A-4FDB-9D43-799AEAA6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5A5-A578-4886-ABA9-2F417B92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692-6ADE-404E-8747-56D66B7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A57-491C-4203-A430-48E1CA66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F81-E077-4A55-A604-5179CD6C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D8D-C155-41FA-AF5D-6790237C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900-1A59-469F-AEDE-D9193B7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9D6-C25A-4370-8C3E-7FF2196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9FC-B5DB-4772-ACB2-DB2A52A2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755-6BEB-4EDF-B58E-4A4F1108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B927-052A-49E8-9C37-94612BA5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BD5-35D0-49EE-A121-CCB0CA4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896A-64FC-478A-8D04-DAD3F45E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9DA4-9702-4B33-9DD2-E0B38CBD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D543-AE6E-475A-AC4E-5F7764D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79D3-9D66-477E-B1B6-DF15BA9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8449-D1A3-4416-BB49-895FF2F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8613-3E9A-4BE8-B146-5D83E54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71AC-3BA9-457E-B6D6-C93AE19A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80E0-C418-4A1F-856F-AF5233EC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7D50-8F34-4340-93FE-52EE517C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3218-971D-40E9-9877-0A3EC567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6AD1-96B2-45CB-B9AD-13072650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8A87-7786-425A-B050-59FE6CD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0534-9471-4279-8E34-67C95DD9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682B-89B2-4BC3-BAB1-D29B70BD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19E2-8003-452A-A296-383032EE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4BD1-F1B4-4687-98FA-9BDFD477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8A1E-3301-4F0B-A039-086A223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966D-7D16-48D6-B68A-F963475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8466F-2E34-472F-873F-E6180B3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C338-A43E-483B-9AB3-08ADF546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9A03-11D3-4470-A916-3A853360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8F27-FB41-4336-9D93-8801FC8A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8339-A862-427C-A94F-EC4C9274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3C66-7CB8-47A3-A1A9-28D7C9F1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0E22-B17C-495E-82EE-27B10A02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DE07-9A85-43D5-8808-F51E1FBC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DCEF-68FB-433B-9838-4D5F6B0F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9EB6-9D57-49EB-AE97-FD56AF34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D638-075F-40F2-B023-E87607FB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B411-1A8E-4A85-A6A4-E5E85663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0418-1A6E-4545-8793-57C2A34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57C8-E107-4661-A640-67942381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773D-788A-43CD-8CAC-8E3D77CB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A202-93F6-4080-B486-C9A03D01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84FEA-906F-40D0-9022-818CE487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FA4FC-0965-4B97-8294-75AC61EB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6FA17-FDF9-485F-851F-6153C07F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4B01-D009-4B3D-99D1-061522EA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675C-96A7-4DE4-93A4-2C322A19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4DC9-1347-4C8C-B51B-380B7F0B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B845C-F96D-49F3-8DBE-7C82A01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4356-C0F2-49C0-B0B7-90C4780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CD1A-DF64-42A5-AA3D-3F2F396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BF02-7365-48BF-B966-3774F7A1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5900-258B-482F-B151-42A3421E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BED3-A9E4-4F6E-ADD5-AE1F1A09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E08DD-05EE-4ABA-B851-5B283145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A3228-1C7E-4200-8A17-4C6E5DC9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A398F-A5DF-437E-B25F-F0D77057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E3E37-B59F-469E-B620-2613CA2D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3C89B-03FB-4472-B86D-16BE1D5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6C5FD-1D92-4F1B-9789-00DA2A0E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3F069-C502-4608-B732-875DE45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E2717-87B9-422B-86AF-0F8D5CD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A9E9-7335-4E25-AF5A-7C6106F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6BD3-BDC6-45FA-AD5D-1B793583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49AF-C81B-4949-B06C-FA990E89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FFF9-2E87-4422-B31A-3F1043CD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8B22-084E-4D71-88A3-ED5AC3C1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26E1-3C6E-45EC-8C2E-F954322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49AFF-2E7C-498E-A17A-615B1A63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C61F8-0169-466C-959E-C99760E1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7254-2A16-42F8-8764-E1A67B1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6A227-610E-4F33-B312-48C22620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4C3C4-4D84-426B-B536-F4B4525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EF86-2ADF-4E94-906C-10D3A4D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B7FDA-801F-43DF-A54B-45B8FF6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2E644-A44A-4B46-B2C0-6A82BF3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6E069-19E9-4ABC-B8F2-5924FEC2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DBD06-8A65-4498-B8C3-2393A10A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74192-DC93-46BB-91FC-35C9DACC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B5683-1DBF-4B4D-B625-2EA7A304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66FD0-CFED-45C8-A4AF-786E4BD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490-86B3-4785-99E4-CB0168087A36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3787-B2F4-438D-A7A9-C45F7D3A1E6E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325-23B3-4CDD-893E-61E423B324E9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DC79-FFA0-4734-B5F5-5F6C03EC278B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31BC-3850-42A4-A959-E7BD228BDADD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928-1D41-4655-84E2-6411E9103D55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F99-4C05-4E5F-ABCE-3F74949EA4D1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DAD0-2989-4637-AA16-393A9008CB18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606C-6DE1-4045-849C-70F7D7AB7516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5739-0994-4F51-B816-861B05FC14CE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63A7-9E15-4270-B56F-EDA6A42840E4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38._Frank_Pourcel_-_Theme_From_Bilitis_1_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"/>
          <p:cNvSpPr/>
          <p:nvPr/>
        </p:nvSpPr>
        <p:spPr>
          <a:xfrm>
            <a:off x="10080" y="769680"/>
            <a:ext cx="31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COLACIO.J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APRES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6373080" y="436788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LUA CHE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1124280" y="559044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RA: ILZE SO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  <p:sndAc>
      <p:stSnd>
        <p:snd r:embed="rId1" name="38._Frank_Pourcel_-_Theme_From_Bilitis_1_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tângulo 1"/>
          <p:cNvSpPr/>
          <p:nvPr/>
        </p:nvSpPr>
        <p:spPr>
          <a:xfrm>
            <a:off x="4572000" y="42926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h, lua cheia que no céu fulgur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itindo raios pratead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lareando a ru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tângulo 1"/>
          <p:cNvSpPr/>
          <p:nvPr/>
        </p:nvSpPr>
        <p:spPr>
          <a:xfrm>
            <a:off x="4572000" y="4221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ua dos apaixonad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e sob ela fazem eternas j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 amor e lealda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tângulo 1"/>
          <p:cNvSpPr/>
          <p:nvPr/>
        </p:nvSpPr>
        <p:spPr>
          <a:xfrm>
            <a:off x="4572000" y="3645000"/>
            <a:ext cx="457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Lua bonita de marido ciumento,que fica rondando em seu alazão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não permitindo que o sol venha aquecer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a amada o coraçã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tângulo 1"/>
          <p:cNvSpPr/>
          <p:nvPr/>
        </p:nvSpPr>
        <p:spPr>
          <a:xfrm>
            <a:off x="4572000" y="39337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s como toda mulh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lua também é facei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 quando realmente qu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 tem o que a detenha!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tângulo 2"/>
          <p:cNvSpPr/>
          <p:nvPr/>
        </p:nvSpPr>
        <p:spPr>
          <a:xfrm>
            <a:off x="4572000" y="3573360"/>
            <a:ext cx="457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e vez em quando, consegue se encontr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om o sol, seu querido amante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e, em grandes façanha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e entrega por inteira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tângulo 2"/>
          <p:cNvSpPr/>
          <p:nvPr/>
        </p:nvSpPr>
        <p:spPr>
          <a:xfrm>
            <a:off x="4572000" y="4221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h, lua cheia que no céu passe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nho você como minha companheir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0" y="765000"/>
            <a:ext cx="7993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alibri"/>
              </a:rPr>
              <a:t>Autora : Ilze So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alibri"/>
              </a:rPr>
              <a:t>Imagem :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presentação:  Colacio.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Contato: colacio.j@superig.com.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15/10/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tângulo 2"/>
          <p:cNvSpPr/>
          <p:nvPr/>
        </p:nvSpPr>
        <p:spPr>
          <a:xfrm>
            <a:off x="539640" y="544500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Visite o site:  http://www.ilzesoares.recantodasletras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3:24:45Z</dcterms:created>
  <dc:creator>Colacio.j Slides</dc:creator>
  <dc:description>Autora : Ilze Soares 
Imagem : Internet
Apresentação:  Colacio.j
Contato: colacio.j@superig.com.br
15/10/2014
</dc:description>
  <dc:language>en-US</dc:language>
  <cp:lastModifiedBy>Server</cp:lastModifiedBy>
  <dcterms:modified xsi:type="dcterms:W3CDTF">2014-10-15T23:43:15Z</dcterms:modified>
  <cp:revision>27</cp:revision>
  <dc:subject>Apresentação slides</dc:subject>
  <dc:title>Lua cheia - Ilze Soares - 2014</dc:title>
</cp:coreProperties>
</file>