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38._Frank_Pourcel_-_Theme_From_Bilitis_1_.wav" ContentType="audio/x-wav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7627A-1DC2-43FC-9189-B66D82C2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EC129-21DB-4652-AEB7-2F9DDAF8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C51A1-DDA0-41DE-9B72-16C8D805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D4553-94E1-4F88-8703-38B2734E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398A1-9BEF-4788-B1CF-317EB3BD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B4303-FFFA-4C03-AE71-D8E91A9A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7B031-9842-4C9A-8AC5-9F518DB9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55780-336B-445D-BED3-659AD6C74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FB64C-725A-4C24-9CAD-0A62DA089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326AD-2249-4EDB-8663-EE19F4261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0CF8C-0262-4065-A145-673A942A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59F86-64F1-4619-A868-C1651098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7E951-C3F7-4586-A2F8-0FA1954D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A3D01-2DD8-46F8-AC06-940C2740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C5F53-BDA1-4D97-8D67-6B5F0D5B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FA811-1AEA-4814-B092-330F7CFC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5AB49-3EA6-47EA-98CC-D8A31B4C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5C01B4-01E6-485A-AC3A-2AD54010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E2940-0547-42E5-98C3-5E54A47F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7B054-8B09-4C1F-8D30-C0B076BE8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41606-D360-4CC4-99B4-3668D3454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7F6202-58CF-4017-8A52-E0345FA37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243457-9067-4899-93DD-86324688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E93E3-5D02-448D-81A8-99B5E200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8CB934-B64C-4671-B278-3AD9F293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13B7D3-F90B-479C-BE4C-ECC3F92E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BB53C-8A50-4B49-8E88-0D0245AE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49670D-2EA8-4FEB-8805-02711FE6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3DA740-1656-47C8-B719-06B3A7DD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CEBCAF-CCDA-4310-8B80-EE6535B6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F1C4-8C6B-4AA9-A183-FC4221D32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B9677F-AC5E-4C7E-8102-367789AA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CD49C7-E7DE-4DD4-B26F-7BC9AA45C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B38F01-5161-4C55-98C2-099A85A96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B8CAA-7974-4481-9ACA-DA1C65E50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AD884-17F1-4B0D-95F6-3A17CF18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917AC-5106-4B55-BDE2-3D8F5A65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0C99B-DF1F-4725-BA7F-D69FFDD4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68A45-00BD-423A-896A-4DDA2EF2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1C7C8-D268-4F52-8A6A-9FDEB4E6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FBDCA-58D3-4A9A-9280-6B13AB3D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942E-B904-49A9-AB50-F1F6D292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46B8C-61D9-4D4E-AB6B-8A1846E6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2541B-4CBB-4933-A975-F2A878B2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B11C1-2EFC-4E38-9414-4109E0A1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39ACF-94D1-4563-A821-65E287E45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43E96-2DF8-4C2C-8BA5-AA51D2C99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C271-CB36-4914-966A-6C78BFCA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80E6-97AF-4805-9286-BFD47520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0120-ED5C-479F-9BB4-12EB22B8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AEA1-9AF6-4726-BB0F-8AACE369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41A1-B8C2-426E-83AF-90ADF430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F0ED-FC2E-4417-A624-2A9886E3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8909-D9B5-4EB4-B41B-282B5B21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B81A-576B-4961-8201-33DDDE76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8EF3-096F-4B53-846A-19F94EB66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62F5-78B3-4D7C-ADCC-801CACB3A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9BF2-5251-406D-ABAE-659F80F6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2811-7674-42EA-B3AF-A3745D44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5766-1426-498F-9481-E0985A1B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B83E-DBBE-40B5-BF39-7E56E0BC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633A-280E-403C-AE53-BB81864B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3C41-19AB-48D1-B2A1-32B8641F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011E-D7F9-4238-8839-C9695D03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A768-8DF3-4F7A-B1A6-5629309F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3273-BADF-463F-A993-8C9F4B24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5325-9B67-4384-8961-8CF03D93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7553-4B70-493B-869F-5F82CB40D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3BB8-11E8-46D1-B045-9B1C1E1F1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BA285-A129-454F-82A2-CE215E2AF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EBE60-0FE2-4A5D-9D4C-11C33C08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DDC11-D3D1-4D20-A469-7FD66BF3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70A8D-9D8A-4A43-BAA1-1943AF98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06ECD-5F83-4492-ABC0-B2977911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2469B-DCBB-4040-B5BF-0298409F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CCFBB-1B40-4CD7-A01F-56C910A2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8BEEE-A5B0-494C-80F2-4C9F156D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87398-E2BE-43EA-8B11-CB545FB0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A2CFB-98D4-4A19-AB19-240F288F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93D61-EF2C-4E2E-9294-808253267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0A732-5E35-437A-A77B-5732E063F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A0C1C-379A-4487-A0C1-2C26A6FB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C3BAA-32A8-4BA1-91E7-7CA9B2BF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913A6-B733-4ECB-BA7C-CAF687CF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8875B-5E45-495A-8871-F6842697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06C46-7761-41F6-AD99-21DC3585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5E6E3-EDE7-4111-9CB3-F3184425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974F6-91DC-4F71-84BB-ED2DE930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4DFA0-90CB-4AA5-9CAC-21DDA3D1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4D6C5-254C-42D3-AFDF-AEA97CD7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E643B-69BC-42E5-B7AC-5824F0B7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8038F-4E9F-424B-B5D6-D0B7D68E5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E401A-91A1-404C-8B6C-D4672CD4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1B916-8328-4021-BD22-CCEA847D7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9F75C-8581-4BA6-AEFF-32B8CF56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18FB3-2B3C-4F77-ACDE-98750AE6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8864E-3CB3-4258-ADF7-E6AC35F5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FE9A3-E01E-46F2-A691-4A36D2B4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9F9C2-54C3-4948-809A-F73108DF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003D8-FF9C-44C7-934C-5D50B9CB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AE026-A592-4A38-BDA2-E997A8BD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0C32D-9426-4F5D-B2CD-E64F7FFD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22EBF-EF06-48A8-9E72-7C2C7CDB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7C6CA-1226-4921-885D-73C6E0236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F8BF3-BF70-4696-B1F3-0250D7388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A1E50-D71E-4813-8F42-90709BAED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11C5F-1B67-49C3-B1B4-732FC4D5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119B3-C237-4DF7-8AC7-A6364497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67806-407D-4DC0-A4F1-DDCFEBA3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FA93C-E161-4820-9312-971CC15F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A95D4-BE5E-4D2B-A758-5DDA324B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CCA37-6933-4D61-AE96-961D30EC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4A6FF-9103-4081-8545-7C76FB1F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0C86E-2CD6-467C-8C1F-264A9728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5DC92-5B1B-4703-BC97-B0E81589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85F51-623A-40BD-85BB-915B0D49E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739E1-02EB-4446-81D7-CBDAD8D91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9C32F-8F27-4120-8FBA-AABE04E86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1B1FF-9A37-43CA-820E-5D987EF7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5DF2B-EF5C-49E6-9447-BC4025FD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91361-CE19-4845-AA3C-0BAFE546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06883-F257-41E0-923B-36BB0382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06716-0414-46FB-8170-CAC17EB9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2C707-C28A-4DDD-858B-CB10675F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00D3C-B84C-4231-848C-62E21674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E4AAE-9809-4137-A13E-45DB25C2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651C4-C1F2-4ED2-BAD9-1F3CB269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1E87A-4A7D-4074-96A9-8E21D3BFD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02B51-8543-456E-8836-39CAA95D8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DA3A1-1586-457E-BD75-5E2B67AE2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08711-23A0-410A-9064-0184F60C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1E6EE-7609-4304-8783-F03128DC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:\Documents and Settings\Server\Meus documentos\barra vermelha.png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7876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C:\Documents and Settings\Server\Meus documentos\barra vermelha.png"/>
          <p:cNvPicPr/>
          <p:nvPr/>
        </p:nvPicPr>
        <p:blipFill>
          <a:blip r:embed="rId3"/>
          <a:stretch/>
        </p:blipFill>
        <p:spPr>
          <a:xfrm>
            <a:off x="-6480" y="6076800"/>
            <a:ext cx="9156960" cy="7876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3" descr="C:\Documents and Settings\Server\Meus documentos\225255_182922415089446_100001150660953_421088_7263776_n.jpg"/>
          <p:cNvPicPr/>
          <p:nvPr/>
        </p:nvPicPr>
        <p:blipFill>
          <a:blip r:embed="rId4"/>
          <a:stretch/>
        </p:blipFill>
        <p:spPr>
          <a:xfrm>
            <a:off x="0" y="765000"/>
            <a:ext cx="9144000" cy="52563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4" descr="C:\Documents and Settings\Server\Meus documentos\flor.png"/>
          <p:cNvPicPr/>
          <p:nvPr/>
        </p:nvPicPr>
        <p:blipFill>
          <a:blip r:embed="rId5"/>
          <a:stretch/>
        </p:blipFill>
        <p:spPr>
          <a:xfrm rot="279000">
            <a:off x="6173280" y="-127080"/>
            <a:ext cx="2926080" cy="12258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4" descr="C:\Documents and Settings\Server\Meus documentos\flor.png"/>
          <p:cNvPicPr/>
          <p:nvPr/>
        </p:nvPicPr>
        <p:blipFill>
          <a:blip r:embed="rId6"/>
          <a:stretch/>
        </p:blipFill>
        <p:spPr>
          <a:xfrm rot="11310000">
            <a:off x="74160" y="5726160"/>
            <a:ext cx="2925720" cy="1225440"/>
          </a:xfrm>
          <a:prstGeom prst="rect">
            <a:avLst/>
          </a:prstGeom>
          <a:ln w="0">
            <a:noFill/>
          </a:ln>
        </p:spPr>
      </p:pic>
      <p:sp>
        <p:nvSpPr>
          <p:cNvPr id="5" name="Text Box 16"/>
          <p:cNvSpPr/>
          <p:nvPr/>
        </p:nvSpPr>
        <p:spPr>
          <a:xfrm>
            <a:off x="8101080" y="652464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Colacio.j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8" descr="C:\Documents and Settings\Server\Meus documentos\barra vermelha.png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7876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8" descr="C:\Documents and Settings\Server\Meus documentos\barra vermelha.png"/>
          <p:cNvPicPr/>
          <p:nvPr/>
        </p:nvPicPr>
        <p:blipFill>
          <a:blip r:embed="rId3"/>
          <a:stretch/>
        </p:blipFill>
        <p:spPr>
          <a:xfrm>
            <a:off x="-6480" y="6076800"/>
            <a:ext cx="9156960" cy="7876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3" descr="C:\Documents and Settings\Server\Meus documentos\225255_182922415089446_100001150660953_421088_7263776_n.jpg"/>
          <p:cNvPicPr/>
          <p:nvPr/>
        </p:nvPicPr>
        <p:blipFill>
          <a:blip r:embed="rId4"/>
          <a:stretch/>
        </p:blipFill>
        <p:spPr>
          <a:xfrm>
            <a:off x="0" y="765000"/>
            <a:ext cx="9144000" cy="52563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4" descr="C:\Documents and Settings\Server\Meus documentos\flor.png"/>
          <p:cNvPicPr/>
          <p:nvPr/>
        </p:nvPicPr>
        <p:blipFill>
          <a:blip r:embed="rId5"/>
          <a:stretch/>
        </p:blipFill>
        <p:spPr>
          <a:xfrm rot="279000">
            <a:off x="6173280" y="-127080"/>
            <a:ext cx="2926080" cy="12258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4" descr="C:\Documents and Settings\Server\Meus documentos\flor.png"/>
          <p:cNvPicPr/>
          <p:nvPr/>
        </p:nvPicPr>
        <p:blipFill>
          <a:blip r:embed="rId6"/>
          <a:stretch/>
        </p:blipFill>
        <p:spPr>
          <a:xfrm rot="11310000">
            <a:off x="74160" y="5726160"/>
            <a:ext cx="2925720" cy="122544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16"/>
          <p:cNvSpPr/>
          <p:nvPr/>
        </p:nvSpPr>
        <p:spPr>
          <a:xfrm>
            <a:off x="8101080" y="652464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Colacio.j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9C27-9B09-44E6-9C32-4324B498160F}" type="slidenum"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8" descr="C:\Documents and Settings\Server\Meus documentos\barra vermelha.png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7876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8" descr="C:\Documents and Settings\Server\Meus documentos\barra vermelha.png"/>
          <p:cNvPicPr/>
          <p:nvPr/>
        </p:nvPicPr>
        <p:blipFill>
          <a:blip r:embed="rId3"/>
          <a:stretch/>
        </p:blipFill>
        <p:spPr>
          <a:xfrm>
            <a:off x="-6480" y="6076800"/>
            <a:ext cx="9156960" cy="7876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3" descr="C:\Documents and Settings\Server\Meus documentos\225255_182922415089446_100001150660953_421088_7263776_n.jpg"/>
          <p:cNvPicPr/>
          <p:nvPr/>
        </p:nvPicPr>
        <p:blipFill>
          <a:blip r:embed="rId4"/>
          <a:stretch/>
        </p:blipFill>
        <p:spPr>
          <a:xfrm>
            <a:off x="0" y="765000"/>
            <a:ext cx="9144000" cy="52563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4" descr="C:\Documents and Settings\Server\Meus documentos\flor.png"/>
          <p:cNvPicPr/>
          <p:nvPr/>
        </p:nvPicPr>
        <p:blipFill>
          <a:blip r:embed="rId5"/>
          <a:stretch/>
        </p:blipFill>
        <p:spPr>
          <a:xfrm rot="279000">
            <a:off x="6173280" y="-127080"/>
            <a:ext cx="2926080" cy="12258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C:\Documents and Settings\Server\Meus documentos\flor.png"/>
          <p:cNvPicPr/>
          <p:nvPr/>
        </p:nvPicPr>
        <p:blipFill>
          <a:blip r:embed="rId6"/>
          <a:stretch/>
        </p:blipFill>
        <p:spPr>
          <a:xfrm rot="11310000">
            <a:off x="74160" y="5726160"/>
            <a:ext cx="2925720" cy="1225440"/>
          </a:xfrm>
          <a:prstGeom prst="rect">
            <a:avLst/>
          </a:prstGeom>
          <a:ln w="0">
            <a:noFill/>
          </a:ln>
        </p:spPr>
      </p:pic>
      <p:sp>
        <p:nvSpPr>
          <p:cNvPr id="454" name="Text Box 16"/>
          <p:cNvSpPr/>
          <p:nvPr/>
        </p:nvSpPr>
        <p:spPr>
          <a:xfrm>
            <a:off x="8101080" y="652464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Colacio.j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E634-6910-49C5-BE47-DC5A37BDA5B6}" type="slidenum"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8" descr="C:\Documents and Settings\Server\Meus documentos\barra vermelha.png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7876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8" descr="C:\Documents and Settings\Server\Meus documentos\barra vermelha.png"/>
          <p:cNvPicPr/>
          <p:nvPr/>
        </p:nvPicPr>
        <p:blipFill>
          <a:blip r:embed="rId3"/>
          <a:stretch/>
        </p:blipFill>
        <p:spPr>
          <a:xfrm>
            <a:off x="-6480" y="6076800"/>
            <a:ext cx="9156960" cy="78768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3" descr="C:\Documents and Settings\Server\Meus documentos\225255_182922415089446_100001150660953_421088_7263776_n.jpg"/>
          <p:cNvPicPr/>
          <p:nvPr/>
        </p:nvPicPr>
        <p:blipFill>
          <a:blip r:embed="rId4"/>
          <a:stretch/>
        </p:blipFill>
        <p:spPr>
          <a:xfrm>
            <a:off x="0" y="765000"/>
            <a:ext cx="9144000" cy="525636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14" descr="C:\Documents and Settings\Server\Meus documentos\flor.png"/>
          <p:cNvPicPr/>
          <p:nvPr/>
        </p:nvPicPr>
        <p:blipFill>
          <a:blip r:embed="rId5"/>
          <a:stretch/>
        </p:blipFill>
        <p:spPr>
          <a:xfrm rot="279000">
            <a:off x="6173280" y="-127080"/>
            <a:ext cx="2926080" cy="12258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4" descr="C:\Documents and Settings\Server\Meus documentos\flor.png"/>
          <p:cNvPicPr/>
          <p:nvPr/>
        </p:nvPicPr>
        <p:blipFill>
          <a:blip r:embed="rId6"/>
          <a:stretch/>
        </p:blipFill>
        <p:spPr>
          <a:xfrm rot="11310000">
            <a:off x="74160" y="5726160"/>
            <a:ext cx="2925720" cy="122544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16"/>
          <p:cNvSpPr/>
          <p:nvPr/>
        </p:nvSpPr>
        <p:spPr>
          <a:xfrm>
            <a:off x="8101080" y="652464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Colacio.j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C878-7F92-4667-BD3C-0AE2B46AD579}" type="slidenum"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C:\Documents and Settings\Server\Meus documentos\barra vermelha.png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787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C:\Documents and Settings\Server\Meus documentos\barra vermelha.png"/>
          <p:cNvPicPr/>
          <p:nvPr/>
        </p:nvPicPr>
        <p:blipFill>
          <a:blip r:embed="rId3"/>
          <a:stretch/>
        </p:blipFill>
        <p:spPr>
          <a:xfrm>
            <a:off x="-6480" y="6076800"/>
            <a:ext cx="9156960" cy="787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C:\Documents and Settings\Server\Meus documentos\225255_182922415089446_100001150660953_421088_7263776_n.jpg"/>
          <p:cNvPicPr/>
          <p:nvPr/>
        </p:nvPicPr>
        <p:blipFill>
          <a:blip r:embed="rId4"/>
          <a:stretch/>
        </p:blipFill>
        <p:spPr>
          <a:xfrm>
            <a:off x="0" y="765000"/>
            <a:ext cx="9144000" cy="5256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C:\Documents and Settings\Server\Meus documentos\flor.png"/>
          <p:cNvPicPr/>
          <p:nvPr/>
        </p:nvPicPr>
        <p:blipFill>
          <a:blip r:embed="rId5"/>
          <a:stretch/>
        </p:blipFill>
        <p:spPr>
          <a:xfrm rot="279000">
            <a:off x="6173280" y="-127080"/>
            <a:ext cx="2926080" cy="1225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C:\Documents and Settings\Server\Meus documentos\flor.png"/>
          <p:cNvPicPr/>
          <p:nvPr/>
        </p:nvPicPr>
        <p:blipFill>
          <a:blip r:embed="rId6"/>
          <a:stretch/>
        </p:blipFill>
        <p:spPr>
          <a:xfrm rot="11310000">
            <a:off x="74160" y="5726160"/>
            <a:ext cx="2925720" cy="12254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6"/>
          <p:cNvSpPr/>
          <p:nvPr/>
        </p:nvSpPr>
        <p:spPr>
          <a:xfrm>
            <a:off x="8101080" y="652464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Colacio.j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4E2A-4FEB-4D7B-B9A8-AC0A3DB53AA5}" type="slidenum"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8" descr="C:\Documents and Settings\Server\Meus documentos\barra vermelha.png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787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C:\Documents and Settings\Server\Meus documentos\barra vermelha.png"/>
          <p:cNvPicPr/>
          <p:nvPr/>
        </p:nvPicPr>
        <p:blipFill>
          <a:blip r:embed="rId3"/>
          <a:stretch/>
        </p:blipFill>
        <p:spPr>
          <a:xfrm>
            <a:off x="-6480" y="6076800"/>
            <a:ext cx="9156960" cy="787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C:\Documents and Settings\Server\Meus documentos\225255_182922415089446_100001150660953_421088_7263776_n.jpg"/>
          <p:cNvPicPr/>
          <p:nvPr/>
        </p:nvPicPr>
        <p:blipFill>
          <a:blip r:embed="rId4"/>
          <a:stretch/>
        </p:blipFill>
        <p:spPr>
          <a:xfrm>
            <a:off x="0" y="765000"/>
            <a:ext cx="9144000" cy="5256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C:\Documents and Settings\Server\Meus documentos\flor.png"/>
          <p:cNvPicPr/>
          <p:nvPr/>
        </p:nvPicPr>
        <p:blipFill>
          <a:blip r:embed="rId5"/>
          <a:stretch/>
        </p:blipFill>
        <p:spPr>
          <a:xfrm rot="279000">
            <a:off x="6173280" y="-127080"/>
            <a:ext cx="2926080" cy="1225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C:\Documents and Settings\Server\Meus documentos\flor.png"/>
          <p:cNvPicPr/>
          <p:nvPr/>
        </p:nvPicPr>
        <p:blipFill>
          <a:blip r:embed="rId6"/>
          <a:stretch/>
        </p:blipFill>
        <p:spPr>
          <a:xfrm rot="11310000">
            <a:off x="74160" y="5726160"/>
            <a:ext cx="2925720" cy="12254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6"/>
          <p:cNvSpPr/>
          <p:nvPr/>
        </p:nvSpPr>
        <p:spPr>
          <a:xfrm>
            <a:off x="8101080" y="652464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Colacio.j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18B0-86C5-43CE-BD99-878DD44F7C11}" type="slidenum"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8" descr="C:\Documents and Settings\Server\Meus documentos\barra vermelha.png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787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C:\Documents and Settings\Server\Meus documentos\barra vermelha.png"/>
          <p:cNvPicPr/>
          <p:nvPr/>
        </p:nvPicPr>
        <p:blipFill>
          <a:blip r:embed="rId3"/>
          <a:stretch/>
        </p:blipFill>
        <p:spPr>
          <a:xfrm>
            <a:off x="-6480" y="6076800"/>
            <a:ext cx="9156960" cy="787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C:\Documents and Settings\Server\Meus documentos\225255_182922415089446_100001150660953_421088_7263776_n.jpg"/>
          <p:cNvPicPr/>
          <p:nvPr/>
        </p:nvPicPr>
        <p:blipFill>
          <a:blip r:embed="rId4"/>
          <a:stretch/>
        </p:blipFill>
        <p:spPr>
          <a:xfrm>
            <a:off x="0" y="765000"/>
            <a:ext cx="9144000" cy="5256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C:\Documents and Settings\Server\Meus documentos\flor.png"/>
          <p:cNvPicPr/>
          <p:nvPr/>
        </p:nvPicPr>
        <p:blipFill>
          <a:blip r:embed="rId5"/>
          <a:stretch/>
        </p:blipFill>
        <p:spPr>
          <a:xfrm rot="279000">
            <a:off x="6173280" y="-127080"/>
            <a:ext cx="2926080" cy="1225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C:\Documents and Settings\Server\Meus documentos\flor.png"/>
          <p:cNvPicPr/>
          <p:nvPr/>
        </p:nvPicPr>
        <p:blipFill>
          <a:blip r:embed="rId6"/>
          <a:stretch/>
        </p:blipFill>
        <p:spPr>
          <a:xfrm rot="11310000">
            <a:off x="74160" y="5726160"/>
            <a:ext cx="2925720" cy="12254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6"/>
          <p:cNvSpPr/>
          <p:nvPr/>
        </p:nvSpPr>
        <p:spPr>
          <a:xfrm>
            <a:off x="8101080" y="652464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Colacio.j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7A0C-A115-464B-94FD-F9EC1FC04E26}" type="slidenum"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8" descr="C:\Documents and Settings\Server\Meus documentos\barra vermelha.png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787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C:\Documents and Settings\Server\Meus documentos\barra vermelha.png"/>
          <p:cNvPicPr/>
          <p:nvPr/>
        </p:nvPicPr>
        <p:blipFill>
          <a:blip r:embed="rId3"/>
          <a:stretch/>
        </p:blipFill>
        <p:spPr>
          <a:xfrm>
            <a:off x="-6480" y="6076800"/>
            <a:ext cx="9156960" cy="787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C:\Documents and Settings\Server\Meus documentos\225255_182922415089446_100001150660953_421088_7263776_n.jpg"/>
          <p:cNvPicPr/>
          <p:nvPr/>
        </p:nvPicPr>
        <p:blipFill>
          <a:blip r:embed="rId4"/>
          <a:stretch/>
        </p:blipFill>
        <p:spPr>
          <a:xfrm>
            <a:off x="0" y="765000"/>
            <a:ext cx="9144000" cy="5256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C:\Documents and Settings\Server\Meus documentos\flor.png"/>
          <p:cNvPicPr/>
          <p:nvPr/>
        </p:nvPicPr>
        <p:blipFill>
          <a:blip r:embed="rId5"/>
          <a:stretch/>
        </p:blipFill>
        <p:spPr>
          <a:xfrm rot="279000">
            <a:off x="6173280" y="-127080"/>
            <a:ext cx="2926080" cy="12258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" descr="C:\Documents and Settings\Server\Meus documentos\flor.png"/>
          <p:cNvPicPr/>
          <p:nvPr/>
        </p:nvPicPr>
        <p:blipFill>
          <a:blip r:embed="rId6"/>
          <a:stretch/>
        </p:blipFill>
        <p:spPr>
          <a:xfrm rot="11310000">
            <a:off x="74160" y="5726160"/>
            <a:ext cx="2925720" cy="12254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6"/>
          <p:cNvSpPr/>
          <p:nvPr/>
        </p:nvSpPr>
        <p:spPr>
          <a:xfrm>
            <a:off x="8101080" y="652464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Colacio.j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011B-FD72-46E8-A146-0C20EADEA1AF}" type="slidenum"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8" descr="C:\Documents and Settings\Server\Meus documentos\barra vermelha.png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7876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C:\Documents and Settings\Server\Meus documentos\barra vermelha.png"/>
          <p:cNvPicPr/>
          <p:nvPr/>
        </p:nvPicPr>
        <p:blipFill>
          <a:blip r:embed="rId3"/>
          <a:stretch/>
        </p:blipFill>
        <p:spPr>
          <a:xfrm>
            <a:off x="-6480" y="6076800"/>
            <a:ext cx="9156960" cy="787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3" descr="C:\Documents and Settings\Server\Meus documentos\225255_182922415089446_100001150660953_421088_7263776_n.jpg"/>
          <p:cNvPicPr/>
          <p:nvPr/>
        </p:nvPicPr>
        <p:blipFill>
          <a:blip r:embed="rId4"/>
          <a:stretch/>
        </p:blipFill>
        <p:spPr>
          <a:xfrm>
            <a:off x="0" y="765000"/>
            <a:ext cx="9144000" cy="5256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4" descr="C:\Documents and Settings\Server\Meus documentos\flor.png"/>
          <p:cNvPicPr/>
          <p:nvPr/>
        </p:nvPicPr>
        <p:blipFill>
          <a:blip r:embed="rId5"/>
          <a:stretch/>
        </p:blipFill>
        <p:spPr>
          <a:xfrm rot="279000">
            <a:off x="6173280" y="-127080"/>
            <a:ext cx="2926080" cy="1225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4" descr="C:\Documents and Settings\Server\Meus documentos\flor.png"/>
          <p:cNvPicPr/>
          <p:nvPr/>
        </p:nvPicPr>
        <p:blipFill>
          <a:blip r:embed="rId6"/>
          <a:stretch/>
        </p:blipFill>
        <p:spPr>
          <a:xfrm rot="11310000">
            <a:off x="74160" y="5726160"/>
            <a:ext cx="2925720" cy="122544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16"/>
          <p:cNvSpPr/>
          <p:nvPr/>
        </p:nvSpPr>
        <p:spPr>
          <a:xfrm>
            <a:off x="8101080" y="652464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Colacio.j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10B1-9002-4B18-817C-3D89F92791D3}" type="slidenum"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8" descr="C:\Documents and Settings\Server\Meus documentos\barra vermelha.png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7876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" descr="C:\Documents and Settings\Server\Meus documentos\barra vermelha.png"/>
          <p:cNvPicPr/>
          <p:nvPr/>
        </p:nvPicPr>
        <p:blipFill>
          <a:blip r:embed="rId3"/>
          <a:stretch/>
        </p:blipFill>
        <p:spPr>
          <a:xfrm>
            <a:off x="-6480" y="6076800"/>
            <a:ext cx="9156960" cy="7876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3" descr="C:\Documents and Settings\Server\Meus documentos\225255_182922415089446_100001150660953_421088_7263776_n.jpg"/>
          <p:cNvPicPr/>
          <p:nvPr/>
        </p:nvPicPr>
        <p:blipFill>
          <a:blip r:embed="rId4"/>
          <a:stretch/>
        </p:blipFill>
        <p:spPr>
          <a:xfrm>
            <a:off x="0" y="765000"/>
            <a:ext cx="9144000" cy="5256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4" descr="C:\Documents and Settings\Server\Meus documentos\flor.png"/>
          <p:cNvPicPr/>
          <p:nvPr/>
        </p:nvPicPr>
        <p:blipFill>
          <a:blip r:embed="rId5"/>
          <a:stretch/>
        </p:blipFill>
        <p:spPr>
          <a:xfrm rot="279000">
            <a:off x="6173280" y="-127080"/>
            <a:ext cx="2926080" cy="12258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4" descr="C:\Documents and Settings\Server\Meus documentos\flor.png"/>
          <p:cNvPicPr/>
          <p:nvPr/>
        </p:nvPicPr>
        <p:blipFill>
          <a:blip r:embed="rId6"/>
          <a:stretch/>
        </p:blipFill>
        <p:spPr>
          <a:xfrm rot="11310000">
            <a:off x="74160" y="5726160"/>
            <a:ext cx="2925720" cy="122544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6"/>
          <p:cNvSpPr/>
          <p:nvPr/>
        </p:nvSpPr>
        <p:spPr>
          <a:xfrm>
            <a:off x="8101080" y="652464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Colacio.j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E8EF-A153-416D-86D7-4692A8F9D8FA}" type="slidenum"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8" descr="C:\Documents and Settings\Server\Meus documentos\barra vermelha.png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7876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8" descr="C:\Documents and Settings\Server\Meus documentos\barra vermelha.png"/>
          <p:cNvPicPr/>
          <p:nvPr/>
        </p:nvPicPr>
        <p:blipFill>
          <a:blip r:embed="rId3"/>
          <a:stretch/>
        </p:blipFill>
        <p:spPr>
          <a:xfrm>
            <a:off x="-6480" y="6076800"/>
            <a:ext cx="9156960" cy="7876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3" descr="C:\Documents and Settings\Server\Meus documentos\225255_182922415089446_100001150660953_421088_7263776_n.jpg"/>
          <p:cNvPicPr/>
          <p:nvPr/>
        </p:nvPicPr>
        <p:blipFill>
          <a:blip r:embed="rId4"/>
          <a:stretch/>
        </p:blipFill>
        <p:spPr>
          <a:xfrm>
            <a:off x="0" y="765000"/>
            <a:ext cx="9144000" cy="52563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4" descr="C:\Documents and Settings\Server\Meus documentos\flor.png"/>
          <p:cNvPicPr/>
          <p:nvPr/>
        </p:nvPicPr>
        <p:blipFill>
          <a:blip r:embed="rId5"/>
          <a:stretch/>
        </p:blipFill>
        <p:spPr>
          <a:xfrm rot="279000">
            <a:off x="6173280" y="-127080"/>
            <a:ext cx="2926080" cy="1225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4" descr="C:\Documents and Settings\Server\Meus documentos\flor.png"/>
          <p:cNvPicPr/>
          <p:nvPr/>
        </p:nvPicPr>
        <p:blipFill>
          <a:blip r:embed="rId6"/>
          <a:stretch/>
        </p:blipFill>
        <p:spPr>
          <a:xfrm rot="11310000">
            <a:off x="74160" y="5726160"/>
            <a:ext cx="2925720" cy="122544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16"/>
          <p:cNvSpPr/>
          <p:nvPr/>
        </p:nvSpPr>
        <p:spPr>
          <a:xfrm>
            <a:off x="8101080" y="652464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Colacio.j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17AC-19C8-4E89-9768-318E7EF3CD24}" type="slidenum"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8" descr="C:\Documents and Settings\Server\Meus documentos\barra vermelha.png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7876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C:\Documents and Settings\Server\Meus documentos\barra vermelha.png"/>
          <p:cNvPicPr/>
          <p:nvPr/>
        </p:nvPicPr>
        <p:blipFill>
          <a:blip r:embed="rId3"/>
          <a:stretch/>
        </p:blipFill>
        <p:spPr>
          <a:xfrm>
            <a:off x="-6480" y="6076800"/>
            <a:ext cx="9156960" cy="7876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3" descr="C:\Documents and Settings\Server\Meus documentos\225255_182922415089446_100001150660953_421088_7263776_n.jpg"/>
          <p:cNvPicPr/>
          <p:nvPr/>
        </p:nvPicPr>
        <p:blipFill>
          <a:blip r:embed="rId4"/>
          <a:stretch/>
        </p:blipFill>
        <p:spPr>
          <a:xfrm>
            <a:off x="0" y="765000"/>
            <a:ext cx="9144000" cy="52563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4" descr="C:\Documents and Settings\Server\Meus documentos\flor.png"/>
          <p:cNvPicPr/>
          <p:nvPr/>
        </p:nvPicPr>
        <p:blipFill>
          <a:blip r:embed="rId5"/>
          <a:stretch/>
        </p:blipFill>
        <p:spPr>
          <a:xfrm rot="279000">
            <a:off x="6173280" y="-127080"/>
            <a:ext cx="2926080" cy="12258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4" descr="C:\Documents and Settings\Server\Meus documentos\flor.png"/>
          <p:cNvPicPr/>
          <p:nvPr/>
        </p:nvPicPr>
        <p:blipFill>
          <a:blip r:embed="rId6"/>
          <a:stretch/>
        </p:blipFill>
        <p:spPr>
          <a:xfrm rot="11310000">
            <a:off x="74160" y="5726160"/>
            <a:ext cx="2925720" cy="122544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16"/>
          <p:cNvSpPr/>
          <p:nvPr/>
        </p:nvSpPr>
        <p:spPr>
          <a:xfrm>
            <a:off x="8101080" y="652464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Colacio.j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C78B-80DD-4481-B511-922D3D4F904A}" type="slidenum"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38._Frank_Pourcel_-_Theme_From_Bilitis_1_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1"/>
          <p:cNvSpPr/>
          <p:nvPr/>
        </p:nvSpPr>
        <p:spPr>
          <a:xfrm>
            <a:off x="10080" y="769680"/>
            <a:ext cx="314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alibri"/>
                <a:ea typeface="Arial"/>
              </a:rPr>
              <a:t>COLACIO.J SL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alibri"/>
                <a:ea typeface="Arial"/>
              </a:rPr>
              <a:t>APRESEN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1"/>
          <p:cNvSpPr/>
          <p:nvPr/>
        </p:nvSpPr>
        <p:spPr>
          <a:xfrm>
            <a:off x="6373080" y="4367880"/>
            <a:ext cx="242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LUA CHE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1"/>
          <p:cNvSpPr/>
          <p:nvPr/>
        </p:nvSpPr>
        <p:spPr>
          <a:xfrm>
            <a:off x="1124280" y="5590440"/>
            <a:ext cx="346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AUTORA: ILZE SO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fade thruBlk="true"/>
    <p:sndAc>
      <p:stSnd>
        <p:snd r:embed="rId1" name="38._Frank_Pourcel_-_Theme_From_Bilitis_1_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tângulo 1"/>
          <p:cNvSpPr/>
          <p:nvPr/>
        </p:nvSpPr>
        <p:spPr>
          <a:xfrm>
            <a:off x="4572000" y="429264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Oh, lua cheia que no céu fulgur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mitindo raios prateado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lareando a rua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tângulo 1"/>
          <p:cNvSpPr/>
          <p:nvPr/>
        </p:nvSpPr>
        <p:spPr>
          <a:xfrm>
            <a:off x="4572000" y="422100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Lua dos apaixonado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que sob ela fazem eternas ju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de amor e lealdad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tângulo 1"/>
          <p:cNvSpPr/>
          <p:nvPr/>
        </p:nvSpPr>
        <p:spPr>
          <a:xfrm>
            <a:off x="4572000" y="3645000"/>
            <a:ext cx="4572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Lua bonita de marido ciumento,que fica rondando em seu alazão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não permitindo que o sol venha aquecer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da amada o coraçã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tângulo 1"/>
          <p:cNvSpPr/>
          <p:nvPr/>
        </p:nvSpPr>
        <p:spPr>
          <a:xfrm>
            <a:off x="4572000" y="393372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Mas como toda mulher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 lua também é facei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 quando realmente quer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não tem o que a detenha!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tângulo 2"/>
          <p:cNvSpPr/>
          <p:nvPr/>
        </p:nvSpPr>
        <p:spPr>
          <a:xfrm>
            <a:off x="4572000" y="3573360"/>
            <a:ext cx="4572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De vez em quando, consegue se encontr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com o sol, seu querido amante</a:t>
            </a:r>
            <a:r>
              <a:rPr b="0" lang="pt-B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e, em grandes façanhas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se entrega por inteira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tângulo 2"/>
          <p:cNvSpPr/>
          <p:nvPr/>
        </p:nvSpPr>
        <p:spPr>
          <a:xfrm>
            <a:off x="4572000" y="422100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Oh, lua cheia que no céu passei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enho você como minha companheira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3"/>
          <p:cNvSpPr/>
          <p:nvPr/>
        </p:nvSpPr>
        <p:spPr>
          <a:xfrm>
            <a:off x="0" y="765000"/>
            <a:ext cx="79930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Calibri"/>
              </a:rPr>
              <a:t>Autora : Ilze Soa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Calibri"/>
              </a:rPr>
              <a:t>Imagem :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Apresentação:  Colacio.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Contato: colacio.j@superig.com.b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15/10/20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tângulo 2"/>
          <p:cNvSpPr/>
          <p:nvPr/>
        </p:nvSpPr>
        <p:spPr>
          <a:xfrm>
            <a:off x="539640" y="5445000"/>
            <a:ext cx="860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Calibri"/>
              </a:rPr>
              <a:t>Visite o site:  http://www.ilzesoares.recantodasletras.com.b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03:24:45Z</dcterms:created>
  <dc:creator>Colacio.j Slides</dc:creator>
  <dc:description>Autora : Ilze Soares 
Imagem : Internet
Apresentação:  Colacio.j
Contato: colacio.j@superig.com.br
15/10/2014
</dc:description>
  <dc:language>en-US</dc:language>
  <cp:lastModifiedBy>Server</cp:lastModifiedBy>
  <dcterms:modified xsi:type="dcterms:W3CDTF">2014-10-15T23:43:15Z</dcterms:modified>
  <cp:revision>27</cp:revision>
  <dc:subject>Apresentação slides</dc:subject>
  <dc:title>Lua cheia - Ilze Soares - 2014</dc:title>
</cp:coreProperties>
</file>