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Ernesto%20Cortazar%20-%20Lara's%20Theme.wav" ContentType="audio/x-wav"/>
  <Override PartName="/ppt/media/image15.jpeg" ContentType="image/jpeg"/>
  <Override PartName="/ppt/media/image4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9BF-ED32-42C0-BA46-5D25F4F2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8CA-D400-4D2D-AEE4-376B32C7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E20-9B03-43D3-A428-C6B59FEB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0F3-F46D-4BAA-8100-C4E0CF81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EF9-AC52-464E-B104-7EE5DFE7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F86-97DC-4FC2-A81F-9250DBA3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94C-C23F-4B35-B8FD-FEBFF61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074-EA33-4E6E-B465-8C12AE25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C85-FD36-4A15-AAA2-D8E3D1DD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CB3-1617-4D2B-9CEF-E7D6F28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158-2170-455D-8A82-6D077E1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11E-7D14-4939-AD00-2C8E717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EDEB-264B-46AA-A870-7CF29956F31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audio" Target="../media/Ernesto%20Cortazar%20-%20Lara&apos;s%20Theme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5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0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1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3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1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547640" y="3141720"/>
            <a:ext cx="62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ULHERES E FLORES </a:t>
            </a:r>
            <a:endParaRPr b="0" i="1" lang="en-US" sz="40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443700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ffcc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ccffcc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5480" y="443700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amizade, inteiras, anjos visíveis,  doutoras e prof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23840" y="400536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história do mundo, canal pelo qual o próprio Deus fez-se conh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51520" y="2198520"/>
            <a:ext cx="563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xto: Letícia Thompson – Mulheres e F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úsica: Ernesto Cortazar – Lara’s Th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bethnorling@globo.com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95480" y="3168720"/>
            <a:ext cx="70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itos se enganam quando pensam que uma mulher é uma f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, não 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645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Uma mulher é a terra que, fertiliz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nascer todas as fl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a mãe de todas el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o campo que recebe o sol e a chuv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az florescer o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50760" y="3716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uitivas, amam o adivinh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a elas, importa menos o buquê de fl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pensei em você”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que vem escondido atrás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lus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9264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 acolhem assim a lembrança como se estivessem abraçando todas as flores e fossem delas a rainh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14972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zem grandes as pequenas histórias e tornam menores as grandes 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23840" y="4292640"/>
            <a:ext cx="72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 amor o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eu finjo que sou frágil e você finge que acredita” lhes cai muit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23840" y="4221000"/>
            <a:ext cx="70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rdem a cabeça e não querem perder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49360"/>
            <a:ext cx="8064720" cy="5759280"/>
          </a:xfrm>
          <a:custGeom>
            <a:avLst/>
            <a:gdLst>
              <a:gd name="textAreaLeft" fmla="*/ 678600 w 8064720"/>
              <a:gd name="textAreaRight" fmla="*/ 7386120 w 8064720"/>
              <a:gd name="textAreaTop" fmla="*/ 678600 h 5759280"/>
              <a:gd name="textAreaBottom" fmla="*/ 5080680 h 5759280"/>
            </a:gdLst>
            <a:ahLst/>
            <a:rect l="textAreaLeft" t="textAreaTop" r="textAreaRight" b="textAreaBottom"/>
            <a:pathLst>
              <a:path w="302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646" y="21600"/>
                </a:lnTo>
                <a:arcTo wR="3600" hR="3600" stAng="10800000" swAng="5400000"/>
                <a:lnTo>
                  <a:pt x="3024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620640"/>
            <a:ext cx="7921440" cy="5616720"/>
          </a:xfrm>
          <a:custGeom>
            <a:avLst/>
            <a:gdLst>
              <a:gd name="textAreaLeft" fmla="*/ 661680 w 7921440"/>
              <a:gd name="textAreaRight" fmla="*/ 7259760 w 7921440"/>
              <a:gd name="textAreaTop" fmla="*/ 661680 h 5616720"/>
              <a:gd name="textAreaBottom" fmla="*/ 4955040 h 5616720"/>
            </a:gdLst>
            <a:ahLst/>
            <a:rect l="textAreaLeft" t="textAreaTop" r="textAreaRight" b="textAreaBottom"/>
            <a:pathLst>
              <a:path w="304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863" y="21600"/>
                </a:lnTo>
                <a:arcTo wR="3600" hR="3600" stAng="10800000" swAng="5400000"/>
                <a:lnTo>
                  <a:pt x="3046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648560" y="469584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495440" cy="2162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8172360" y="4762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395280" y="5516640"/>
            <a:ext cx="504720" cy="3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7740720" y="6922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505080" cy="39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468360" y="5950080"/>
            <a:ext cx="504720" cy="39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8172360" y="981000"/>
            <a:ext cx="505080" cy="39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66760" y="479736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a maternidade, grand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1:36:12Z</dcterms:created>
  <dc:creator>Beth Norling</dc:creator>
  <dc:description/>
  <dc:language>en-US</dc:language>
  <cp:lastModifiedBy>Letícia Thompson</cp:lastModifiedBy>
  <dcterms:modified xsi:type="dcterms:W3CDTF">2007-03-08T15:06:09Z</dcterms:modified>
  <cp:revision>6</cp:revision>
  <dc:subject/>
  <dc:title>Slide 1</dc:title>
</cp:coreProperties>
</file>