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Ernesto%20Cortazar%20-%20Lara's%20Theme.wav" ContentType="audio/x-wav"/>
  <Override PartName="/ppt/media/image15.jpeg" ContentType="image/jpeg"/>
  <Override PartName="/ppt/media/image4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B07-281A-4D0D-A570-A59AD0E3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BED-FB6C-475F-8604-85B5DF39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B38-C682-47F7-8860-94E3C5FF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465-5CC8-4500-A232-A7231DE7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210-1797-4156-9FE8-CB235473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EF9-FDB2-4D37-8AFB-5B878F0F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215-97D7-4E9C-A8B0-5AA92895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4BB-D90E-4F80-ABB6-B3CD99C9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21A-DE63-4282-B1B7-569477EF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09D-9028-41C5-A936-3E7BE291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F2B-BEDF-43DF-AECC-5E407F8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B53-EE55-4B82-A339-21887E8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BD88-829B-4CB4-97A9-E84C254CFB0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audio" Target="../media/Ernesto%20Cortazar%20-%20Lara&apos;s%20Theme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5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0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2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3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547640" y="3141720"/>
            <a:ext cx="6201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ES E FLORES </a:t>
            </a:r>
            <a:endParaRPr b="0" i="1" lang="en-US" sz="40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443700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5480" y="443700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amizade, inteiras, anjos visíveis,  doutoras e prof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23840" y="400536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história do mundo, canal pelo qual o próprio Deus fez-se conh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51520" y="2198520"/>
            <a:ext cx="563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exto: Letícia Thompson – Mulheres e F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úsica: Ernesto Cortazar – Lara’s Th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bethnorling@globo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95480" y="3168720"/>
            <a:ext cx="70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itos se enganam quando pensam que uma mulher é uma f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, não 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645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Uma mulher é a terra que, fertiliz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nascer todas as flo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a mãe de todas el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o campo que recebe o sol e a chuv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florescer o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50760" y="3716280"/>
            <a:ext cx="71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uitivas, amam o adivinh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ra elas, importa menos o buquê de f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pensei em você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que vem escondido atrás d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lus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29264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 acolhem assim a lembrança como se estivessem abraçando todas as flores e fossem delas a rainh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23840" y="414972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zem grandes as pequenas histórias e tornam menores as grandes 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23840" y="429264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 amor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eu finjo que sou frágil e você finge que acredita” lhes cai muit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23840" y="4221000"/>
            <a:ext cx="70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rdem a cabeça e não querem perder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66760" y="479736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maternidade, grand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1:36:12Z</dcterms:created>
  <dc:creator>Beth Norling</dc:creator>
  <dc:description/>
  <dc:language>en-US</dc:language>
  <cp:lastModifiedBy>Letícia Thompson</cp:lastModifiedBy>
  <dcterms:modified xsi:type="dcterms:W3CDTF">2007-03-08T15:06:09Z</dcterms:modified>
  <cp:revision>6</cp:revision>
  <dc:subject/>
  <dc:title>Slide 1</dc:title>
</cp:coreProperties>
</file>