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3.png" ContentType="image/png"/>
  <Override PartName="/ppt/media/image4.png" ContentType="image/png"/>
  <Override PartName="/ppt/media/image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Andre%20Gagnon_Nocturne.wav" ContentType="audio/x-wav"/>
  <Override PartName="/ppt/media/image12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D24-D835-4B7C-81C4-32108259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553-F526-4D98-A2D6-D227AF3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CF3-7881-4B58-93FB-F6754BBC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7D1-78EE-41B8-B5C7-A74CC250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F9C-7DB2-4207-B659-66B6C9C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834-10C5-4080-BEC1-9222D2B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B90-27E2-4A47-BC49-4BD8C93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6EA-0FCA-41B2-AC76-68B7441F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120-F9E0-4DCD-B006-95FADE4D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E07-901D-4E32-9ACD-0D59773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D11-69AF-4C17-AE61-539ABE5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F18-C82E-45DB-A741-E6E15E2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8A47-C7A6-47F0-88E5-A8ED5DE3A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Andre%20Gagnon_Nocturn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leticiathompson.net/" TargetMode="External"/><Relationship Id="rId7" Type="http://schemas.openxmlformats.org/officeDocument/2006/relationships/hyperlink" Target="mailto:bethnorling@globo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836640"/>
            <a:ext cx="3816360" cy="511344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3640" y="1413000"/>
            <a:ext cx="3238560" cy="14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DRAS</a:t>
            </a:r>
            <a:endParaRPr b="0" i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ECIOSAS</a:t>
            </a:r>
            <a:endParaRPr b="0" i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640" y="414972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7" name="Andre%20Gagnon_Noctur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11840" y="1628640"/>
            <a:ext cx="340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ão, nossa vida não tem preço. Percebemos isso mais claramente quando a saúde nos aband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 se não chegamos a esse extremo, é possível que nossos olhos continuem vendados à essa grande preciosidade que nos faz passar de um dia para o ou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0200" y="981000"/>
            <a:ext cx="347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á pessoas que admiramos pela força, inteligência, pela maneira como conduzem a vida e alcançam vitó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ssas pessoas que deveriam servir de exemplo podem, ao contrário, fazer com que nos sintamos diminuí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ostaríamos de ser assim, ter essa garra ou esse dom e levar a vida no lugar de nos deixar levar por ela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40200" y="1413000"/>
            <a:ext cx="340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ém, somos todos únicos. O que diferencia uma pessoa da outra é a maneira como ela se vê e tenta fazer alguma coisa daquilo que enxer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ão possuímos o valor que nos dão, somos o que somos e se o que vemos não nos agrada, podemos fazer algo diferente e melh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 rot="1378800">
            <a:off x="1979280" y="2781360"/>
            <a:ext cx="501480" cy="501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 rot="936600">
            <a:off x="2268360" y="2997000"/>
            <a:ext cx="752760" cy="752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195640" y="306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2411280" y="2852640"/>
            <a:ext cx="682920" cy="609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11840" y="1916280"/>
            <a:ext cx="362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s pedras preciosas nascem brutas e, mesmo se preciosas, têm uma aparência normal, quando não até feias. Mas, lapidadas, são maravilhosas aos olhos. Refletem o sol e a be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11840" y="1700280"/>
            <a:ext cx="362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princípio ninguém é melhor que ninguém. Um rei e um mendigo são gerados da mesma forma e morrem da mesma forma. Mas as oportunidades que aproveitamos ou jogamos fora nos tornam pessoas diferentes, comuns ou espec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907920"/>
            <a:ext cx="3743280" cy="5042160"/>
          </a:xfrm>
          <a:prstGeom prst="flowChartPunchedCard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40200" y="1413000"/>
            <a:ext cx="347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esus não teria morrido na cruz por nós se Ele achasse que não valeríamos 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os olhos de Deus, somos todos pedras preciosas. E se a vida nos lapida, a outra parte cabe a nós de arredondar, colocar formas, dar brilho e fazer diferença n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f4792"/>
              </a:gs>
              <a:gs pos="50000">
                <a:srgbClr val="ffe6cd"/>
              </a:gs>
              <a:gs pos="100000">
                <a:srgbClr val="0f47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e6cd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9080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86720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162920" y="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153200" y="4876920"/>
            <a:ext cx="199080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16000" y="1052640"/>
            <a:ext cx="6912000" cy="48243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1989000"/>
            <a:ext cx="61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Visite o site </a:t>
            </a:r>
            <a:r>
              <a:rPr b="0" lang="pt-BR" sz="18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http://www.leticiathompson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E-mail: </a:t>
            </a:r>
            <a:r>
              <a:rPr b="0" lang="pt-BR" sz="18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bethnorling@glob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99"/>
                </a:solidFill>
                <a:latin typeface="Arial"/>
              </a:rPr>
              <a:t>Música: André Gagnon – Noctu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5:42:34Z</dcterms:created>
  <dc:creator>Beth Norling</dc:creator>
  <dc:description/>
  <dc:language>en-US</dc:language>
  <cp:lastModifiedBy>Beth Norling</cp:lastModifiedBy>
  <dcterms:modified xsi:type="dcterms:W3CDTF">2007-02-03T18:48:31Z</dcterms:modified>
  <cp:revision>8</cp:revision>
  <dc:subject/>
  <dc:title>Pedras_preciosas</dc:title>
</cp:coreProperties>
</file>