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tribo%20de%20jah%20-%20Refens%20da%20Violencia1.wav" ContentType="audio/x-wav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DCA2-7177-4438-AB5E-6A75625D6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742D-3E31-4D5E-A4AD-C98E9D242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C1CB-B7A1-4E30-A03C-8D25CE2D4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193D-C650-45D1-9528-30FB95140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35BE-3349-4E64-ACF6-CAF50085C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67E9-AD71-4A84-8285-C6BC25746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401E-113D-4EFF-9489-F71C1756E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EA18-8FE1-4E3E-9B26-1D665AF65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E9FC-8F47-45E6-A279-778BC821D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626F-B3C1-4705-A58C-BAF0B4EFB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4716-C4B4-4DC8-B297-B8D95BF99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7332-E22A-40AF-98F5-C45F8BEB1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607C1-EE10-496C-B9F4-CEED92196B8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tribo%20de%20jah%20-%20Refens%20da%20Violencia1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leticiathompson.net/" TargetMode="External"/><Relationship Id="rId2" Type="http://schemas.openxmlformats.org/officeDocument/2006/relationships/hyperlink" Target="http://www.leticiathompson.net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133720" y="3808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Copperplate Gothic Light"/>
                <a:ea typeface="Times New Roman"/>
              </a:rPr>
              <a:t>O ruído da maçanet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1371600"/>
            <a:ext cx="7848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Copperplate Gothic Light"/>
                <a:ea typeface="Times New Roman"/>
              </a:rPr>
              <a:t>Não há mais bela música que o ruído da maçaneta da porta, quando meu filho volta para casa. Volto da rua, da vasta noite,</a:t>
            </a:r>
            <a:r>
              <a:rPr b="1" lang="en-US" sz="2800" spc="-1" strike="noStrike">
                <a:solidFill>
                  <a:srgbClr val="b2b2b2"/>
                </a:solidFill>
                <a:latin typeface="Copperplate Gothic Light"/>
                <a:ea typeface="Arial"/>
              </a:rPr>
              <a:t> </a:t>
            </a:r>
            <a:r>
              <a:rPr b="1" lang="en-US" sz="2800" spc="-1" strike="noStrike">
                <a:solidFill>
                  <a:srgbClr val="b2b2b2"/>
                </a:solidFill>
                <a:latin typeface="Copperplate Gothic Light"/>
                <a:ea typeface="Times New Roman"/>
              </a:rPr>
              <a:t>da madrugada de estranhas vozes, e o ruído da maçaneta, e o gemer do trinco, o bater da porta que, novamente, se fecha, o tilintar inconfundível do molho de chaves, são um doce acalanto, uma suave cantiga de ninar. Só assim fecho os olhos, posso, afinal, dormir e descans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0">
    <p:randomBar dir="vert"/>
    <p:sndAc>
      <p:stSnd>
        <p:snd r:embed="rId2" name="tribo%20de%20jah%20-%20Refens%20da%20Violencia1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3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3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62120" y="914400"/>
            <a:ext cx="7543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Copperplate Gothic Light"/>
                <a:ea typeface="Times New Roman"/>
              </a:rPr>
              <a:t>Oh! A longa espera, a negra ausência, as histórias de acidentes e assaltos, que só a noite, como ninguém, sabe contar! Oh! Os presságios e os pesadelos, o eco   dos passos nas calçadas, a voz dos bêbados na rua, e o longo apito do guarda, medindo a madrugada, e os cães uivando na distância, e o grito lancinante da ambulância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0">
    <p:randomBar dir="horz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3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3520" y="457200"/>
            <a:ext cx="78483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b2b2b2"/>
                </a:solidFill>
                <a:latin typeface="Copperplate Gothic Light"/>
                <a:ea typeface="Times New Roman"/>
              </a:rPr>
              <a:t>E o coração, descompassado, a pressentir e a martelar, na aritimia do relógio do meu quarto, esquadrinhando a noite e seus mistérios. Nisso, na sala que se cala, estala a gargalhada jovem da maçaneta que canta a festiva cantiga do retorno. E sua voz engole a noite imensa, com todos os ruídos secundários. Oh! Os símbolos do trinco e os clarins da porta que se escancarava, e os guizos das muitas chaves  que se abraçam e o festival dos passos que ganham a escad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5000">
    <p:randomBar dir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3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3520" y="380880"/>
            <a:ext cx="81532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Copperplate Gothic Light"/>
                <a:ea typeface="Times New Roman"/>
              </a:rPr>
              <a:t>Nem as vozes da orquestra, e o tilintar de copos, e a mansa canção da chuva no telhado, podem, sequer, se comparar ao som da maçaneta que sorri, quando meu filho volta. Que ele retorne sempre, são e salvo, marinheiro depois da tempestade, a sorrir e a cantar. E que, na porta, a maçaneta cante a festiva canção do seu retorno, que soa, para mim, como suave cantiga de ninar.                                                        Só assim, só assim, meu coração se aquieta, posso, afinal, dormir e descans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19520" y="60958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4b4b6f"/>
                </a:solidFill>
                <a:latin typeface="Times New Roman"/>
                <a:ea typeface="Times New Roman"/>
              </a:rPr>
              <a:t> </a:t>
            </a:r>
            <a:r>
              <a:rPr b="1" lang="pt-BR" sz="2800" spc="-1" strike="noStrike">
                <a:solidFill>
                  <a:srgbClr val="b2b2b2"/>
                </a:solidFill>
                <a:latin typeface="Copperplate Gothic Light"/>
                <a:ea typeface="Times New Roman"/>
              </a:rPr>
              <a:t>"Gióia Júnior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0">
    <p:randomBar dir="horz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3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150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3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cc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7400" y="304920"/>
            <a:ext cx="4800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cc00"/>
                </a:solidFill>
                <a:latin typeface="Times New Roman"/>
              </a:rPr>
              <a:t>Mús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cc00"/>
                </a:solidFill>
                <a:latin typeface="Times New Roman"/>
              </a:rPr>
              <a:t>Tribo de Jah - Refens da Viol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09680" y="1523880"/>
            <a:ext cx="4876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00"/>
                </a:solidFill>
                <a:latin typeface="Times New Roman"/>
              </a:rPr>
              <a:t>Elaborado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00"/>
                </a:solidFill>
                <a:latin typeface="Times New Roman"/>
              </a:rPr>
              <a:t>Sérgio S. Ol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66680" y="2895480"/>
            <a:ext cx="708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cccc00"/>
                </a:solidFill>
                <a:latin typeface="Times New Roman"/>
              </a:rPr>
              <a:t>ssoliver@terra.com.b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4343400"/>
            <a:ext cx="746748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cc00"/>
                </a:solidFill>
                <a:latin typeface="Times New Roman"/>
              </a:rPr>
              <a:t>Visite o Si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fr-BE" sz="3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leticiathompson.net/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fade thruBlk="true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3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3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700"/>
                            </p:stCondLst>
                            <p:childTnLst>
                              <p:par>
                                <p:cTn id="4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" dur="75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725"/>
                            </p:stCondLst>
                            <p:childTnLst>
                              <p:par>
                                <p:cTn id="5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25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3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4T20:34:38Z</dcterms:created>
  <dc:creator>ssoliver@terra.com.br </dc:creator>
  <dc:description/>
  <dc:language>en-US</dc:language>
  <cp:lastModifiedBy>Leticia Thompson</cp:lastModifiedBy>
  <dcterms:modified xsi:type="dcterms:W3CDTF">2004-11-03T05:48:43Z</dcterms:modified>
  <cp:revision>4</cp:revision>
  <dc:subject/>
  <dc:title>O ruído da maçaneta</dc:title>
</cp:coreProperties>
</file>