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ribo%20de%20jah%20-%20Refens%20da%20Violencia1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60A-4D80-452A-A30A-FCF072B8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F61-A57B-438A-A043-AB0D1486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382-C35E-4076-9668-A0EC47DA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7AA-0923-4585-B4E5-ECEEDE24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245-0F40-4FAA-8962-A1ADE2EF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41A-B9CE-4E7A-9A4C-09A412A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09C-F3F3-4BBC-836A-3049041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CFA-4944-429C-9007-BC80C7A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4E5-0464-47D7-8FEF-FC8B2666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85B-6923-4BDB-9384-4DEFE14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EFD-49C6-4FBD-B787-E1EA026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1FC-0379-4C64-8C09-88B5425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464A-CD5E-4585-8F5C-7AD56BCACA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ribo%20de%20jah%20-%20Refens%20da%20Violencia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 ruído da maçane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37160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Não há mais bela música que o ruído da maçaneta da porta, quando meu filho volta para casa. Volto da rua, da vasta noite,</a:t>
            </a: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da madrugada de estranhas vozes, e o ruído da maçaneta, e o gemer do trinco, o bater da porta que, novamente, se fecha, o tilintar inconfundível do molho de chaves, são um doce acalanto, uma suave cantiga de ninar. Só assim fecho os olhos, posso, afinal, dormir e descans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  <p:sndAc>
      <p:stSnd>
        <p:snd r:embed="rId2" name="tribo%20de%20jah%20-%20Refens%20da%20Violencia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91440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Oh! A longa espera, a negra ausência, as histórias de acidentes e assaltos, que só a noite, como ninguém, sabe contar! Oh! Os presságios e os pesadelos, o eco   dos passos nas calçadas, a voz dos bêbados na rua, e o longo apito do guarda, medindo a madrugada, e os cães uivando na distância, e o grito lancinante da ambulância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57200"/>
            <a:ext cx="78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E o coração, descompassado, a pressentir e a martelar, na aritimia do relógio do meu quarto, esquadrinhando a noite e seus mistérios. Nisso, na sala que se cala, estala a gargalhada jovem da maçaneta que canta a festiva cantiga do retorno. E sua voz engole a noite imensa, com todos os ruídos secundários. Oh! Os símbolos do trinco e os clarins da porta que se escancarava, e os guizos das muitas chaves  que se abraçam e o festival dos passos que ganham a escad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380880"/>
            <a:ext cx="815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Nem as vozes da orquestra, e o tilintar de copos, e a mansa canção da chuva no telhado, podem, sequer, se comparar ao som da maçaneta que sorri, quando meu filho volta. Que ele retorne sempre, são e salvo, marinheiro depois da tempestade, a sorrir e a cantar. E que, na porta, a maçaneta cante a festiva canção do seu retorno, que soa, para mim, como suave cantiga de ninar.                                                        Só assim, só assim, meu coração se aquieta, posso, afinal, dormir e descan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b4b6f"/>
                </a:solidFill>
                <a:latin typeface="Times New Roman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Times New Roman"/>
              </a:rPr>
              <a:t>"Gióia Júnior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304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Tribo de Jah - Refens da Vio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5238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343400"/>
            <a:ext cx="74674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25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0:34:38Z</dcterms:created>
  <dc:creator>ssoliver@terra.com.br </dc:creator>
  <dc:description/>
  <dc:language>en-US</dc:language>
  <cp:lastModifiedBy>Leticia Thompson</cp:lastModifiedBy>
  <dcterms:modified xsi:type="dcterms:W3CDTF">2004-11-03T05:48:43Z</dcterms:modified>
  <cp:revision>4</cp:revision>
  <dc:subject/>
  <dc:title>O ruído da maçaneta</dc:title>
</cp:coreProperties>
</file>