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424-C792-4F89-A045-6822001C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681-97E4-4BFC-AFD5-3771AAFB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5D87-5925-414A-B724-9836FEBC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2F4-6648-4F71-A477-8B47965F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C4E-4A80-46CF-AFC6-35CB8DAF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895-2207-4471-9205-03102359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65D-D30E-4BB7-B666-E95F727E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0F0-C3A7-4397-B5BB-C4549E9D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D2D-5DA5-4FC5-A3E0-359A92C6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BA5-3D4D-4B46-8B6F-61AE35E0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6B8-69C9-46DF-BC32-1B1266D7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2F8-F919-4407-9A9D-61F4B0CC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A7A9-A854-495D-99CF-93CC4FD73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24720" cy="466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5661000"/>
            <a:ext cx="59058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MÉDIO PARA QUEIMAD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ff9900"/>
                </a:solidFill>
                <a:uFillTx/>
                <a:latin typeface="Arial"/>
              </a:rPr>
              <a:t>Em um curso de candidatos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ff9900"/>
                </a:solidFill>
                <a:latin typeface="Arial"/>
              </a:rPr>
              <a:t>Em um curso de primeiros socorros, os Bombeiros ensinaram o </a:t>
            </a:r>
            <a:br>
              <a:rPr sz="4000"/>
            </a:br>
            <a:r>
              <a:rPr b="1" lang="es-MX" sz="4000" spc="-1" strike="noStrike">
                <a:solidFill>
                  <a:srgbClr val="ff9900"/>
                </a:solidFill>
                <a:latin typeface="Arial"/>
              </a:rPr>
              <a:t>seguinte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Quando acontecerem queimaduras, grandes ou pequenas, o primeiro de tudo é: colocar a parte afetada embaixo da torneira com </a:t>
            </a:r>
            <a:r>
              <a:rPr b="1" lang="es-MX" sz="3200" spc="-1" strike="noStrike" u="sng">
                <a:solidFill>
                  <a:srgbClr val="ff9900"/>
                </a:solidFill>
                <a:uFillTx/>
                <a:latin typeface="Arial"/>
              </a:rPr>
              <a:t>água corrente fria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 até diminuir o calor e o ardor da queimadu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Depois passe por cima, em toda a extensão da ferida, uma capa de </a:t>
            </a:r>
            <a:r>
              <a:rPr b="1" lang="es-MX" sz="3200" spc="-1" strike="noStrike" u="sng">
                <a:solidFill>
                  <a:srgbClr val="ff9900"/>
                </a:solidFill>
                <a:uFillTx/>
                <a:latin typeface="Arial"/>
              </a:rPr>
              <a:t>CLARA DE OVO.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s-MX" sz="4800" spc="-1" strike="noStrike">
                <a:solidFill>
                  <a:srgbClr val="ff9900"/>
                </a:solidFill>
                <a:latin typeface="Arial"/>
              </a:rPr>
              <a:t>Certo dia</a:t>
            </a:r>
            <a:r>
              <a:rPr b="1" lang="es-MX" sz="36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 ao esquentar água,                                         uma pessoa esbarrou na panela e parte da água fervendo queimou uma grande parte da mão dela.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08720" y="4869000"/>
            <a:ext cx="1835280" cy="198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278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Colocou, então, a mão queimada embaixo da torneira de água fria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para aliviar o ardor da queimadura.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s-MX" sz="3200" spc="-1" strike="noStrike">
                <a:solidFill>
                  <a:srgbClr val="ff9900"/>
                </a:solidFill>
                <a:latin typeface="Arial"/>
              </a:rPr>
              <a:t>A dor era insuportável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es-MX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Depois quebrou dois o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Separou as CLARAS e foi colocando por cima da ferida. A mão estava tão queimada, que enquanto ela colocava clara por cima da pele, esta secava formando uma pelícu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308720" y="4869000"/>
            <a:ext cx="1835280" cy="198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5640" y="1125360"/>
            <a:ext cx="7581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9900"/>
                </a:solidFill>
                <a:latin typeface="Arial"/>
              </a:rPr>
              <a:t>Ela soube que aquilo </a:t>
            </a: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era COLÁGENO NATUR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E continuou colocando na mão, capas e mais capas de CLARAS durante uma ho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Pouco mais tarde ela já não sentia mais dor. No dia seguinte, apenas havia uma pequena marca avermelhada onde antes estava a queimadu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308720" y="4869000"/>
            <a:ext cx="1835280" cy="198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ff9900"/>
                </a:solidFill>
                <a:latin typeface="Arial"/>
              </a:rPr>
              <a:t>Depois de 10 dias não havia mais marca </a:t>
            </a:r>
            <a:r>
              <a:rPr b="1" lang="es-MX" sz="3600" spc="-1" strike="noStrike" u="sng">
                <a:solidFill>
                  <a:srgbClr val="ff9900"/>
                </a:solidFill>
                <a:uFillTx/>
                <a:latin typeface="Arial"/>
              </a:rPr>
              <a:t>alguma</a:t>
            </a:r>
            <a:r>
              <a:rPr b="1" lang="es-MX" sz="3600" spc="-1" strike="noStrike">
                <a:solidFill>
                  <a:srgbClr val="ff9900"/>
                </a:solidFill>
                <a:latin typeface="Arial"/>
              </a:rPr>
              <a:t> daquela queimadura horrív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08720" y="4869000"/>
            <a:ext cx="1835280" cy="198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692360" cy="2232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08720" y="4869000"/>
            <a:ext cx="1835280" cy="1989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A parte queimada se recuperou por causa da CLARA de ovo que contém a substância chamada COLÁGENO que, na realidade, é uma placenta cheia de vitaminas regenerador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"/>
              </a:rPr>
              <a:t>Por favor, envie este E. mail, pois alguém poderá precis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21440" cy="3646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428148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ff9900"/>
                </a:solidFill>
                <a:uFillTx/>
                <a:latin typeface="Arial"/>
              </a:rPr>
              <a:t>* VAMOS COMPARTILHAR ESTA INFORMAÇÃO</a:t>
            </a:r>
            <a:r>
              <a:rPr b="1" lang="es-MX" sz="4800" spc="-1" strike="noStrike" u="sng">
                <a:solidFill>
                  <a:srgbClr val="ff9900"/>
                </a:solidFill>
                <a:uFillTx/>
                <a:latin typeface="Arial"/>
              </a:rPr>
              <a:t> 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37:21Z</dcterms:created>
  <dc:creator>KADAJ</dc:creator>
  <dc:description/>
  <dc:language>en-US</dc:language>
  <cp:lastModifiedBy>denise</cp:lastModifiedBy>
  <dcterms:modified xsi:type="dcterms:W3CDTF">2009-03-27T10:11:52Z</dcterms:modified>
  <cp:revision>14</cp:revision>
  <dc:subject/>
  <dc:title>Diapositiva 1</dc:title>
</cp:coreProperties>
</file>