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5EC-9598-4C17-B644-0D204C68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C2E-BC78-49DD-93C6-AEB49199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B72-CFC6-4373-B9F4-487BECF6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839-C265-42C6-9D20-63241548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E36-9859-457C-89F8-79E4444D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CEB-435B-4FEF-B31A-A07BEC01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7B7-5207-4270-81D4-26831972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361-C465-4D11-85EB-4CE9D4D3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025-4E88-4C3D-8DE2-624E4E73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B61-946B-46C6-9F7B-9A6C8342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ADB-167D-4165-BEA5-3816834B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C58-8B11-40D9-9837-5A0C8C7A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381D-A2A3-4BBE-A85E-31D553E1E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24720" cy="466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5661000"/>
            <a:ext cx="59058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MÉDIO PARA QUEIMA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ff9900"/>
                </a:solidFill>
                <a:uFillTx/>
                <a:latin typeface="Arial"/>
              </a:rPr>
              <a:t>Em um curso de candidatos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ff9900"/>
                </a:solidFill>
                <a:latin typeface="Arial"/>
              </a:rPr>
              <a:t>Em um curso de primeiros socorros, os Bombeiros ensinaram o </a:t>
            </a:r>
            <a:br>
              <a:rPr sz="4000"/>
            </a:br>
            <a:r>
              <a:rPr b="1" lang="es-MX" sz="4000" spc="-1" strike="noStrike">
                <a:solidFill>
                  <a:srgbClr val="ff9900"/>
                </a:solidFill>
                <a:latin typeface="Arial"/>
              </a:rPr>
              <a:t>seguint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Quando acontecerem queimaduras, grandes ou pequenas, o primeiro de tudo é: colocar a parte afetada embaixo da torneira com </a:t>
            </a:r>
            <a:r>
              <a:rPr b="1" lang="es-MX" sz="3200" spc="-1" strike="noStrike" u="sng">
                <a:solidFill>
                  <a:srgbClr val="ff9900"/>
                </a:solidFill>
                <a:uFillTx/>
                <a:latin typeface="Arial"/>
              </a:rPr>
              <a:t>água corrente fria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 até diminuir o calor e o ardor da queimadu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Depois passe por cima, em toda a extensão da ferida, uma capa de </a:t>
            </a:r>
            <a:r>
              <a:rPr b="1" lang="es-MX" sz="3200" spc="-1" strike="noStrike" u="sng">
                <a:solidFill>
                  <a:srgbClr val="ff9900"/>
                </a:solidFill>
                <a:uFillTx/>
                <a:latin typeface="Arial"/>
              </a:rPr>
              <a:t>CLARA DE OVO.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s-MX" sz="4800" spc="-1" strike="noStrike">
                <a:solidFill>
                  <a:srgbClr val="ff9900"/>
                </a:solidFill>
                <a:latin typeface="Arial"/>
              </a:rPr>
              <a:t>Certo dia</a:t>
            </a: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 ao esquentar água,                                         uma pessoa esbarrou na panela e parte da água fervendo queimou uma grande parte da mão dela.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278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Colocou, então, a mão queimada embaixo da torneira de água fria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para aliviar o ardor da queimadura.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s-MX" sz="3200" spc="-1" strike="noStrike">
                <a:solidFill>
                  <a:srgbClr val="ff9900"/>
                </a:solidFill>
                <a:latin typeface="Arial"/>
              </a:rPr>
              <a:t>A dor era insuportável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Depois quebrou dois o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Separou as CLARAS e foi colocando por cima da ferida. A mão estava tão queimada, que enquanto ela colocava clara por cima da pele, esta secava formando uma pelícu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5640" y="1125360"/>
            <a:ext cx="7581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Ela soube que aquilo 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era COLÁGENO NATUR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E continuou colocando na mão, capas e mais capas de CLARAS durante uma ho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Pouco mais tarde ela já não sentia mais dor. No dia seguinte, apenas havia uma pequena marca avermelhada onde antes estava a queimadu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Depois de 10 dias não havia mais marca </a:t>
            </a:r>
            <a:r>
              <a:rPr b="1" lang="es-MX" sz="3600" spc="-1" strike="noStrike" u="sng">
                <a:solidFill>
                  <a:srgbClr val="ff9900"/>
                </a:solidFill>
                <a:uFillTx/>
                <a:latin typeface="Arial"/>
              </a:rPr>
              <a:t>alguma</a:t>
            </a: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 daquela queimadura horrí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A parte queimada se recuperou por causa da CLARA de ovo que contém a substância chamada COLÁGENO que, na realidade, é uma placenta cheia de vitaminas regenerador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Por favor, envie este E. mail, pois alguém poderá preci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1440" cy="3646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428148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ff9900"/>
                </a:solidFill>
                <a:uFillTx/>
                <a:latin typeface="Arial"/>
              </a:rPr>
              <a:t>* VAMOS COMPARTILHAR ESTA INFORMAÇÃO</a:t>
            </a:r>
            <a:r>
              <a:rPr b="1" lang="es-MX" sz="4800" spc="-1" strike="noStrike" u="sng">
                <a:solidFill>
                  <a:srgbClr val="ff9900"/>
                </a:solidFill>
                <a:uFillTx/>
                <a:latin typeface="Arial"/>
              </a:rPr>
              <a:t> 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37:21Z</dcterms:created>
  <dc:creator>KADAJ</dc:creator>
  <dc:description/>
  <dc:language>en-US</dc:language>
  <cp:lastModifiedBy>denise</cp:lastModifiedBy>
  <dcterms:modified xsi:type="dcterms:W3CDTF">2009-03-27T10:11:52Z</dcterms:modified>
  <cp:revision>14</cp:revision>
  <dc:subject/>
  <dc:title>Diapositiva 1</dc:title>
</cp:coreProperties>
</file>