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B3C-89A3-4971-B788-F093FCFB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E41-07B8-4B1D-BE9C-6CF5899B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507-1D29-47E4-8D74-57545E63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10F-A907-494B-9204-04AE62D3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A30-3CD3-4258-A1B5-9DD46DD5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4F1-8CF8-4615-B152-76D4FAA2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ACE-C1F4-4AA3-BA0E-1B686C91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E80-78EA-45B8-B53C-9EDD63FC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6AC-03C6-4A45-9A24-AAB33284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DA9-48A9-4073-B6A8-8D7C6B38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8AA-F1A9-4EF5-B751-DC59F313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5C5-C3F0-4148-AB50-D4882320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4BAA-D58B-4C09-9D89-1B6F7E79AA4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Black Chancery"/>
              </a:rPr>
              <a:t>8 </a:t>
            </a:r>
            <a:br>
              <a:rPr sz="9600"/>
            </a:br>
            <a:r>
              <a:rPr b="1" lang="es-ES" sz="9600" spc="-1" strike="noStrike">
                <a:solidFill>
                  <a:srgbClr val="000000"/>
                </a:solidFill>
                <a:latin typeface="Black Chancery"/>
              </a:rPr>
              <a:t>Presen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380880"/>
            <a:ext cx="70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80"/>
                </a:solidFill>
                <a:latin typeface="Comic Sans MS"/>
                <a:ea typeface="Arial Unicode MS"/>
              </a:rPr>
              <a:t>8.  O presente  da disposicão de ser gra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A forma mais fácil de fazer as pessoas se sentirem bem é dizer coisas que não são difíceis de dizer, como: “Olá" e "Muito obrigado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57800" y="3757680"/>
            <a:ext cx="2057400" cy="310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Os amigos são jóias raras  que podem fazer você ficar bravo e sorrir, que pouco a pouco aprendem a escutar, e a animá-lo. E eles sempre abrirão seus corações. Demonstre a seus amigos </a:t>
            </a:r>
            <a:br>
              <a:rPr sz="3200"/>
            </a:br>
            <a:r>
              <a:rPr b="1" lang="es-ES" sz="3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o quanto  os consid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743200" y="3114720"/>
          <a:ext cx="4952880" cy="37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114720"/>
                    <a:ext cx="49528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split dir="out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228600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99"/>
                </a:solidFill>
                <a:latin typeface="Comic Sans MS"/>
              </a:rPr>
              <a:t>OITO PRESENTES QUE NÃO CUSTAM UM CENTAVO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870200" cy="18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1403280" cy="1098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76720" y="457200"/>
            <a:ext cx="180000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685800"/>
            <a:ext cx="147492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57200" y="3048120"/>
            <a:ext cx="1330200" cy="166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533412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666880" y="5029200"/>
            <a:ext cx="1251000" cy="1409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648320" y="5029200"/>
            <a:ext cx="100800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914400"/>
            <a:ext cx="65530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ff33"/>
                </a:solidFill>
                <a:latin typeface="Comic Sans MS"/>
                <a:ea typeface="Arial Unicode MS"/>
              </a:rPr>
              <a:t>1. O presente de escut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Comic Sans MS"/>
              </a:rPr>
              <a:t>Mas realmente escutar, sem interromper, bocejar, ou criticar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050920" cy="292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10080" y="39625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Comic Sans MS"/>
              </a:rPr>
              <a:t>Só escu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094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cc"/>
                </a:solidFill>
                <a:latin typeface="Comic Sans MS"/>
              </a:rPr>
              <a:t>2. O presente do Carinh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Seja generoso com beijos, abraços,  apertos de mão… Estas pequenas ações demonstram  carinho por sua família e amig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38680" y="3733920"/>
            <a:ext cx="2730600" cy="242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62520" y="53352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3.- O presente do  sorris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Encha a  vida deles  com “smiles”, imagens e  desenhos que fazem sorrir e seu presente dirá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362320"/>
          <a:ext cx="289548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2895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609480" y="1600200"/>
            <a:ext cx="28767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SORRIA 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5627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Gosto de rir com você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8088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Comic Sans MS"/>
                <a:ea typeface="Arial Unicode MS"/>
              </a:rPr>
              <a:t>4.  O presente dos bilhe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to pode ser um simples “obrigado por ajudar-me“. Um detalhe como este pode ser recordado por toda uma vida e até transformá-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0" y="3429000"/>
            <a:ext cx="377496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6095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5. O presente de um cumprim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Um simples e sincero “genial ", “você fez um grande trabalho" ou “a  comida estava deliciosa" pode tornar um dia  especial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6449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762120"/>
            <a:ext cx="6019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Bookman Old Style"/>
                <a:ea typeface="Arial Unicode MS"/>
              </a:rPr>
              <a:t>6. O  presente do fav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Bookman Old Style"/>
                <a:ea typeface="Arial Unicode MS"/>
              </a:rPr>
              <a:t>Todos os días procure fazer um favor a alguém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Bookman Old Style"/>
                <a:ea typeface="Arial Unicode MS"/>
              </a:rPr>
              <a:t>não importa que não receba recompen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1827360" cy="3481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38088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7.  O presente da solidã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Comic Sans MS"/>
                <a:ea typeface="Arial Unicode MS"/>
              </a:rPr>
              <a:t>Há dias que não há nada melhor que estar só. Seja sensível, e dê este presente ou peça-o aos dema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7:35:21Z</dcterms:created>
  <dc:creator>Horacio Fernandez</dc:creator>
  <dc:description/>
  <dc:language>en-US</dc:language>
  <cp:lastModifiedBy>WinXP_Pro</cp:lastModifiedBy>
  <dcterms:modified xsi:type="dcterms:W3CDTF">2004-09-18T12:26:46Z</dcterms:modified>
  <cp:revision>35</cp:revision>
  <dc:subject/>
  <dc:title>8  Regalos</dc:title>
</cp:coreProperties>
</file>