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5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3.jpeg" ContentType="image/jpeg"/>
  <Override PartName="/ppt/media/image40.jpeg" ContentType="image/jpeg"/>
  <Override PartName="/ppt/media/image41.jpeg" ContentType="image/jpeg"/>
  <Override PartName="/ppt/media/Vangelis+-+conquest+of+paradise.wav" ContentType="audio/x-wav"/>
  <Override PartName="/ppt/media/image34.jpeg" ContentType="image/jpeg"/>
  <Override PartName="/ppt/media/image2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02F-962C-4109-9E75-DF06D3D0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4BD-9E5F-4854-83DD-25CB26C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AB1-F022-48DF-9A3C-0415EB6A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675-8FFE-4695-8217-5E8106E2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6CC-EE61-414F-A067-79571105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861-ACCD-4E68-8E3F-1565C90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743-B17A-495B-AA59-8BBA6CE5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AC1-4A7F-42BB-923A-7A79B486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723-6FBF-4A4D-9E54-16E02C1A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421-F119-4ECB-8D78-81676DD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91E-C79C-4128-9E02-278B97D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6CA-E5B3-47DE-90BE-700B9F1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21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707-F87E-4F7D-83A2-4171299405F9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angelis+-+conquest+of+paradi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be0e3"/>
                </a:solidFill>
                <a:latin typeface="Monotype Corsiva"/>
              </a:rPr>
              <a:t>OS SANTOS INCORRUP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360" y="549360"/>
            <a:ext cx="8999640" cy="74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Algunos santos se han descompuesto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debido a que lo pidieron en oración a Dios, tal es el caso de Sta. Teresita, Y Santa Faustina,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bbe0e3"/>
                </a:solidFill>
                <a:latin typeface="Monotype Corsiva"/>
              </a:rPr>
              <a:t>San Francisco y San Antonio (del cual se conserva su lengua)  y Sta. Margarita María (de la que  se conserva su cerebro) y otros santos fueron muy maltratados por los cazadores de reliquias.</a:t>
            </a:r>
            <a:r>
              <a:rPr b="1" lang="es-MX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252360" y="2205000"/>
            <a:ext cx="93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MARIA CRUCIFICADA PAOLA DE LA ROSA 1855               SANTA MARGARITA DE CORTONA 129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2" name="Picture 3" descr="BRFGTG"/>
          <p:cNvPicPr/>
          <p:nvPr/>
        </p:nvPicPr>
        <p:blipFill>
          <a:blip r:embed="rId1"/>
          <a:stretch/>
        </p:blipFill>
        <p:spPr>
          <a:xfrm>
            <a:off x="0" y="2492280"/>
            <a:ext cx="2340000" cy="395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-181080" y="6400800"/>
            <a:ext cx="31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JOSE MA. DE JESUS YEROBI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I867 CORPO FLEXÍVEL, O SENTAM!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4" name="Picture 5" descr="TRHBFGR"/>
          <p:cNvPicPr/>
          <p:nvPr/>
        </p:nvPicPr>
        <p:blipFill>
          <a:blip r:embed="rId2"/>
          <a:stretch/>
        </p:blipFill>
        <p:spPr>
          <a:xfrm>
            <a:off x="4067280" y="260280"/>
            <a:ext cx="482580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TYJYNTN"/>
          <p:cNvPicPr/>
          <p:nvPr/>
        </p:nvPicPr>
        <p:blipFill>
          <a:blip r:embed="rId3"/>
          <a:stretch/>
        </p:blipFill>
        <p:spPr>
          <a:xfrm>
            <a:off x="2484360" y="2492280"/>
            <a:ext cx="2879640" cy="180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268360" y="4292640"/>
            <a:ext cx="687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PEDRO JULIAN EYMARD MURIO 1868        SAN ALONSO DE OROZCO 159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7" name="Picture 8" descr="Sierva de Dios, Angela Iacobellis, incorrupta"/>
          <p:cNvPicPr/>
          <p:nvPr/>
        </p:nvPicPr>
        <p:blipFill>
          <a:blip r:embed="rId4"/>
          <a:stretch/>
        </p:blipFill>
        <p:spPr>
          <a:xfrm>
            <a:off x="2627280" y="4653000"/>
            <a:ext cx="2685960" cy="1944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2700360" y="6583320"/>
            <a:ext cx="64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ANGELA IACOBELLIS 1961        BEATO ANTONIO BONFADINI 148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Picture 10" descr="THRH"/>
          <p:cNvPicPr/>
          <p:nvPr/>
        </p:nvPicPr>
        <p:blipFill>
          <a:blip r:embed="rId5"/>
          <a:stretch/>
        </p:blipFill>
        <p:spPr>
          <a:xfrm>
            <a:off x="5435640" y="4581360"/>
            <a:ext cx="3708360" cy="204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San Alonso de Orozco"/>
          <p:cNvPicPr/>
          <p:nvPr/>
        </p:nvPicPr>
        <p:blipFill>
          <a:blip r:embed="rId6"/>
          <a:stretch/>
        </p:blipFill>
        <p:spPr>
          <a:xfrm>
            <a:off x="5580000" y="2492280"/>
            <a:ext cx="3564000" cy="172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HTHG"/>
          <p:cNvPicPr/>
          <p:nvPr/>
        </p:nvPicPr>
        <p:blipFill>
          <a:blip r:embed="rId7"/>
          <a:stretch/>
        </p:blipFill>
        <p:spPr>
          <a:xfrm>
            <a:off x="179280" y="333360"/>
            <a:ext cx="3708360" cy="18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lourdes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1471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be0e3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be0e3"/>
                </a:solidFill>
                <a:latin typeface="Castellar"/>
              </a:rPr>
              <a:t>  </a:t>
            </a:r>
            <a:r>
              <a:rPr b="0" lang="pt-BR" sz="3600" spc="-1" strike="noStrike">
                <a:solidFill>
                  <a:srgbClr val="bbe0e3"/>
                </a:solidFill>
                <a:latin typeface="Arial"/>
              </a:rPr>
              <a:t>Canais como o The History Channel e o Discovery Channel transmitiram dissecações que foram feitas nos Santos, nas quais se extirparam órgãos para seu estudo, como Santa Bernardete de Lourdes, a quem tiraram o fígado, o qual estava como se ela tivesse acabado de morrer, isso após 127 anos de sua mor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uerpo incorrupto"/>
          <p:cNvPicPr/>
          <p:nvPr/>
        </p:nvPicPr>
        <p:blipFill>
          <a:blip r:embed="rId1"/>
          <a:stretch/>
        </p:blipFill>
        <p:spPr>
          <a:xfrm>
            <a:off x="0" y="0"/>
            <a:ext cx="4356000" cy="2565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480960" y="256536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JUAN BOSCO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MORREU EM 188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4" descr="berna2"/>
          <p:cNvPicPr/>
          <p:nvPr/>
        </p:nvPicPr>
        <p:blipFill>
          <a:blip r:embed="rId2"/>
          <a:stretch/>
        </p:blipFill>
        <p:spPr>
          <a:xfrm>
            <a:off x="4686480" y="0"/>
            <a:ext cx="4457520" cy="3213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4914720" y="3233880"/>
            <a:ext cx="41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TA BERNARDIT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DE LOURDES MORREU EM 1879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8" name="Picture 6" descr="lourdes50"/>
          <p:cNvPicPr/>
          <p:nvPr/>
        </p:nvPicPr>
        <p:blipFill>
          <a:blip r:embed="rId3"/>
          <a:stretch/>
        </p:blipFill>
        <p:spPr>
          <a:xfrm>
            <a:off x="0" y="2924280"/>
            <a:ext cx="4495680" cy="3457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-173520" y="6381720"/>
            <a:ext cx="43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JUAN MA. VIANNEY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(SANTO CURA DE ARS) 1859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0" name="Picture 8" descr="santa-teresita-del-nino-jesus"/>
          <p:cNvPicPr/>
          <p:nvPr/>
        </p:nvPicPr>
        <p:blipFill>
          <a:blip r:embed="rId4"/>
          <a:stretch/>
        </p:blipFill>
        <p:spPr>
          <a:xfrm>
            <a:off x="4716360" y="3645000"/>
            <a:ext cx="2448000" cy="3213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6698520" y="3500280"/>
            <a:ext cx="291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TERESITA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DEL NIÑO JESUS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MORREU EM 189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Ela rezava ao Senhor para não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morrer incorrupta quando de sua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viagem à Itália, onde visitou a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relíquias dos Santos, pois sentia-s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indigna de ser preservada por Deu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Ao morrer ficou incorrupta durant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os dias de seu funeral, porém ano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depois seus restos se decompuseram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como ele desejava, ainda que até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hoje cheirem a rosas, flor com cujas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be0e3"/>
                </a:solidFill>
                <a:latin typeface="Monotype Corsiva"/>
              </a:rPr>
              <a:t>pétalas acariciava seu Crucifixo!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69228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A maioria dos corpos incorruptos dos Santos sangram se lhes for cortada qualquer parte de seus restos, pese os séculos a que possam estar mortos, como é o caso de Santa Teresa </a:t>
            </a:r>
            <a:br>
              <a:rPr sz="4000"/>
            </a:b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D´Ávila.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be0e3"/>
                </a:solidFill>
                <a:latin typeface="Monotype Corsiva"/>
              </a:rPr>
              <a:t>De outros resplandesce, brilha o lugar do solo onde são enterrados, por isso são exumados, como aconteceu com São João da Cruz!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magenGH T TY"/>
          <p:cNvPicPr/>
          <p:nvPr/>
        </p:nvPicPr>
        <p:blipFill>
          <a:blip r:embed="rId1"/>
          <a:stretch/>
        </p:blipFill>
        <p:spPr>
          <a:xfrm>
            <a:off x="0" y="0"/>
            <a:ext cx="3132000" cy="1557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-92160" y="1484280"/>
            <a:ext cx="92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GIUSTINA BEZZOLLI  1319              STA. SMERALDA EUSTOCHIA 1485              BEATO ALOISIUS STEPINAC 196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4" descr="Santa Smeralda Eustochia Calafatto, cuerpo incorrupto"/>
          <p:cNvPicPr/>
          <p:nvPr/>
        </p:nvPicPr>
        <p:blipFill>
          <a:blip r:embed="rId2"/>
          <a:stretch/>
        </p:blipFill>
        <p:spPr>
          <a:xfrm>
            <a:off x="3419640" y="0"/>
            <a:ext cx="2447640" cy="155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agen1DFHS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1557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-181080" y="4005360"/>
            <a:ext cx="3541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SILVANO MARTIR ROMAN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MORREU NO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3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8" name="Picture 8" descr="05aurelia"/>
          <p:cNvPicPr/>
          <p:nvPr/>
        </p:nvPicPr>
        <p:blipFill>
          <a:blip r:embed="rId4"/>
          <a:stretch/>
        </p:blipFill>
        <p:spPr>
          <a:xfrm>
            <a:off x="0" y="4653000"/>
            <a:ext cx="2987640" cy="1800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324000" y="6583320"/>
            <a:ext cx="22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AURELIA MARTIR  152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0" name="Picture 10" descr="Cuerpo incorrupto de Padre Pio X"/>
          <p:cNvPicPr/>
          <p:nvPr/>
        </p:nvPicPr>
        <p:blipFill>
          <a:blip r:embed="rId5"/>
          <a:stretch/>
        </p:blipFill>
        <p:spPr>
          <a:xfrm>
            <a:off x="3276720" y="1844640"/>
            <a:ext cx="5867280" cy="3816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2916360" y="5670720"/>
            <a:ext cx="655164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ÃO PIO DE PIETRELCIN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orreu em 1968 e foi exumado em março de 2008. Aos 40 anos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de falecido, estando presentes os meios de comunicação de todo o mundo, a Comunidade Científica Internacional e as Autoridades Eclesiásticas, além de muitos fiéis, encontrando-se incorrupto,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Monotype Corsiva"/>
              </a:rPr>
              <a:t>suave e flexível, como um recém-falecido, o que causou muitas conversões de irmãos ateus e separados..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82" name="Picture 13" descr="Ver imagen en tamaño completo"/>
          <p:cNvPicPr/>
          <p:nvPr/>
        </p:nvPicPr>
        <p:blipFill>
          <a:blip r:embed="rId6"/>
          <a:stretch/>
        </p:blipFill>
        <p:spPr>
          <a:xfrm>
            <a:off x="0" y="191628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Os milagres dos corpos incorruptos sempre ocorrem com pessoas de vida exemplar, cheias de virtudes Cristãs.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A incorruptibilidade é uma Graça que Deus concede a essas pessoas, a fim de que comprovemos que Ele mesmo É o único Caminho, Verdade e Vida, daqui aos Céus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1" descr="bander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JHRTETH"/>
          <p:cNvPicPr/>
          <p:nvPr/>
        </p:nvPicPr>
        <p:blipFill>
          <a:blip r:embed="rId2"/>
          <a:stretch/>
        </p:blipFill>
        <p:spPr>
          <a:xfrm>
            <a:off x="5867280" y="1484280"/>
            <a:ext cx="32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dormidojme_small"/>
          <p:cNvPicPr/>
          <p:nvPr/>
        </p:nvPicPr>
        <p:blipFill>
          <a:blip r:embed="rId3"/>
          <a:stretch/>
        </p:blipFill>
        <p:spPr>
          <a:xfrm>
            <a:off x="0" y="3933720"/>
            <a:ext cx="31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Imagen1D"/>
          <p:cNvPicPr/>
          <p:nvPr/>
        </p:nvPicPr>
        <p:blipFill>
          <a:blip r:embed="rId4"/>
          <a:stretch/>
        </p:blipFill>
        <p:spPr>
          <a:xfrm>
            <a:off x="0" y="549360"/>
            <a:ext cx="3132000" cy="244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79280" y="0"/>
            <a:ext cx="982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OS MAIS FAMOSOS SANTOS INCORRUPTOS NO MEXIC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-181080" y="2997360"/>
            <a:ext cx="51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BEATO SEBASTIAN DE APARICIO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RREU  EM 1603. DESCANSA NO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EMPLO DE SÃO FRANCISCO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 PUEBLA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0" y="6143760"/>
            <a:ext cx="76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O DE DEUS JESUS MA. ECHAVARRIA, 3° BISPO DE SALTILLO, MORREU EM 1954,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UNDOU A ORDEM RELIGIOSA DAS IRMÃS CATEQUISTAS GUADALUPANAS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CANSA NA CATEDRAL DE SALTILLO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806720" y="5084640"/>
            <a:ext cx="428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NSEÑOR SAN RAFAEL GUIZAR Y VALENCIA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RREU EM 1938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CANSA NA CATEDRAL DE JALAPA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YERJH"/>
          <p:cNvPicPr/>
          <p:nvPr/>
        </p:nvPicPr>
        <p:blipFill>
          <a:blip r:embed="rId1"/>
          <a:stretch/>
        </p:blipFill>
        <p:spPr>
          <a:xfrm>
            <a:off x="0" y="3068640"/>
            <a:ext cx="424980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KU,BGF"/>
          <p:cNvPicPr/>
          <p:nvPr/>
        </p:nvPicPr>
        <p:blipFill>
          <a:blip r:embed="rId2"/>
          <a:stretch/>
        </p:blipFill>
        <p:spPr>
          <a:xfrm>
            <a:off x="5435640" y="765000"/>
            <a:ext cx="2989080" cy="22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uerpo-popular-padre-pio-exhumado-despues-40-anos"/>
          <p:cNvPicPr/>
          <p:nvPr/>
        </p:nvPicPr>
        <p:blipFill>
          <a:blip r:embed="rId3"/>
          <a:stretch/>
        </p:blipFill>
        <p:spPr>
          <a:xfrm>
            <a:off x="826920" y="765000"/>
            <a:ext cx="3810240" cy="223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"/>
          <p:cNvSpPr/>
          <p:nvPr/>
        </p:nvSpPr>
        <p:spPr>
          <a:xfrm>
            <a:off x="250920" y="0"/>
            <a:ext cx="93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LA IGLESIA, LA CLIENCIA Y LOS MEDIOS DE COMUNICACIÓN, ANTE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      </a:t>
            </a:r>
            <a:r>
              <a:rPr b="0" lang="es-MX" sz="2400" spc="-1" strike="noStrike">
                <a:solidFill>
                  <a:srgbClr val="990033"/>
                </a:solidFill>
                <a:latin typeface="Perpetua"/>
              </a:rPr>
              <a:t>EL PRODIGIO IRREFUTABLE DE LOS SANTOS INCORRUPTOS</a:t>
            </a:r>
            <a:r>
              <a:rPr b="0" lang="es-MX" sz="2400" spc="-1" strike="noStrike">
                <a:solidFill>
                  <a:srgbClr val="6633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6" name="Picture 18" descr="rafaelguizarvalacin"/>
          <p:cNvPicPr/>
          <p:nvPr/>
        </p:nvPicPr>
        <p:blipFill>
          <a:blip r:embed="rId4"/>
          <a:stretch/>
        </p:blipFill>
        <p:spPr>
          <a:xfrm>
            <a:off x="4967280" y="3213000"/>
            <a:ext cx="4176720" cy="3313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9"/>
          <p:cNvSpPr/>
          <p:nvPr/>
        </p:nvSpPr>
        <p:spPr>
          <a:xfrm>
            <a:off x="4537440" y="6583320"/>
            <a:ext cx="461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UERPO INCORRUPTO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N RAFAEL GUIZAR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-1800" y="6583320"/>
            <a:ext cx="515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RZO 2008 EXHUMAN A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AN PIO DE PIETRELCIN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:INCORRUPT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5148360" y="2924280"/>
            <a:ext cx="41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cubrimiento de la tumba de San Isidro Labrador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0"/>
            <a:ext cx="9144000" cy="8136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Os </a:t>
            </a:r>
            <a:r>
              <a:rPr b="1" lang="pt-BR" sz="4800" spc="-1" strike="noStrike" u="sng">
                <a:solidFill>
                  <a:srgbClr val="bbe0e3"/>
                </a:solidFill>
                <a:uFillTx/>
                <a:latin typeface="Monotype Corsiva"/>
              </a:rPr>
              <a:t>Santos Corpos Incorruptos</a:t>
            </a:r>
            <a:r>
              <a:rPr b="0" lang="pt-BR" sz="4800" spc="-1" strike="noStrike">
                <a:solidFill>
                  <a:srgbClr val="bbe0e3"/>
                </a:solidFill>
                <a:latin typeface="Monotype Corsiva"/>
              </a:rPr>
              <a:t> não são múmias, como as que aparecem descarnadas e secas devidos a certos minerais desta Terra. Os Santos permanecem através de 18 a 20 séculos tal como eram no dia em que morreram, exalando perfumes agradáveis e conservando a flexibilidade e suavidade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333360"/>
            <a:ext cx="58672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Padre Pío de Pietrelcina</a:t>
            </a:r>
            <a:r>
              <a:rPr b="1" lang="es-MX" sz="1200" spc="-1" strike="noStrike">
                <a:solidFill>
                  <a:srgbClr val="bbe0e3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De Domingo 21 de junio, Peregrinação do Padre Pío</a:t>
            </a:r>
            <a:r>
              <a:rPr b="1" lang="es-MX" sz="1200" spc="-1" strike="noStrike">
                <a:solidFill>
                  <a:srgbClr val="bbe0e3"/>
                </a:solidFill>
                <a:latin typeface="Monotype Corsiva"/>
              </a:rPr>
              <a:t> até Sábado, 27 06 2009 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bbe0e3"/>
                </a:solidFill>
                <a:uFillTx/>
                <a:latin typeface="Monotype Corsiva"/>
              </a:rPr>
              <a:t>Incorrupto</a:t>
            </a: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 pietrelcina 11:13 pm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O Papa Bento XVI visitou a tumba de um dos grandes Santos do século XX: o Padre Pío, cujos restos se encontram em San Giovanni Rotondo, Itália, um permanente destino de peregrinaçõe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A visita não foi casual. Autoridades Franciscanas acertadamente já disseram que o Padre Pío é o ‘Cura de Ars’ de nossos día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Seus superiores criam que ele exerceria um apostolado mediocre, por isso o enviaram, uma vez ordenado, a um pobre casario com muito poucos habitantes: Ars, na Diocese de Balley.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Para surpresa de todos, por 40 anos permaneceu entre o povo e foi um pregador tão bom, além de pasar tantas horas atendendo Confissões, que seu prestígio se estendeu, e de todas as partes vinham para pedir-lhe conselhos, a ponto de que uma empresa ferroviária teve que organizar as viagens dos visitantes em horários especiais!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De sua parte, o padre Pío também passava varias horas no Confessionário, de forma que teve problemas com alguns de seus superiores, que por prudência à sua crescente fama, lhe fizeram a vida de quadrinhos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Desde sua norte, o padre Pío recebeu a visita Pontifícia de dois Papas: João Paulo II e agora Bento XVI, que resumiu seu discurso sobre a vida deste Santo em poucas palabras: “Guiar as almas e aliviar o sofrimento!”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Este exemplo, junto a tantos outros, serve para que fiéis e religiosos, todos juntos, meditemos profundamente sobre a Vocação Sacerdotal e seus deveres na Igreja e Sociedade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Santa Teresa de Lisieux, na “História de Uma Alma”, dizia que falar de Deus e falar com Deus não são a mesma coisa, e neste sentido o Papa convidou todos os sacerdotes do mundo a seguirem ambos os caminos, porque o que faz o Sacerdote é sua relação íntima com Deus, e não o púlpito…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O exemplo que deram com suas vidas o Cura de Ars, o Padre Pío e outros mais, reduz-se a aspectos básicos do apostolado, como a sensibilidade e a sinceridade, o Amor, a coerência entre o falar e o agir e, com certeza, a absoluta entrega com Vocação e dedicação a servir ao próximo…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bbe0e3"/>
                </a:solidFill>
                <a:latin typeface="Monotype Corsiva"/>
              </a:rPr>
              <a:t>E a isso, como os Sacerdotes, todos nós Cristãos somos também chamados  em todos os dias das nossas vidas!..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2" name="Picture 13" descr="ITALY POPE PADRE PIO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710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Santa María Goretti, con Juan Pablo II, Septiembre 1, 1979"/>
          <p:cNvPicPr/>
          <p:nvPr/>
        </p:nvPicPr>
        <p:blipFill>
          <a:blip r:embed="rId2"/>
          <a:stretch/>
        </p:blipFill>
        <p:spPr>
          <a:xfrm>
            <a:off x="5796000" y="3716280"/>
            <a:ext cx="37656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Então, afinal, o que é de fato até mesmo a pobre irmã morte diante do Grandioso Senhor Deus dos Universos, da Vida e de tudo o que existe?</a:t>
            </a:r>
            <a:br>
              <a:rPr sz="3200"/>
            </a:b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Nem a este nosso corpo mortal e passageiro pode ela sequer desfigurar se assim o Bondoso Senhor não o permitir!...</a:t>
            </a:r>
            <a:br>
              <a:rPr sz="3200"/>
            </a:br>
            <a:r>
              <a:rPr b="0" i="1" lang="pt-BR" sz="3200" spc="-1" strike="noStrike">
                <a:solidFill>
                  <a:srgbClr val="bbe0e3"/>
                </a:solidFill>
                <a:latin typeface="Comic Sans MS"/>
              </a:rPr>
              <a:t>Isto posto, resta a pergunta: qual é o motivo de nos preocuparmos por qualquer coisa que seja, se SEMPE olha por nós esse Amoroso Pai que tanto nos quer Bem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risto_resucitado"/>
          <p:cNvPicPr/>
          <p:nvPr/>
        </p:nvPicPr>
        <p:blipFill>
          <a:blip r:embed="rId1"/>
          <a:stretch/>
        </p:blipFill>
        <p:spPr>
          <a:xfrm>
            <a:off x="142920" y="144360"/>
            <a:ext cx="4284720" cy="6597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859280" y="148428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be0e3"/>
                </a:solidFill>
                <a:latin typeface="Monotype Corsiva"/>
              </a:rPr>
              <a:t>Rezemos por todos nós. Amém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252360" y="2565360"/>
            <a:ext cx="96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RAFAEL GUIZAR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MORREU EM1938  STA. CLARA DE MONTEFALCO 1308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CATALINA LABOURE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876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3" descr="Santa Clara de Montefalco, su cuerpo y su corazón incorruptos se veneran en Montefalco, Italia."/>
          <p:cNvPicPr/>
          <p:nvPr/>
        </p:nvPicPr>
        <p:blipFill>
          <a:blip r:embed="rId1"/>
          <a:stretch/>
        </p:blipFill>
        <p:spPr>
          <a:xfrm>
            <a:off x="3635280" y="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Santa Imelda Lambertini"/>
          <p:cNvPicPr/>
          <p:nvPr/>
        </p:nvPicPr>
        <p:blipFill>
          <a:blip r:embed="rId2"/>
          <a:stretch/>
        </p:blipFill>
        <p:spPr>
          <a:xfrm>
            <a:off x="0" y="2852640"/>
            <a:ext cx="2771640" cy="1873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-347400" y="4724280"/>
            <a:ext cx="614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IMELDA LAMBERTINI 1333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PASTORINHA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JACINT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DE FATIMA 192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Picture 6" descr="Beata Jacinta Marto, su cuerpo reposa junto con el del Beato Francisco, en el crucero de la Basílica, en Fátima."/>
          <p:cNvPicPr/>
          <p:nvPr/>
        </p:nvPicPr>
        <p:blipFill>
          <a:blip r:embed="rId3"/>
          <a:stretch/>
        </p:blipFill>
        <p:spPr>
          <a:xfrm>
            <a:off x="2987640" y="2852640"/>
            <a:ext cx="2736720" cy="18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522760" y="4724280"/>
            <a:ext cx="36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 MAGDALENA DE PAZZI MORREU EM160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1143000" y="1338120"/>
            <a:ext cx="6858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1116000" y="1341360"/>
            <a:ext cx="68580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1116000" y="1341360"/>
            <a:ext cx="685800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619280" y="170028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Picture 18" descr="San Ezequiel Moreno Díaz, incorrupto"/>
          <p:cNvPicPr/>
          <p:nvPr/>
        </p:nvPicPr>
        <p:blipFill>
          <a:blip r:embed="rId4"/>
          <a:stretch/>
        </p:blipFill>
        <p:spPr>
          <a:xfrm>
            <a:off x="0" y="5013360"/>
            <a:ext cx="2822400" cy="158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9"/>
          <p:cNvSpPr/>
          <p:nvPr/>
        </p:nvSpPr>
        <p:spPr>
          <a:xfrm>
            <a:off x="-306360" y="6581880"/>
            <a:ext cx="952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EZEQUIEL MORENO DIAZ 1906  STA. FORTUNATA MORREU EM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287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STA. FCA. JAVIER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BRINI  MORREU EM 191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Picture 20" descr="Santa Fortunata, mártir"/>
          <p:cNvPicPr/>
          <p:nvPr/>
        </p:nvPicPr>
        <p:blipFill>
          <a:blip r:embed="rId5"/>
          <a:stretch/>
        </p:blipFill>
        <p:spPr>
          <a:xfrm>
            <a:off x="2916360" y="5013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MJNB"/>
          <p:cNvPicPr/>
          <p:nvPr/>
        </p:nvPicPr>
        <p:blipFill>
          <a:blip r:embed="rId6"/>
          <a:stretch/>
        </p:blipFill>
        <p:spPr>
          <a:xfrm>
            <a:off x="5219640" y="5013360"/>
            <a:ext cx="392436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JHRTETH"/>
          <p:cNvPicPr/>
          <p:nvPr/>
        </p:nvPicPr>
        <p:blipFill>
          <a:blip r:embed="rId7"/>
          <a:stretch/>
        </p:blipFill>
        <p:spPr>
          <a:xfrm>
            <a:off x="0" y="0"/>
            <a:ext cx="3564000" cy="256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FGD"/>
          <p:cNvPicPr/>
          <p:nvPr/>
        </p:nvPicPr>
        <p:blipFill>
          <a:blip r:embed="rId8"/>
          <a:stretch/>
        </p:blipFill>
        <p:spPr>
          <a:xfrm>
            <a:off x="6012000" y="2852640"/>
            <a:ext cx="3132000" cy="184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santacatarinalaboure"/>
          <p:cNvPicPr/>
          <p:nvPr/>
        </p:nvPicPr>
        <p:blipFill>
          <a:blip r:embed="rId9"/>
          <a:stretch/>
        </p:blipFill>
        <p:spPr>
          <a:xfrm>
            <a:off x="6012000" y="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481640" y="3199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6" descr="EFGGF"/>
          <p:cNvPicPr/>
          <p:nvPr/>
        </p:nvPicPr>
        <p:blipFill>
          <a:blip r:embed="rId1"/>
          <a:stretch/>
        </p:blipFill>
        <p:spPr>
          <a:xfrm>
            <a:off x="0" y="0"/>
            <a:ext cx="3348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-1440" y="134136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VITTORIA MORREU EM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8" descr="RTHFGHGH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141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6224400" y="134136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ANGELA DE LA CRUZ 193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10" descr="RTHSHAET"/>
          <p:cNvPicPr/>
          <p:nvPr/>
        </p:nvPicPr>
        <p:blipFill>
          <a:blip r:embed="rId3"/>
          <a:stretch/>
        </p:blipFill>
        <p:spPr>
          <a:xfrm>
            <a:off x="4859280" y="4941720"/>
            <a:ext cx="4067280" cy="165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5448240" y="658332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JOSE LUIS RUANI  MORREU EM 1909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12" descr="RSTHTH"/>
          <p:cNvPicPr/>
          <p:nvPr/>
        </p:nvPicPr>
        <p:blipFill>
          <a:blip r:embed="rId4"/>
          <a:stretch/>
        </p:blipFill>
        <p:spPr>
          <a:xfrm>
            <a:off x="3419640" y="0"/>
            <a:ext cx="2374560" cy="1413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3"/>
          <p:cNvSpPr/>
          <p:nvPr/>
        </p:nvSpPr>
        <p:spPr>
          <a:xfrm>
            <a:off x="3128760" y="1341360"/>
            <a:ext cx="30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RDENAL ALFREDO SHUSTER 1954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Picture 14" descr="DFAFD"/>
          <p:cNvPicPr/>
          <p:nvPr/>
        </p:nvPicPr>
        <p:blipFill>
          <a:blip r:embed="rId5"/>
          <a:stretch/>
        </p:blipFill>
        <p:spPr>
          <a:xfrm>
            <a:off x="3132000" y="3213000"/>
            <a:ext cx="2159280" cy="1486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2624760" y="4653000"/>
            <a:ext cx="28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O SANTIAGO ALBERIONE 197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0" name="Picture 16" descr="SFG"/>
          <p:cNvPicPr/>
          <p:nvPr/>
        </p:nvPicPr>
        <p:blipFill>
          <a:blip r:embed="rId6"/>
          <a:stretch/>
        </p:blipFill>
        <p:spPr>
          <a:xfrm>
            <a:off x="395280" y="5013360"/>
            <a:ext cx="4067280" cy="1657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395280" y="659772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GIOCONDA DE ROMA MORREU EM 1107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18" descr="DHSDRTJ"/>
          <p:cNvPicPr/>
          <p:nvPr/>
        </p:nvPicPr>
        <p:blipFill>
          <a:blip r:embed="rId7"/>
          <a:stretch/>
        </p:blipFill>
        <p:spPr>
          <a:xfrm>
            <a:off x="5580000" y="1628640"/>
            <a:ext cx="3564000" cy="1150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5773680" y="2708280"/>
            <a:ext cx="35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JOSEFINA BAKHITA MORREU EM194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20" descr="SRTUJSRTJ"/>
          <p:cNvPicPr/>
          <p:nvPr/>
        </p:nvPicPr>
        <p:blipFill>
          <a:blip r:embed="rId8"/>
          <a:stretch/>
        </p:blipFill>
        <p:spPr>
          <a:xfrm>
            <a:off x="0" y="1700280"/>
            <a:ext cx="3454560" cy="1155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1"/>
          <p:cNvSpPr/>
          <p:nvPr/>
        </p:nvSpPr>
        <p:spPr>
          <a:xfrm>
            <a:off x="13320" y="2781360"/>
            <a:ext cx="31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IGNAZIO LACONI  MORREU EM178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22" descr="TYTJ"/>
          <p:cNvPicPr/>
          <p:nvPr/>
        </p:nvPicPr>
        <p:blipFill>
          <a:blip r:embed="rId9"/>
          <a:stretch/>
        </p:blipFill>
        <p:spPr>
          <a:xfrm>
            <a:off x="5580000" y="3068640"/>
            <a:ext cx="3564000" cy="15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3"/>
          <p:cNvSpPr/>
          <p:nvPr/>
        </p:nvSpPr>
        <p:spPr>
          <a:xfrm>
            <a:off x="5428800" y="4653000"/>
            <a:ext cx="38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ARDENAL SAN JOSE TOMASI MORREU EM 171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8" name="Picture 24" descr="TJ"/>
          <p:cNvPicPr/>
          <p:nvPr/>
        </p:nvPicPr>
        <p:blipFill>
          <a:blip r:embed="rId10"/>
          <a:stretch/>
        </p:blipFill>
        <p:spPr>
          <a:xfrm>
            <a:off x="0" y="3141720"/>
            <a:ext cx="2843280" cy="1582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5"/>
          <p:cNvSpPr/>
          <p:nvPr/>
        </p:nvSpPr>
        <p:spPr>
          <a:xfrm>
            <a:off x="250200" y="4653000"/>
            <a:ext cx="227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AMMONISIA AÑO </a:t>
            </a:r>
            <a:r>
              <a:rPr b="1" lang="es-MX" sz="1200" spc="-1" strike="noStrike" u="sng">
                <a:solidFill>
                  <a:srgbClr val="ffffff"/>
                </a:solidFill>
                <a:uFillTx/>
                <a:latin typeface="Arial"/>
              </a:rPr>
              <a:t>72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0" name="Picture 26" descr="FGJJDFH"/>
          <p:cNvPicPr/>
          <p:nvPr/>
        </p:nvPicPr>
        <p:blipFill>
          <a:blip r:embed="rId11"/>
          <a:stretch/>
        </p:blipFill>
        <p:spPr>
          <a:xfrm>
            <a:off x="3635280" y="1628640"/>
            <a:ext cx="165744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7"/>
          <p:cNvSpPr/>
          <p:nvPr/>
        </p:nvSpPr>
        <p:spPr>
          <a:xfrm>
            <a:off x="3417840" y="2781360"/>
            <a:ext cx="22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TO. EGIDIO DI BELLO 151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Beato Papa Juan XXIII, cuerpo Incorrupto"/>
          <p:cNvPicPr/>
          <p:nvPr/>
        </p:nvPicPr>
        <p:blipFill>
          <a:blip r:embed="rId1"/>
          <a:stretch/>
        </p:blipFill>
        <p:spPr>
          <a:xfrm>
            <a:off x="5796000" y="2421000"/>
            <a:ext cx="3348000" cy="1871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99440" y="1341360"/>
            <a:ext cx="63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STA. MATILDE MORREU EM1337       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RITA DE CASIA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457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4" name="Picture 4" descr="Beata Ana María Taigi, (Laica, Terciaria Trinitaria, con baño de cera)"/>
          <p:cNvPicPr/>
          <p:nvPr/>
        </p:nvPicPr>
        <p:blipFill>
          <a:blip r:embed="rId2"/>
          <a:stretch/>
        </p:blipFill>
        <p:spPr>
          <a:xfrm>
            <a:off x="0" y="1700280"/>
            <a:ext cx="363528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-181080" y="3933720"/>
            <a:ext cx="63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ANA MARIA TAIGI MORREU EM 1837         BTO. STEFANO BELLECINI 184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6" descr="Beata María de San José, Cuerpo Incorrupto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114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562360" y="2060640"/>
            <a:ext cx="28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 MARIA DE SAN JOSE 196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083280" y="422100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PAPA JUAN XXIII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 1963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9" descr="Santa María Francisca de las Cinco Llagas, Cuerpo Incorrupto"/>
          <p:cNvPicPr/>
          <p:nvPr/>
        </p:nvPicPr>
        <p:blipFill>
          <a:blip r:embed="rId4"/>
          <a:stretch/>
        </p:blipFill>
        <p:spPr>
          <a:xfrm>
            <a:off x="0" y="4292640"/>
            <a:ext cx="277164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-177840" y="65833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MA. FCA. DE LAS 5 LLAGAS 1791      STA. VERONICA JULIANI 1727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01840" y="6583320"/>
            <a:ext cx="24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MARIA MAZARELLO 1881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2643120" y="222876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2643120" y="222876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2627280" y="2205000"/>
            <a:ext cx="385776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5" name="Picture 15" descr="Imagen2"/>
          <p:cNvPicPr/>
          <p:nvPr/>
        </p:nvPicPr>
        <p:blipFill>
          <a:blip r:embed="rId5"/>
          <a:stretch/>
        </p:blipFill>
        <p:spPr>
          <a:xfrm>
            <a:off x="3780000" y="170028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Y6RTHTH"/>
          <p:cNvPicPr/>
          <p:nvPr/>
        </p:nvPicPr>
        <p:blipFill>
          <a:blip r:embed="rId6"/>
          <a:stretch/>
        </p:blipFill>
        <p:spPr>
          <a:xfrm>
            <a:off x="6012000" y="4508640"/>
            <a:ext cx="31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HTH"/>
          <p:cNvPicPr/>
          <p:nvPr/>
        </p:nvPicPr>
        <p:blipFill>
          <a:blip r:embed="rId7"/>
          <a:stretch/>
        </p:blipFill>
        <p:spPr>
          <a:xfrm>
            <a:off x="2916360" y="4365720"/>
            <a:ext cx="301284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HRTGJ"/>
          <p:cNvPicPr/>
          <p:nvPr/>
        </p:nvPicPr>
        <p:blipFill>
          <a:blip r:embed="rId8"/>
          <a:stretch/>
        </p:blipFill>
        <p:spPr>
          <a:xfrm>
            <a:off x="0" y="0"/>
            <a:ext cx="2771640" cy="14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TRTH"/>
          <p:cNvPicPr/>
          <p:nvPr/>
        </p:nvPicPr>
        <p:blipFill>
          <a:blip r:embed="rId9"/>
          <a:stretch/>
        </p:blipFill>
        <p:spPr>
          <a:xfrm>
            <a:off x="2916360" y="0"/>
            <a:ext cx="28796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084720" y="1916280"/>
            <a:ext cx="37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CAYETANO CATANOSO 1963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1" name="Picture 3" descr="DSGWDY"/>
          <p:cNvPicPr/>
          <p:nvPr/>
        </p:nvPicPr>
        <p:blipFill>
          <a:blip r:embed="rId1"/>
          <a:stretch/>
        </p:blipFill>
        <p:spPr>
          <a:xfrm>
            <a:off x="6227640" y="18900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BNDND"/>
          <p:cNvPicPr/>
          <p:nvPr/>
        </p:nvPicPr>
        <p:blipFill>
          <a:blip r:embed="rId2"/>
          <a:stretch/>
        </p:blipFill>
        <p:spPr>
          <a:xfrm>
            <a:off x="6588000" y="4941720"/>
            <a:ext cx="2345040" cy="155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FFDSD"/>
          <p:cNvPicPr/>
          <p:nvPr/>
        </p:nvPicPr>
        <p:blipFill>
          <a:blip r:embed="rId3"/>
          <a:stretch/>
        </p:blipFill>
        <p:spPr>
          <a:xfrm>
            <a:off x="5724360" y="2781360"/>
            <a:ext cx="3419640" cy="1555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0" y="4365720"/>
            <a:ext cx="922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MARIA GORETTI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190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DE JES. LEON 1731               SAN LUIS ORIONE 1940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5" name="Picture 7" descr="HGFVB"/>
          <p:cNvPicPr/>
          <p:nvPr/>
        </p:nvPicPr>
        <p:blipFill>
          <a:blip r:embed="rId4"/>
          <a:stretch/>
        </p:blipFill>
        <p:spPr>
          <a:xfrm>
            <a:off x="0" y="2565360"/>
            <a:ext cx="3635280" cy="187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Venerable María Crescencia Pérez"/>
          <p:cNvPicPr/>
          <p:nvPr/>
        </p:nvPicPr>
        <p:blipFill>
          <a:blip r:embed="rId5"/>
          <a:stretch/>
        </p:blipFill>
        <p:spPr>
          <a:xfrm>
            <a:off x="3348000" y="0"/>
            <a:ext cx="266400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0" y="6583320"/>
            <a:ext cx="95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NARCISA DE JESUS MARTILLO 1869               BEATO JUAN MA. RIERA 1915         BEATA MA. ANGELA ASTORCH 1665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419640" y="2060640"/>
            <a:ext cx="27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CRESCENCIA PEREZ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ORPO FLEX´VEL PERMANECE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ENTADA DESDE SUA MUERTE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NO ANO DE 1932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9" name="Picture 11" descr="HJGGHJNH"/>
          <p:cNvPicPr/>
          <p:nvPr/>
        </p:nvPicPr>
        <p:blipFill>
          <a:blip r:embed="rId6"/>
          <a:stretch/>
        </p:blipFill>
        <p:spPr>
          <a:xfrm>
            <a:off x="0" y="4653000"/>
            <a:ext cx="3708360" cy="19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iervo de Dios, Juan María Riera Moscoso, cuerpo incorrupto, que descanza en la Catedral de Guayaquil, Ecuador. (Foto personal CTV, © www.oremosjuntos.com)"/>
          <p:cNvPicPr/>
          <p:nvPr/>
        </p:nvPicPr>
        <p:blipFill>
          <a:blip r:embed="rId7"/>
          <a:stretch/>
        </p:blipFill>
        <p:spPr>
          <a:xfrm>
            <a:off x="3851280" y="472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Sierva de Dios, Sor María de Jesús León Delgado &quot;La Siervita&quot;"/>
          <p:cNvPicPr/>
          <p:nvPr/>
        </p:nvPicPr>
        <p:blipFill>
          <a:blip r:embed="rId8"/>
          <a:stretch/>
        </p:blipFill>
        <p:spPr>
          <a:xfrm>
            <a:off x="3780000" y="2852640"/>
            <a:ext cx="185724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uerpo incorrupto de San Francisco Javier, Goa (India)"/>
          <p:cNvPicPr/>
          <p:nvPr/>
        </p:nvPicPr>
        <p:blipFill>
          <a:blip r:embed="rId9"/>
          <a:stretch/>
        </p:blipFill>
        <p:spPr>
          <a:xfrm>
            <a:off x="324000" y="0"/>
            <a:ext cx="2809800" cy="1484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5"/>
          <p:cNvSpPr/>
          <p:nvPr/>
        </p:nvSpPr>
        <p:spPr>
          <a:xfrm>
            <a:off x="324000" y="1413000"/>
            <a:ext cx="30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ÃO FRANCISCO JAVIER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ORREU EM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1552. SEU CORPO FOI SUBMERSO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3 MESES EM CAL PARA SER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DESINTEGRADO, PORÉM SÓ CAUSOU DANOS À PELE, IGUAL A SAN JUAN DE LA CRUZ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547640" y="1125360"/>
            <a:ext cx="609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773360"/>
            <a:ext cx="9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SILVANO MARTIR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5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    STA. PATRIZIA DE CONTANTI. 665     STA. AGAPE MARTIR AN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6" name="Picture 4" descr="DDDDDSF"/>
          <p:cNvPicPr/>
          <p:nvPr/>
        </p:nvPicPr>
        <p:blipFill>
          <a:blip r:embed="rId1"/>
          <a:stretch/>
        </p:blipFill>
        <p:spPr>
          <a:xfrm>
            <a:off x="0" y="0"/>
            <a:ext cx="327672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n1"/>
          <p:cNvPicPr/>
          <p:nvPr/>
        </p:nvPicPr>
        <p:blipFill>
          <a:blip r:embed="rId2"/>
          <a:stretch/>
        </p:blipFill>
        <p:spPr>
          <a:xfrm>
            <a:off x="0" y="2060640"/>
            <a:ext cx="316872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-92160" y="4292640"/>
            <a:ext cx="92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BEATA MA. DE JESUS AGREDA 1665         </a:t>
            </a: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SAN NICOLAS DE TOLENTINO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1305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9" name="Picture 7" descr="Imagen3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17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Santa Cándida mártir, incorrupta"/>
          <p:cNvPicPr/>
          <p:nvPr/>
        </p:nvPicPr>
        <p:blipFill>
          <a:blip r:embed="rId4"/>
          <a:stretch/>
        </p:blipFill>
        <p:spPr>
          <a:xfrm>
            <a:off x="5508720" y="2060640"/>
            <a:ext cx="3635280" cy="1800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5433840" y="3789360"/>
            <a:ext cx="275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TA. CANDIDA MARTIR  AÑO </a:t>
            </a:r>
            <a:r>
              <a:rPr b="1" lang="es-MX" sz="1400" spc="-1" strike="noStrike" u="sng">
                <a:solidFill>
                  <a:srgbClr val="ffffff"/>
                </a:solidFill>
                <a:uFillTx/>
                <a:latin typeface="Arial"/>
              </a:rPr>
              <a:t>309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10" descr="Imagen4"/>
          <p:cNvPicPr/>
          <p:nvPr/>
        </p:nvPicPr>
        <p:blipFill>
          <a:blip r:embed="rId5"/>
          <a:stretch/>
        </p:blipFill>
        <p:spPr>
          <a:xfrm>
            <a:off x="5796000" y="4076640"/>
            <a:ext cx="334800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6014160" y="6583320"/>
            <a:ext cx="23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 CARLOS DE SEZZE 167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4" name="Picture 12" descr="Imagen5"/>
          <p:cNvPicPr/>
          <p:nvPr/>
        </p:nvPicPr>
        <p:blipFill>
          <a:blip r:embed="rId6"/>
          <a:stretch/>
        </p:blipFill>
        <p:spPr>
          <a:xfrm>
            <a:off x="0" y="4653000"/>
            <a:ext cx="305928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-187560" y="6583320"/>
            <a:ext cx="62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SANTA INES DE MONTEPULCIANO 1317   SAN CASIMIRO REY DE POLONIA 1484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6" name="Picture 14" descr="Imagen6"/>
          <p:cNvPicPr/>
          <p:nvPr/>
        </p:nvPicPr>
        <p:blipFill>
          <a:blip r:embed="rId7"/>
          <a:stretch/>
        </p:blipFill>
        <p:spPr>
          <a:xfrm>
            <a:off x="3276720" y="2060640"/>
            <a:ext cx="215892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Imagen7"/>
          <p:cNvPicPr/>
          <p:nvPr/>
        </p:nvPicPr>
        <p:blipFill>
          <a:blip r:embed="rId8"/>
          <a:stretch/>
        </p:blipFill>
        <p:spPr>
          <a:xfrm>
            <a:off x="3132000" y="4581360"/>
            <a:ext cx="2594160" cy="20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MMBB"/>
          <p:cNvPicPr/>
          <p:nvPr/>
        </p:nvPicPr>
        <p:blipFill>
          <a:blip r:embed="rId9"/>
          <a:stretch/>
        </p:blipFill>
        <p:spPr>
          <a:xfrm>
            <a:off x="3348000" y="260280"/>
            <a:ext cx="259236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-1759320" y="476280"/>
            <a:ext cx="12647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Os corpos incorruptos dos Santos resistem ao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fato de estarem enterrados, a despeito da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umidade, e às vezes se encontram flutuando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em seus ataúdes, inclusive alguns estavam na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terra sem caixão ou mesmo em fossas comuns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Muitos deles, como São Charbel, que repousa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no Líbano, secretam azeites aromáticos que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bbe0e3"/>
                </a:solidFill>
                <a:latin typeface="Monotype Corsiva"/>
              </a:rPr>
              <a:t>se usam para curar todo tipo de doenças...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muertestateresa"/>
          <p:cNvPicPr/>
          <p:nvPr/>
        </p:nvPicPr>
        <p:blipFill>
          <a:blip r:embed="rId1"/>
          <a:stretch/>
        </p:blipFill>
        <p:spPr>
          <a:xfrm>
            <a:off x="179280" y="33336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HMMJMYU"/>
          <p:cNvPicPr/>
          <p:nvPr/>
        </p:nvPicPr>
        <p:blipFill>
          <a:blip r:embed="rId2"/>
          <a:stretch/>
        </p:blipFill>
        <p:spPr>
          <a:xfrm>
            <a:off x="4356000" y="3357720"/>
            <a:ext cx="4643640" cy="2879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4356000" y="6237360"/>
            <a:ext cx="482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CLARA DE ASIS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, A AMIGA DE SAN FRANCISCO,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                                        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MORREU EM 1253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3" name="Picture 5" descr="San Vicente de Paul, Cuerpo Incorrupto"/>
          <p:cNvPicPr/>
          <p:nvPr/>
        </p:nvPicPr>
        <p:blipFill>
          <a:blip r:embed="rId3"/>
          <a:stretch/>
        </p:blipFill>
        <p:spPr>
          <a:xfrm>
            <a:off x="179280" y="3357720"/>
            <a:ext cx="3996000" cy="2925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43600" y="6308640"/>
            <a:ext cx="23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VICENTE DE PAUL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1660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813640" y="25653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TA. LUISA DE MARILLAC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1660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6" name="Picture 8" descr="HDHSDGVD"/>
          <p:cNvPicPr/>
          <p:nvPr/>
        </p:nvPicPr>
        <p:blipFill>
          <a:blip r:embed="rId4"/>
          <a:stretch/>
        </p:blipFill>
        <p:spPr>
          <a:xfrm>
            <a:off x="6012000" y="333360"/>
            <a:ext cx="291456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78560" y="2565360"/>
            <a:ext cx="230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TA TERESA DE JESUS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(DE AVILA) MORREU EM1582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8" name="Picture 10" descr="MVVMNF"/>
          <p:cNvPicPr/>
          <p:nvPr/>
        </p:nvPicPr>
        <p:blipFill>
          <a:blip r:embed="rId5"/>
          <a:stretch/>
        </p:blipFill>
        <p:spPr>
          <a:xfrm>
            <a:off x="2556000" y="333360"/>
            <a:ext cx="33112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2494440" y="2924280"/>
            <a:ext cx="26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 CHARBEL</a:t>
            </a:r>
            <a:r>
              <a:rPr b="0" lang="es-MX" sz="1200" spc="-1" strike="noStrike">
                <a:solidFill>
                  <a:srgbClr val="ffff00"/>
                </a:solidFill>
                <a:latin typeface="Arial"/>
              </a:rPr>
              <a:t> MAKHLOUF 1898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2:47:13Z</dcterms:created>
  <dc:creator>SONIDEJESUS</dc:creator>
  <dc:description/>
  <dc:language>en-US</dc:language>
  <cp:lastModifiedBy>Usuário</cp:lastModifiedBy>
  <dcterms:modified xsi:type="dcterms:W3CDTF">2011-03-20T19:12:17Z</dcterms:modified>
  <cp:revision>58</cp:revision>
  <dc:subject/>
  <dc:title>Diapositiva 1</dc:title>
</cp:coreProperties>
</file>