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Giovanni%20-%20My%20love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073-EB2C-4A39-A1AB-FE4B11D0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F49-4D62-4316-BFC8-3CC8112A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761-F4DA-4464-9159-E8BA395A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76F-34AA-4A85-872E-F2C6782E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D87-366C-4E97-A43B-5DB07E6B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4FC-77F9-4B50-9528-F2A9588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69E-7172-4FCF-8590-3FA34F3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8B8-14C9-4909-9C49-5802591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9ED-7B76-44C7-991E-9B361D75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343-81F3-4BDD-B658-AE9592C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273-4C0B-4B34-A98C-A34D672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CB8-10CF-4DB9-A7B5-965BB51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0CDF-5E6A-410C-B3AB-88709F76A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4.jpeg"/><Relationship Id="rId37" Type="http://schemas.openxmlformats.org/officeDocument/2006/relationships/image" Target="../media/image17.pn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audio" Target="../media/Giovanni%20-%20My%20love.wav"/><Relationship Id="rId4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6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4.jpeg"/><Relationship Id="rId37" Type="http://schemas.openxmlformats.org/officeDocument/2006/relationships/image" Target="../media/image5.jpeg"/><Relationship Id="rId38" Type="http://schemas.openxmlformats.org/officeDocument/2006/relationships/hyperlink" Target="http://www.leticiathompson.net/" TargetMode="External"/><Relationship Id="rId39" Type="http://schemas.openxmlformats.org/officeDocument/2006/relationships/hyperlink" Target="mailto:bethnorling@globo.com" TargetMode="External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18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19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0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1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2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3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4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5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1341360"/>
            <a:ext cx="7344000" cy="4175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413000"/>
            <a:ext cx="7200720" cy="40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835280" y="2781360"/>
            <a:ext cx="550548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8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VAI REVER AS ROSAS</a:t>
            </a:r>
            <a:endParaRPr b="0" lang="en-US" sz="1800" spc="1" strike="noStrike">
              <a:ln w="0">
                <a:noFill/>
              </a:ln>
              <a:blipFill rotWithShape="0">
                <a:blip r:embed="rId39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76720" y="436572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0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41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00000" y="4869000"/>
            <a:ext cx="7437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Que ele redescubra que entre tantas e tantas pessoas iguais, a que amamos é e sempre será única na vida da gen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826920" y="1125360"/>
            <a:ext cx="7490160" cy="4608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1197000"/>
            <a:ext cx="7344000" cy="4464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1916280"/>
            <a:ext cx="70056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885"/>
                </a:solidFill>
                <a:uFillTx/>
                <a:latin typeface="Century Gothic"/>
                <a:hlinkClick r:id="rId3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Música: Giovanni - </a:t>
            </a:r>
            <a:r>
              <a:rPr b="1" lang="en-US" sz="2000" spc="-1" strike="noStrike">
                <a:solidFill>
                  <a:srgbClr val="ffe885"/>
                </a:solidFill>
                <a:latin typeface="Century Gothic"/>
              </a:rPr>
              <a:t>My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E-mail: </a:t>
            </a:r>
            <a:r>
              <a:rPr b="0" lang="pt-BR" sz="2000" spc="-1" strike="noStrike" u="sng">
                <a:solidFill>
                  <a:srgbClr val="ffe885"/>
                </a:solidFill>
                <a:uFillTx/>
                <a:latin typeface="Century Gothic"/>
                <a:hlinkClick r:id="rId39"/>
              </a:rPr>
              <a:t>bethnorling@globo.com</a:t>
            </a: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443700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Quando o amor bate às portas do nosso coração nos sentimos importantes. Amar e saber-se amado pela mesma pessoa é o sonho de todo mundo. Ser único, sentir-se único e ter para si o tesouro único que a terra tinha esco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400536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Quando amamos sempre somos únicos, pois ninguém sente como nós, ninguém espera, deseja, sonha e dói como nós. Ninguém se alegra tanto, se desespera tanto, comete ta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erros e tantos acer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O amor nos torna seres extraordin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2205000"/>
            <a:ext cx="750888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a93"/>
                </a:solidFill>
                <a:latin typeface="Verdana"/>
              </a:rPr>
              <a:t>Ah! E a pessoa amada, essa então!!! O coração apaixonado possui essa capacidade extraordinária de ignorar os pequenos defeitos (e a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a93"/>
                </a:solidFill>
                <a:latin typeface="Verdana"/>
              </a:rPr>
              <a:t>apreciá-los!), moldar carinhosamente as pequenas diferenças e fazer de conta que não está vendo, não está sentindo, não está doe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a93"/>
                </a:solidFill>
                <a:latin typeface="Verdana"/>
              </a:rPr>
              <a:t>Ele perdoa sem que perdão seja carecido e continua o eterno caminho das promessas dos que amam para semp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2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26920" y="4365720"/>
            <a:ext cx="7508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E de tanto amar, tanto aperfeiçoar e fechar os olhos, ele se esquece que o ser perfeito não existe. Então, quando amanhece o dia do dia-a-dia, os defeitos, ou o que a pessoa é, em si, realmente, aponta e desapo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6920" y="4221000"/>
            <a:ext cx="7508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Já não parece no fim da tarde da convivência que a pessoa de antes e a de depois são a mesma. Já não parece assim tão única e tão especial. Já tudo parece tão igual, tão simples e tão normal. Tanto, que causa desenca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26920" y="4365720"/>
            <a:ext cx="7508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E é então que vem a lição de um principezinho que teve a ousadia de amar uma rosa. Foi preciso caminhos e encontros para que alguém lhe dissesse, enfim: "vai rever as rosas!... tu compreenderás que a tua é única no mundo!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826920" y="3860640"/>
            <a:ext cx="7508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Ah! Como as rosas se parecem e como cada qual é sem igual! Como tantos se parecem com o que amamos e como são diferentes! Única é aquela pessoa que fez vibrar nosso coração um dia, aquela pela qual sofremos, lutamos, jogamos tudo pro ar e nossos olhos viram estrelas até nas noites mais escu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26920" y="4149720"/>
            <a:ext cx="7508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Sim... quando o coração achar-se demasiado descontente e desencantado, que ele passeie pelo jardim do passado, onde reinava a magia e a esperança, onde o amor tinha cheiro da pessoa amada e transformava tudo o ma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mundo em na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2:36:11Z</dcterms:created>
  <dc:creator>Beth Norling</dc:creator>
  <dc:description/>
  <dc:language>en-US</dc:language>
  <cp:lastModifiedBy>Beth Norling</cp:lastModifiedBy>
  <dcterms:modified xsi:type="dcterms:W3CDTF">2008-08-19T14:45:06Z</dcterms:modified>
  <cp:revision>9</cp:revision>
  <dc:subject/>
  <dc:title>Vai_ver_as_rosas</dc:title>
</cp:coreProperties>
</file>