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Giovanni%20-%20My%20love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06C-C3F5-4505-9F17-B31DA7F0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56F-A293-4E47-B9E3-ED1E2775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71A-AEE1-4B8A-926B-943C284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5F8-573D-4371-B6E2-30AE6E41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8C4-3B90-4D01-8824-8A74E09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5E9-259B-41E7-A372-0D9C4FD6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E03-82AE-4182-B1C3-D6752C49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9DE-F799-4761-AF1D-D62CB39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FEC-4395-434B-8577-88A04BBA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0FD-FCAD-468E-A6C0-77994895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280-A0EE-4529-B37F-507D56A5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ABC-14B2-4CBF-99EE-9255A9F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FD34-7CD0-4788-9D38-E8DDBB589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4.jpeg"/><Relationship Id="rId37" Type="http://schemas.openxmlformats.org/officeDocument/2006/relationships/image" Target="../media/image17.pn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audio" Target="../media/Giovanni%20-%20My%20love.wav"/><Relationship Id="rId4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6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4.jpeg"/><Relationship Id="rId37" Type="http://schemas.openxmlformats.org/officeDocument/2006/relationships/image" Target="../media/image5.jpeg"/><Relationship Id="rId38" Type="http://schemas.openxmlformats.org/officeDocument/2006/relationships/hyperlink" Target="http://www.leticiathompson.net/" TargetMode="External"/><Relationship Id="rId39" Type="http://schemas.openxmlformats.org/officeDocument/2006/relationships/hyperlink" Target="mailto:bethnorling@globo.com" TargetMode="External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18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19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0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1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2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3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4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25.jpe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9.png"/><Relationship Id="rId25" Type="http://schemas.openxmlformats.org/officeDocument/2006/relationships/image" Target="../media/image14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image" Target="../media/image9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1341360"/>
            <a:ext cx="7344000" cy="4175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413000"/>
            <a:ext cx="7200720" cy="40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835280" y="2781360"/>
            <a:ext cx="550548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8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VAI REVER AS ROSAS</a:t>
            </a:r>
            <a:endParaRPr b="0" lang="en-US" sz="1800" spc="1" strike="noStrike">
              <a:ln w="0">
                <a:noFill/>
              </a:ln>
              <a:blipFill rotWithShape="0">
                <a:blip r:embed="rId39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76720" y="436572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0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000" spc="1" strike="noStrike">
              <a:ln w="0">
                <a:noFill/>
              </a:ln>
              <a:blipFill rotWithShape="0">
                <a:blip r:embed="rId41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900000" y="4869000"/>
            <a:ext cx="7437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Que ele redescubra que entre tantas e tantas pessoas iguais, a que amamos é e sempre será única na vida da gen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826920" y="1125360"/>
            <a:ext cx="7490160" cy="4608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1197000"/>
            <a:ext cx="7344000" cy="4464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1916280"/>
            <a:ext cx="70056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e885"/>
                </a:solidFill>
                <a:uFillTx/>
                <a:latin typeface="Century Gothic"/>
                <a:hlinkClick r:id="rId38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Música: Giovanni - </a:t>
            </a:r>
            <a:r>
              <a:rPr b="1" lang="en-US" sz="2000" spc="-1" strike="noStrike">
                <a:solidFill>
                  <a:srgbClr val="ffe885"/>
                </a:solidFill>
                <a:latin typeface="Century Gothic"/>
              </a:rPr>
              <a:t>My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E-mail: </a:t>
            </a:r>
            <a:r>
              <a:rPr b="0" lang="pt-BR" sz="2000" spc="-1" strike="noStrike" u="sng">
                <a:solidFill>
                  <a:srgbClr val="ffe885"/>
                </a:solidFill>
                <a:uFillTx/>
                <a:latin typeface="Century Gothic"/>
                <a:hlinkClick r:id="rId39"/>
              </a:rPr>
              <a:t>bethnorling@globo.com</a:t>
            </a:r>
            <a:r>
              <a:rPr b="1" lang="pt-BR" sz="2000" spc="-1" strike="noStrike">
                <a:solidFill>
                  <a:srgbClr val="ffe885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4437000"/>
            <a:ext cx="73645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Quando o amor bate às portas do nosso coração nos sentimos importantes. Amar e saber-se amado pela mesma pessoa é o sonho de todo mundo. Ser único, sentir-se único e ter para si o tesouro único que a terra tinha esco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4005360"/>
            <a:ext cx="73645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Quando amamos sempre somos únicos, pois ninguém sente como nós, ninguém espera, deseja, sonha e dói como nós. Ninguém se alegra tanto, se desespera tanto, comete ta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erros e tantos acer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O amor nos torna seres extraordiná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2205000"/>
            <a:ext cx="750888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a93"/>
                </a:solidFill>
                <a:latin typeface="Verdana"/>
              </a:rPr>
              <a:t>Ah! E a pessoa amada, essa então!!! O coração apaixonado possui essa capacidade extraordinária de ignorar os pequenos defeitos (e a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a93"/>
                </a:solidFill>
                <a:latin typeface="Verdana"/>
              </a:rPr>
              <a:t>apreciá-los!), moldar carinhosamente as pequenas diferenças e fazer de conta que não está vendo, não está sentindo, não está doe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ea93"/>
                </a:solidFill>
                <a:latin typeface="Verdana"/>
              </a:rPr>
              <a:t>Ele perdoa sem que perdão seja carecido e continua o eterno caminho das promessas dos que amam para semp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2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26920" y="4365720"/>
            <a:ext cx="7508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E de tanto amar, tanto aperfeiçoar e fechar os olhos, ele se esquece que o ser perfeito não existe. Então, quando amanhece o dia do dia-a-dia, os defeitos, ou o que a pessoa é, em si, realmente, aponta e desapo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6920" y="4221000"/>
            <a:ext cx="7508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Já não parece no fim da tarde da convivência que a pessoa de antes e a de depois são a mesma. Já não parece assim tão única e tão especial. Já tudo parece tão igual, tão simples e tão normal. Tanto, que causa desenca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26920" y="4365720"/>
            <a:ext cx="7508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E é então que vem a lição de um principezinho que teve a ousadia de amar uma rosa. Foi preciso caminhos e encontros para que alguém lhe dissesse, enfim: "vai rever as rosas!... tu compreenderás que a tua é única no mundo!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826920" y="3860640"/>
            <a:ext cx="750888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Ah! Como as rosas se parecem e como cada qual é sem igual! Como tantos se parecem com o que amamos e como são diferentes! Única é aquela pessoa que fez vibrar nosso coração um dia, aquela pela qual sofremos, lutamos, jogamos tudo pro ar e nossos olhos viram estrelas até nas noites mais escu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8820000" y="0"/>
            <a:ext cx="3240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4369680" y="-4369320"/>
            <a:ext cx="404640" cy="914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369680" y="2083320"/>
            <a:ext cx="40464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5400000">
            <a:off x="4537080" y="-4537080"/>
            <a:ext cx="6984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4537080" y="2250720"/>
            <a:ext cx="6984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24000" y="333360"/>
            <a:ext cx="71280" cy="619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748720" y="333360"/>
            <a:ext cx="71280" cy="619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4536360" y="-3807720"/>
            <a:ext cx="71280" cy="8353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4500720" y="2276280"/>
            <a:ext cx="71280" cy="842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620640"/>
            <a:ext cx="7921440" cy="561672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803160" cy="1116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9"/>
          <a:stretch/>
        </p:blipFill>
        <p:spPr>
          <a:xfrm>
            <a:off x="468360" y="0"/>
            <a:ext cx="772920" cy="654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0"/>
          <a:stretch/>
        </p:blipFill>
        <p:spPr>
          <a:xfrm>
            <a:off x="0" y="836640"/>
            <a:ext cx="773280" cy="6541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1"/>
          <a:stretch/>
        </p:blipFill>
        <p:spPr>
          <a:xfrm>
            <a:off x="644688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2"/>
          <a:stretch/>
        </p:blipFill>
        <p:spPr>
          <a:xfrm>
            <a:off x="847584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3"/>
          <a:stretch/>
        </p:blipFill>
        <p:spPr>
          <a:xfrm>
            <a:off x="8291520" y="5742000"/>
            <a:ext cx="852480" cy="1116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4"/>
          <a:stretch/>
        </p:blipFill>
        <p:spPr>
          <a:xfrm flipH="1" rot="21585000">
            <a:off x="8404920" y="530064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5"/>
          <a:stretch/>
        </p:blipFill>
        <p:spPr>
          <a:xfrm>
            <a:off x="7885080" y="6203880"/>
            <a:ext cx="738360" cy="654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6"/>
          <a:stretch/>
        </p:blipFill>
        <p:spPr>
          <a:xfrm>
            <a:off x="6446880" y="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7"/>
          <a:stretch/>
        </p:blipFill>
        <p:spPr>
          <a:xfrm>
            <a:off x="8475840" y="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8"/>
          <a:stretch/>
        </p:blipFill>
        <p:spPr>
          <a:xfrm>
            <a:off x="0" y="6189840"/>
            <a:ext cx="2697120" cy="668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9"/>
          <a:stretch/>
        </p:blipFill>
        <p:spPr>
          <a:xfrm>
            <a:off x="0" y="4160880"/>
            <a:ext cx="668160" cy="2697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0"/>
          <a:stretch/>
        </p:blipFill>
        <p:spPr>
          <a:xfrm>
            <a:off x="0" y="5913360"/>
            <a:ext cx="1116000" cy="944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1"/>
          <a:stretch/>
        </p:blipFill>
        <p:spPr>
          <a:xfrm>
            <a:off x="7883640" y="0"/>
            <a:ext cx="1260360" cy="944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2"/>
          <a:stretch/>
        </p:blipFill>
        <p:spPr>
          <a:xfrm>
            <a:off x="7596360" y="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3"/>
          <a:stretch/>
        </p:blipFill>
        <p:spPr>
          <a:xfrm>
            <a:off x="8572680" y="692280"/>
            <a:ext cx="571320" cy="581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4"/>
          <a:stretch/>
        </p:blipFill>
        <p:spPr>
          <a:xfrm>
            <a:off x="755640" y="6276960"/>
            <a:ext cx="571680" cy="5810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5"/>
          <a:stretch/>
        </p:blipFill>
        <p:spPr>
          <a:xfrm>
            <a:off x="0" y="55166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26920" y="4149720"/>
            <a:ext cx="75088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Sim... quando o coração achar-se demasiado descontente e desencantado, que ele passeie pelo jardim do passado, onde reinava a magia e a esperança, onde o amor tinha cheiro da pessoa amada e transformava tudo o ma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a93"/>
                </a:solidFill>
                <a:latin typeface="Verdana"/>
              </a:rPr>
              <a:t>mundo em na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2:36:11Z</dcterms:created>
  <dc:creator>Beth Norling</dc:creator>
  <dc:description/>
  <dc:language>en-US</dc:language>
  <cp:lastModifiedBy>Beth Norling</cp:lastModifiedBy>
  <dcterms:modified xsi:type="dcterms:W3CDTF">2008-08-19T14:45:06Z</dcterms:modified>
  <cp:revision>9</cp:revision>
  <dc:subject/>
  <dc:title>Vai_ver_as_rosas</dc:title>
</cp:coreProperties>
</file>