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859-903C-43C8-AB36-54E62F2C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FEA-65CB-416C-99E9-D53B9901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939-9ED0-413D-8956-028A022D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C05-D72E-4D23-B211-970C413E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88D-7DE7-403E-A70D-29AB9A9D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18C-ADCE-4ABA-A6A2-D6AA2EF4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400-C9FF-4487-A714-FCF6433C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883-4D1F-4FB2-8AA3-A3025783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EBD-6BE9-412B-A6D0-15283B85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9B4-3D13-4E19-AF4A-03A06B0A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808-4425-404A-BDB4-2A61F9B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F81-A19A-455A-8937-07AACF51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1F35-220A-4D4A-AC0A-91FB970E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460440" y="3249000"/>
            <a:ext cx="84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872"/>
                </a:solidFill>
                <a:latin typeface="Arial"/>
                <a:ea typeface="Times New Roman"/>
              </a:rPr>
              <a:t>Realmente fascinante a proporção como é mostrada nesta apresent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[]"/>
          <p:cNvPicPr/>
          <p:nvPr/>
        </p:nvPicPr>
        <p:blipFill>
          <a:blip r:embed="rId1"/>
          <a:stretch/>
        </p:blipFill>
        <p:spPr>
          <a:xfrm>
            <a:off x="179280" y="971640"/>
            <a:ext cx="8780400" cy="494172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4"/>
          <p:cNvSpPr/>
          <p:nvPr/>
        </p:nvSpPr>
        <p:spPr>
          <a:xfrm>
            <a:off x="1849680" y="1143000"/>
            <a:ext cx="7264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ixaDeTexto 5"/>
          <p:cNvSpPr/>
          <p:nvPr/>
        </p:nvSpPr>
        <p:spPr>
          <a:xfrm>
            <a:off x="5929200" y="1357200"/>
            <a:ext cx="8575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Vê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6"/>
          <p:cNvSpPr/>
          <p:nvPr/>
        </p:nvSpPr>
        <p:spPr>
          <a:xfrm>
            <a:off x="1500120" y="5500800"/>
            <a:ext cx="8571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ixaDeTexto 7"/>
          <p:cNvSpPr/>
          <p:nvPr/>
        </p:nvSpPr>
        <p:spPr>
          <a:xfrm>
            <a:off x="3500280" y="5500800"/>
            <a:ext cx="12859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Mercú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8"/>
          <p:cNvSpPr/>
          <p:nvPr/>
        </p:nvSpPr>
        <p:spPr>
          <a:xfrm>
            <a:off x="5857920" y="5500800"/>
            <a:ext cx="8571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Plu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[]"/>
          <p:cNvPicPr/>
          <p:nvPr/>
        </p:nvPicPr>
        <p:blipFill>
          <a:blip r:embed="rId1"/>
          <a:stretch/>
        </p:blipFill>
        <p:spPr>
          <a:xfrm>
            <a:off x="179280" y="971640"/>
            <a:ext cx="8780400" cy="492588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4"/>
          <p:cNvSpPr/>
          <p:nvPr/>
        </p:nvSpPr>
        <p:spPr>
          <a:xfrm>
            <a:off x="285840" y="1000080"/>
            <a:ext cx="10713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Jú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5"/>
          <p:cNvSpPr/>
          <p:nvPr/>
        </p:nvSpPr>
        <p:spPr>
          <a:xfrm>
            <a:off x="5500800" y="1415880"/>
            <a:ext cx="10713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Sa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6"/>
          <p:cNvSpPr/>
          <p:nvPr/>
        </p:nvSpPr>
        <p:spPr>
          <a:xfrm>
            <a:off x="2286000" y="4857840"/>
            <a:ext cx="8571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U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7"/>
          <p:cNvSpPr/>
          <p:nvPr/>
        </p:nvSpPr>
        <p:spPr>
          <a:xfrm>
            <a:off x="6357960" y="5072040"/>
            <a:ext cx="10717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Net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8"/>
          <p:cNvSpPr/>
          <p:nvPr/>
        </p:nvSpPr>
        <p:spPr>
          <a:xfrm>
            <a:off x="2143080" y="5429160"/>
            <a:ext cx="85716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Ter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6643800" y="5643720"/>
            <a:ext cx="85716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Plutã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[]"/>
          <p:cNvPicPr/>
          <p:nvPr/>
        </p:nvPicPr>
        <p:blipFill>
          <a:blip r:embed="rId1"/>
          <a:stretch/>
        </p:blipFill>
        <p:spPr>
          <a:xfrm>
            <a:off x="179280" y="971640"/>
            <a:ext cx="8780400" cy="492444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4"/>
          <p:cNvSpPr/>
          <p:nvPr/>
        </p:nvSpPr>
        <p:spPr>
          <a:xfrm>
            <a:off x="1071720" y="1714680"/>
            <a:ext cx="10713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5"/>
          <p:cNvSpPr/>
          <p:nvPr/>
        </p:nvSpPr>
        <p:spPr>
          <a:xfrm>
            <a:off x="2000160" y="5572080"/>
            <a:ext cx="1071720" cy="246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b4"/>
                </a:solidFill>
                <a:latin typeface="Arial"/>
              </a:rPr>
              <a:t>Júp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6"/>
          <p:cNvSpPr/>
          <p:nvPr/>
        </p:nvSpPr>
        <p:spPr>
          <a:xfrm>
            <a:off x="6858000" y="4857840"/>
            <a:ext cx="85716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Ter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ixaDeTexto 7"/>
          <p:cNvSpPr/>
          <p:nvPr/>
        </p:nvSpPr>
        <p:spPr>
          <a:xfrm>
            <a:off x="6357960" y="5643720"/>
            <a:ext cx="85716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Plutã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538200" y="3376800"/>
            <a:ext cx="81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Eu certamente pensei que ficaria mais claro. Após o nosso sol... Há um grande unive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[]"/>
          <p:cNvPicPr/>
          <p:nvPr/>
        </p:nvPicPr>
        <p:blipFill>
          <a:blip r:embed="rId1"/>
          <a:stretch/>
        </p:blipFill>
        <p:spPr>
          <a:xfrm>
            <a:off x="179280" y="358920"/>
            <a:ext cx="8780400" cy="6141960"/>
          </a:xfrm>
          <a:prstGeom prst="rect">
            <a:avLst/>
          </a:prstGeom>
          <a:ln w="0">
            <a:noFill/>
          </a:ln>
        </p:spPr>
      </p:pic>
      <p:sp>
        <p:nvSpPr>
          <p:cNvPr id="62" name="CaixaDeTexto 4"/>
          <p:cNvSpPr/>
          <p:nvPr/>
        </p:nvSpPr>
        <p:spPr>
          <a:xfrm>
            <a:off x="928800" y="4786200"/>
            <a:ext cx="50004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S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5"/>
          <p:cNvSpPr/>
          <p:nvPr/>
        </p:nvSpPr>
        <p:spPr>
          <a:xfrm>
            <a:off x="285840" y="5214960"/>
            <a:ext cx="207144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Júpiter tem a proporção de 1 pix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6"/>
          <p:cNvSpPr/>
          <p:nvPr/>
        </p:nvSpPr>
        <p:spPr>
          <a:xfrm>
            <a:off x="285840" y="5643720"/>
            <a:ext cx="207144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Nessa escala a terra é invisí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[]"/>
          <p:cNvPicPr/>
          <p:nvPr/>
        </p:nvPicPr>
        <p:blipFill>
          <a:blip r:embed="rId1"/>
          <a:stretch/>
        </p:blipFill>
        <p:spPr>
          <a:xfrm>
            <a:off x="179280" y="358920"/>
            <a:ext cx="8780400" cy="6141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369720" y="6491520"/>
            <a:ext cx="85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Antares </a:t>
            </a:r>
            <a:r>
              <a:rPr b="0" lang="pt-B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é a 15ª estrela mais brilhante no céu</a:t>
            </a:r>
            <a:r>
              <a:rPr b="0" lang="hr-H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. </a:t>
            </a:r>
            <a:r>
              <a:rPr b="0" lang="pt-B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E está há mais de 1000 anos-luz de distância</a:t>
            </a:r>
            <a:r>
              <a:rPr b="0" lang="hr-H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5"/>
          <p:cNvSpPr/>
          <p:nvPr/>
        </p:nvSpPr>
        <p:spPr>
          <a:xfrm>
            <a:off x="1785960" y="5429160"/>
            <a:ext cx="85716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Sol (1 pixe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6"/>
          <p:cNvSpPr/>
          <p:nvPr/>
        </p:nvSpPr>
        <p:spPr>
          <a:xfrm>
            <a:off x="285840" y="5786280"/>
            <a:ext cx="178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Nessa escala Júpiter é invisí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782720" y="2808000"/>
            <a:ext cx="5670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b4"/>
                </a:solidFill>
                <a:latin typeface="Arial"/>
                <a:ea typeface="Times New Roman"/>
              </a:rPr>
              <a:t>Agora, qual é o seu tamanh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  <a:ea typeface="Times New Roman"/>
              </a:rPr>
              <a:t>E, qual é o tamanho das coisas que incomodam ho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  <a:ea typeface="Times New Roman"/>
              </a:rPr>
              <a:t>Ou, por relevância, o que é importa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b4"/>
                </a:solidFill>
                <a:latin typeface="Arial"/>
                <a:ea typeface="Times New Roman"/>
              </a:rPr>
              <a:t>OLHE SEMPRE PELO AL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563400" y="2107080"/>
            <a:ext cx="7712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gora imagine o tamanho de DEUS....., isso é realmente fascin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Envie esta mensagem para todas as pessoas que você conheç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que “imaginam” ter um grande probl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ó tenho uma coisa para dizer a estas pesso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ão percam a </a:t>
            </a:r>
            <a:r>
              <a:rPr b="0" i="1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esperança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enha fé em D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e digam para o problema olhar o tamanho de DEUS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to pode ajudar alguém a pensar melhor o que é mais importante na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4"/>
          <p:cNvSpPr/>
          <p:nvPr/>
        </p:nvSpPr>
        <p:spPr>
          <a:xfrm>
            <a:off x="7543800" y="620064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Tradução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Marcelo San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Adaptação e Modificaçã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Daniele Battag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41:59Z</dcterms:created>
  <dc:creator>q</dc:creator>
  <dc:description/>
  <dc:language>en-US</dc:language>
  <cp:lastModifiedBy>db</cp:lastModifiedBy>
  <dcterms:modified xsi:type="dcterms:W3CDTF">2007-06-04T17:30:10Z</dcterms:modified>
  <cp:revision>6</cp:revision>
  <dc:subject/>
  <dc:title>Slide 1</dc:title>
</cp:coreProperties>
</file>