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Pai%20-%20Fabio%20Jr..wav" ContentType="audio/x-wav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17E2-0AA4-4287-8705-9A2AE496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86D-F840-4FC0-9CCD-34B50AB8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85F-065C-4171-8A5B-6D61F1CC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3B15-104C-434B-8BD7-A3D9A532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DA1-B53D-4A52-949E-3F3E18CE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4E7-127C-442B-BDF0-2AE91563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FF0-EE76-4173-8547-47E65382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28B-2F03-493D-9A3B-69DD649D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7D0-B8A1-40D4-B365-FA49DEE0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BD3-77CF-4946-88D7-A6F28F95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E4F-8D28-4F7C-81E0-626CE582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3A5-9207-461D-AE45-A8379918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1B69-19FE-47D5-B8EA-4427F66D8B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Pai%20-%20Fabio%20Jr.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hyperlink" Target="http://www.leticiathompson.com/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leticiathompson.net/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55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81280" y="838080"/>
            <a:ext cx="213372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Copperplate Gothic Bold"/>
              </a:rPr>
              <a:t>Pai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495288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Copperplate Gothic Bold"/>
              </a:rPr>
              <a:t>Fátima Irene Pinto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62320" y="5715000"/>
            <a:ext cx="467676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Copperplate Gothic Bold"/>
              </a:rPr>
              <a:t>(Homenagem ao meu pai)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</p:spTree>
  </p:cSld>
  <p:transition spd="slow" advTm="25000">
    <p:randomBar dir="vert"/>
    <p:sndAc>
      <p:stSnd>
        <p:snd r:embed="rId8" name="Pai%20-%20Fabio%20Jr.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144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Lembrar de você é lembrar da estação, do trem, das viagens onde segura e confiante, eu o acompanhava. É lembrar dos longos passeios pelas matas, em busca dos pomares de   frutas silvestres, é recordá-lo risonho  ao  lado  de  minha mãe, atiçando Sultão que latia e pulava, como que a compartilhar da   felicidade que entre nós rein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41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99072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ca800"/>
                </a:solidFill>
                <a:latin typeface="Copperplate Gothic Light"/>
                <a:ea typeface="Arial"/>
              </a:rPr>
              <a:t>É lembrar do vidro brilhante de vaga-lumes que, ensinada por você, eu sabia caçar... e das corujinhas que eu cacei sozinha, mas que você não me deixou criar. É lembrar das festas juninas, dos foguetórios, do violão que por suas mãos, eu aprendi a dedilhar... dos dobrados na harmônica em cujos baixos eu enroscava e você me fazia recomeçar. É lembrar da primeira vez que você me levou embora para estudar, sem saber que seria uma viagem sem volta, um adeus definitivo à infância e ao aconchego do meu 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3000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3900"/>
                            </p:stCondLst>
                            <p:childTnLst>
                              <p:par>
                                <p:cTn id="4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838080"/>
            <a:ext cx="7467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a800"/>
                </a:solidFill>
                <a:latin typeface="Copperplate Gothic Light"/>
                <a:ea typeface="Arial"/>
              </a:rPr>
              <a:t>Ah, Pai! Se você soubesse das agruras que me aguardavam e do quanto elas haveriam de nos separar, você jamais teria me levado e, da paz do meu lar, você jamais teria me apartado. Quando eu voltei, Pai, tudo estava tão mudado... e você partiu de repente, sem que eu tivesse tempo de lhe agradecer, dar o derradeiro abraço que no coração ficou enros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800"/>
                            </p:stCondLst>
                            <p:childTnLst>
                              <p:par>
                                <p:cTn id="5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7620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a800"/>
                </a:solidFill>
                <a:latin typeface="Copperplate Gothic Light"/>
                <a:ea typeface="Arial"/>
              </a:rPr>
              <a:t>Você partiu sem me dar a chance de confessar o quanto você foi por mim, amado. Não houve jeito, não houve tempo, infelizmente. Mas onde quer que você esteja, no mundo da luz e da verdade, aceite esta homenagem que brota sincera em meio às minhas lágrimas de saudade...e embora com a alma embargada pela nostalgia, a tua bênção eu peço agora...</a:t>
            </a:r>
            <a:br>
              <a:rPr sz="2800"/>
            </a:br>
            <a:r>
              <a:rPr b="1" lang="en-US" sz="2800" spc="-1" strike="noStrike">
                <a:solidFill>
                  <a:srgbClr val="aca800"/>
                </a:solidFill>
                <a:latin typeface="Copperplate Gothic Light"/>
                <a:ea typeface="Arial"/>
              </a:rPr>
              <a:t>COMO ANTIGAMENT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800"/>
                            </p:stCondLst>
                            <p:childTnLst>
                              <p:par>
                                <p:cTn id="6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6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8088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4f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4f00"/>
                </a:solidFill>
                <a:latin typeface="Times New Roman"/>
              </a:rPr>
              <a:t>Fábio Jr. - 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175248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4f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71b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289548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33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914400" y="5257800"/>
            <a:ext cx="1600200" cy="68580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ff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/>
          </p:cNvPr>
          <p:cNvSpPr/>
          <p:nvPr/>
        </p:nvSpPr>
        <p:spPr>
          <a:xfrm>
            <a:off x="3581280" y="5105520"/>
            <a:ext cx="1981440" cy="990360"/>
          </a:xfrm>
          <a:prstGeom prst="flowChartAlternateProcess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00ff"/>
                </a:solidFill>
                <a:uFillTx/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endshow"/>
          </p:cNvPr>
          <p:cNvSpPr/>
          <p:nvPr/>
        </p:nvSpPr>
        <p:spPr>
          <a:xfrm>
            <a:off x="6705720" y="5257800"/>
            <a:ext cx="1600200" cy="685800"/>
          </a:xfrm>
          <a:prstGeom prst="flowChartAlternateProcess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ff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3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38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800"/>
                            </p:stCondLst>
                            <p:childTnLst>
                              <p:par>
                                <p:cTn id="10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03:18:49Z</dcterms:created>
  <dc:creator>ssoliver@terra.com.br </dc:creator>
  <dc:description>Música: Pai - Fábio Jr. - E-mail: ssoliver@terra.com.br </dc:description>
  <dc:language>en-US</dc:language>
  <cp:lastModifiedBy>Leticia Thompson</cp:lastModifiedBy>
  <dcterms:modified xsi:type="dcterms:W3CDTF">2004-11-02T22:15:51Z</dcterms:modified>
  <cp:revision>6</cp:revision>
  <dc:subject>PPS (Homenagem)</dc:subject>
  <dc:title>Pai</dc:title>
</cp:coreProperties>
</file>