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Ernesto%20Cortazar%20-%20La%20vie%20en%20rose.wav" ContentType="audio/x-wav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5CBC-C94F-45AA-A96B-08E52A4D7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B1D6-F983-4933-81B1-B1A1DFD7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FACA-A03E-4645-9916-467B88DF7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2E85-7BB2-4A22-A7A4-3847E7330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C2BC-692F-41D7-9384-F6DCB482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400F-8266-4490-B477-88D3D416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E3EB-6BC8-4386-BEDA-82E5300E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947C-F969-4E97-A1AA-7AF15711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EEE9-5904-4134-9BFD-AA4F2ECB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1B80-4F8F-4F87-AC2A-073DC317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9FE3-4DCA-47A2-A713-8CBAE21C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CE65-D980-40CD-A123-7AE6DD15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B064-81E4-441F-9C90-5544D1BBF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rnesto%20Cortazar%20-%20La%20vie%20en%20rose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34120" y="5257800"/>
            <a:ext cx="35049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c3a177"/>
                  </a:solidFill>
                  <a:miter/>
                </a:ln>
                <a:noFill/>
                <a:latin typeface="Arial Black"/>
              </a:rPr>
              <a:t>Texto extraído do livro</a:t>
            </a:r>
            <a:endParaRPr b="0" lang="en-US" sz="2400" spc="1" strike="noStrike">
              <a:ln w="3240">
                <a:solidFill>
                  <a:srgbClr val="c3a177"/>
                </a:solidFill>
                <a:miter/>
              </a:ln>
              <a:noFill/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c3a177"/>
                  </a:solidFill>
                  <a:miter/>
                </a:ln>
                <a:noFill/>
                <a:latin typeface="Arial Black"/>
              </a:rPr>
              <a:t>"Dez Leis Para Ser Feliz"</a:t>
            </a:r>
            <a:endParaRPr b="0" lang="en-US" sz="2400" spc="1" strike="noStrike">
              <a:ln w="3240">
                <a:solidFill>
                  <a:srgbClr val="c3a177"/>
                </a:solidFill>
                <a:miter/>
              </a:ln>
              <a:noFill/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c3a177"/>
                  </a:solidFill>
                  <a:miter/>
                </a:ln>
                <a:noFill/>
                <a:latin typeface="Arial Black"/>
              </a:rPr>
              <a:t>de Augusto Cury</a:t>
            </a:r>
            <a:endParaRPr b="0" lang="en-US" sz="2400" spc="1" strike="noStrike">
              <a:ln w="3240">
                <a:solidFill>
                  <a:srgbClr val="c3a177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80880" y="6248520"/>
            <a:ext cx="18288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c3a177"/>
                  </a:solidFill>
                  <a:miter/>
                </a:ln>
                <a:noFill/>
                <a:latin typeface="Arial Black"/>
              </a:rPr>
              <a:t>Crystal 2005 - 180</a:t>
            </a:r>
            <a:endParaRPr b="0" lang="en-US" sz="2400" spc="1" strike="noStrike">
              <a:ln w="3240">
                <a:solidFill>
                  <a:srgbClr val="c3a177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79640" y="62064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195640" y="1413000"/>
            <a:ext cx="47242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3a177"/>
                  </a:solidFill>
                  <a:miter/>
                </a:ln>
                <a:gradFill rotWithShape="0">
                  <a:gsLst>
                    <a:gs pos="0">
                      <a:srgbClr val="54412a"/>
                    </a:gs>
                    <a:gs pos="50000">
                      <a:srgbClr val="b88e5c"/>
                    </a:gs>
                    <a:gs pos="100000">
                      <a:srgbClr val="54412a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60482a"/>
                  </a:outerShdw>
                </a:effectLst>
                <a:latin typeface="Arial Black"/>
              </a:rPr>
              <a:t>SER FELIZ</a:t>
            </a:r>
            <a:endParaRPr b="0" lang="en-US" sz="2400" spc="1" strike="noStrike">
              <a:ln w="9360">
                <a:solidFill>
                  <a:srgbClr val="c3a177"/>
                </a:solidFill>
                <a:miter/>
              </a:ln>
              <a:gradFill rotWithShape="0">
                <a:gsLst>
                  <a:gs pos="0">
                    <a:srgbClr val="54412a"/>
                  </a:gs>
                  <a:gs pos="50000">
                    <a:srgbClr val="b88e5c"/>
                  </a:gs>
                  <a:gs pos="100000">
                    <a:srgbClr val="54412a"/>
                  </a:gs>
                </a:gsLst>
                <a:lin ang="5400000"/>
              </a:gradFill>
              <a:effectLst>
                <a:outerShdw dist="153753" dir="2700000" blurRad="0" rotWithShape="0">
                  <a:srgbClr val="60482a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62064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114800"/>
            <a:ext cx="914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É ter segurança para receber uma crític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mesmo que injus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952880"/>
            <a:ext cx="91440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É beijar os filhos, curtir os pai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É ter momentos poéticos com os amigo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mesmo que eles nos mago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500"/>
                            </p:stCondLst>
                            <p:childTnLst>
                              <p:par>
                                <p:cTn id="302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0"/>
                            </p:stCondLst>
                            <p:childTnLst>
                              <p:par>
                                <p:cTn id="307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6500"/>
                            </p:stCondLst>
                            <p:childTnLst>
                              <p:par>
                                <p:cTn id="312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80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267080"/>
            <a:ext cx="9144000" cy="12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Ser feliz é deixar viv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a criança livre, alegre e simp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que mora dentro de cada um de nó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5638680"/>
            <a:ext cx="9144000" cy="74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É ter maturidade para fala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Eu errei”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000"/>
                            </p:stCondLst>
                            <p:childTnLst>
                              <p:par>
                                <p:cTn id="342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500"/>
                            </p:stCondLst>
                            <p:childTnLst>
                              <p:par>
                                <p:cTn id="34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6000"/>
                            </p:stCondLst>
                            <p:childTnLst>
                              <p:par>
                                <p:cTn id="351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7500"/>
                            </p:stCondLst>
                            <p:childTnLst>
                              <p:par>
                                <p:cTn id="356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9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79640" y="62064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191120"/>
            <a:ext cx="914400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É ter ousadia para diz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Me perdoe!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5105520"/>
            <a:ext cx="9144000" cy="12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É ter sensibilidade para expressa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Eu preciso de você”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É ter capacidade de dizer “Eu te amo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3000"/>
                            </p:stCondLst>
                            <p:childTnLst>
                              <p:par>
                                <p:cTn id="37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500"/>
                            </p:stCondLst>
                            <p:childTnLst>
                              <p:par>
                                <p:cTn id="382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500"/>
                            </p:stCondLst>
                            <p:childTnLst>
                              <p:par>
                                <p:cTn id="392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80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8000" y="620640"/>
            <a:ext cx="5181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191120"/>
            <a:ext cx="914400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E, quando você errar o caminh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recomece tudo de no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300640"/>
            <a:ext cx="914400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Pois assim você será cada ve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mais apaixonado pela v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000"/>
                            </p:stCondLst>
                            <p:childTnLst>
                              <p:par>
                                <p:cTn id="41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500"/>
                            </p:stCondLst>
                            <p:childTnLst>
                              <p:par>
                                <p:cTn id="418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0" dur="3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6600"/>
                            </p:stCondLst>
                            <p:childTnLst>
                              <p:par>
                                <p:cTn id="422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4" dur="3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91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79640" y="62064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191120"/>
            <a:ext cx="914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E descobrirá que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Ser feliz não é ter uma vida perfei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5257800"/>
            <a:ext cx="914400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Mas usar as lágrimas para irrigar a tolerânc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Usar as perdas para refinar a paciênc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500"/>
                            </p:stCondLst>
                            <p:childTnLst>
                              <p:par>
                                <p:cTn id="438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47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9" dur="3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7500"/>
                            </p:stCondLst>
                            <p:childTnLst>
                              <p:par>
                                <p:cTn id="451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3" dur="3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12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79640" y="62064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4191120"/>
            <a:ext cx="9144000" cy="80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Usar as falh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para esculpir a serenidad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5105520"/>
            <a:ext cx="9144000" cy="132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Usar a dor para lapidar o praz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Usar os obstáculos para abri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as janelas da inteligê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500"/>
                            </p:stCondLst>
                            <p:childTnLst>
                              <p:par>
                                <p:cTn id="467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3000"/>
                            </p:stCondLst>
                            <p:childTnLst>
                              <p:par>
                                <p:cTn id="47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8" dur="3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7200"/>
                            </p:stCondLst>
                            <p:childTnLst>
                              <p:par>
                                <p:cTn id="480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82" dur="3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4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86" dur="3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25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8000" y="620640"/>
            <a:ext cx="5254920" cy="341784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270920" y="260280"/>
            <a:ext cx="1873080" cy="733320"/>
          </a:xfrm>
          <a:prstGeom prst="rect">
            <a:avLst/>
          </a:prstGeom>
          <a:noFill/>
          <a:ln w="12600">
            <a:solidFill>
              <a:srgbClr val="b88e5c"/>
            </a:solidFill>
            <a:miter/>
          </a:ln>
          <a:effectLst>
            <a:outerShdw dist="17819" dir="2700000" blurRad="0" rotWithShape="0">
              <a:srgbClr val="411b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243c3b"/>
                </a:solidFill>
                <a:uFillTx/>
                <a:latin typeface="Trebuchet MS"/>
              </a:rPr>
              <a:t>CLIQUE AQU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243c3b"/>
                </a:solidFill>
                <a:uFillTx/>
                <a:latin typeface="Trebuchet MS"/>
              </a:rPr>
              <a:t>Para receber sli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243c3b"/>
                </a:solidFill>
                <a:uFillTx/>
                <a:latin typeface="Trebuchet MS"/>
              </a:rPr>
              <a:t>Gotas de Cry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4360" y="1268280"/>
            <a:ext cx="1979640" cy="733320"/>
          </a:xfrm>
          <a:prstGeom prst="rect">
            <a:avLst/>
          </a:prstGeom>
          <a:noFill/>
          <a:ln w="12600">
            <a:solidFill>
              <a:srgbClr val="b88e5c"/>
            </a:solidFill>
            <a:miter/>
          </a:ln>
          <a:effectLst>
            <a:outerShdw dist="17819" dir="2700000" blurRad="0" rotWithShape="0">
              <a:srgbClr val="411b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243c3b"/>
                </a:solidFill>
                <a:uFillTx/>
                <a:latin typeface="Trebuchet MS"/>
              </a:rPr>
              <a:t>CLIQUE AQU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243c3b"/>
                </a:solidFill>
                <a:uFillTx/>
                <a:latin typeface="Trebuchet MS"/>
              </a:rPr>
              <a:t>Para adquirir o C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243c3b"/>
                </a:solidFill>
                <a:uFillTx/>
                <a:latin typeface="Trebuchet MS"/>
              </a:rPr>
              <a:t>GOTAS DE CRY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380360" y="2781360"/>
            <a:ext cx="1295280" cy="685800"/>
          </a:xfrm>
          <a:prstGeom prst="rect">
            <a:avLst/>
          </a:prstGeom>
          <a:noFill/>
          <a:ln w="12600">
            <a:solidFill>
              <a:srgbClr val="b88e5c"/>
            </a:solidFill>
            <a:miter/>
          </a:ln>
          <a:effectLst>
            <a:outerShdw dist="17819" dir="2700000" blurRad="0" rotWithShape="0">
              <a:srgbClr val="411b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 Unicode MS"/>
              </a:rPr>
              <a:t>Reinici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80360" y="3933720"/>
            <a:ext cx="1295280" cy="685800"/>
          </a:xfrm>
          <a:prstGeom prst="rect">
            <a:avLst/>
          </a:prstGeom>
          <a:noFill/>
          <a:ln w="12600">
            <a:solidFill>
              <a:srgbClr val="b88e5c"/>
            </a:solidFill>
            <a:miter/>
          </a:ln>
          <a:effectLst>
            <a:outerShdw dist="17819" dir="2700000" blurRad="0" rotWithShape="0">
              <a:srgbClr val="411b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88e5c"/>
                </a:solidFill>
                <a:latin typeface="Arial Unicode MS"/>
              </a:rPr>
              <a:t>S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5157720"/>
            <a:ext cx="7921440" cy="1224000"/>
          </a:xfrm>
          <a:custGeom>
            <a:avLst/>
            <a:gdLst>
              <a:gd name="textAreaLeft" fmla="*/ 79200 w 7921440"/>
              <a:gd name="textAreaRight" fmla="*/ 7842240 w 792144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139755" h="21600">
                <a:moveTo>
                  <a:pt x="0" y="0"/>
                </a:moveTo>
                <a:lnTo>
                  <a:pt x="139755" y="0"/>
                </a:lnTo>
                <a:lnTo>
                  <a:pt x="139755" y="21600"/>
                </a:lnTo>
                <a:lnTo>
                  <a:pt x="0" y="21600"/>
                </a:lnTo>
                <a:close/>
              </a:path>
              <a:path fill="lightenLess" w="139755" h="21600">
                <a:moveTo>
                  <a:pt x="0" y="0"/>
                </a:moveTo>
                <a:lnTo>
                  <a:pt x="139755" y="0"/>
                </a:lnTo>
                <a:lnTo>
                  <a:pt x="138355" y="1400"/>
                </a:lnTo>
                <a:lnTo>
                  <a:pt x="1400" y="1400"/>
                </a:lnTo>
                <a:close/>
              </a:path>
              <a:path fill="darken" w="139755" h="21600">
                <a:moveTo>
                  <a:pt x="139755" y="0"/>
                </a:moveTo>
                <a:lnTo>
                  <a:pt x="139755" y="21600"/>
                </a:lnTo>
                <a:lnTo>
                  <a:pt x="138355" y="20200"/>
                </a:lnTo>
                <a:lnTo>
                  <a:pt x="138355" y="1400"/>
                </a:lnTo>
                <a:close/>
              </a:path>
              <a:path fill="darkenLess" w="139755" h="21600">
                <a:moveTo>
                  <a:pt x="1397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355" y="20200"/>
                </a:lnTo>
                <a:close/>
              </a:path>
              <a:path fill="lighten" w="1397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ebb00"/>
                </a:solidFill>
                <a:uFillTx/>
                <a:latin typeface="Century Gothic"/>
              </a:rPr>
              <a:t>http://br.groups.yahoo.com/group/EVANGELISMO_ON-LINE/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00000" y="501336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Para acessar outras mensagens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rebuchet MS"/>
              </a:rPr>
              <a:t>CLIQUE NO LINK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08000" y="620640"/>
            <a:ext cx="5181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24000" y="765000"/>
            <a:ext cx="4897440" cy="116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JAMAIS DESISTA DE SI MES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JAMAIS DESISTA DAS PESSOAS QUE VOCÊ A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133720"/>
            <a:ext cx="9144000" cy="12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3a177"/>
                </a:solidFill>
                <a:latin typeface="Arial"/>
                <a:ea typeface="Arial"/>
              </a:rPr>
              <a:t>JAMAIS DESISTA DE SER FELIZ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3a177"/>
                </a:solidFill>
                <a:latin typeface="Arial"/>
                <a:ea typeface="Arial"/>
              </a:rPr>
              <a:t>POIS A VIDA É UM ESPETÁCULO IMPERDÍV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3a177"/>
                </a:solidFill>
                <a:latin typeface="Arial"/>
                <a:ea typeface="Arial"/>
              </a:rPr>
              <a:t>E VOCÊ É UM SER HUMANO ESPEC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5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000"/>
                            </p:stCondLst>
                            <p:childTnLst>
                              <p:par>
                                <p:cTn id="51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3500"/>
                            </p:stCondLst>
                            <p:childTnLst>
                              <p:par>
                                <p:cTn id="520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22" dur="75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6225"/>
                            </p:stCondLst>
                            <p:childTnLst>
                              <p:par>
                                <p:cTn id="524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26" dur="75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9775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75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2575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75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605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75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79640" y="62064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267080"/>
            <a:ext cx="9144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Ser feliz não é 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724280"/>
            <a:ext cx="9144000" cy="178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um céu sem tempestad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caminhos sem acident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trabalhos sem fadiga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relacionamentos sem decepçõ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500"/>
                            </p:stCondLst>
                            <p:childTnLst>
                              <p:par>
                                <p:cTn id="52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79640" y="54936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267080"/>
            <a:ext cx="9144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Ser feliz 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724280"/>
            <a:ext cx="9144000" cy="178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encontrar força no perdã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esperança nas batalha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segurança no palco do med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amor nos desencont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500"/>
                            </p:stCondLst>
                            <p:childTnLst>
                              <p:par>
                                <p:cTn id="78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500"/>
                            </p:stCondLst>
                            <p:childTnLst>
                              <p:par>
                                <p:cTn id="88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79640" y="62064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343400"/>
            <a:ext cx="914400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Ser feliz não é ape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comemorar o sucess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410080"/>
            <a:ext cx="9144000" cy="80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mas aprender liçõ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nos fracass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6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79640" y="54936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343400"/>
            <a:ext cx="9144000" cy="92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Ser feliz não é ape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ter júbilo nos aplaus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5410080"/>
            <a:ext cx="914400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mas encontrar aleg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no anonima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500"/>
                            </p:stCondLst>
                            <p:childTnLst>
                              <p:par>
                                <p:cTn id="145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79640" y="62064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365720"/>
            <a:ext cx="914400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Ser feliz é reconhec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que vale a pena viver a vid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334120"/>
            <a:ext cx="914400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apesar de todos os desafio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incompreensões e períodos de cri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76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79640" y="62064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191120"/>
            <a:ext cx="914400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Ser feliz não 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uma fatalidade do destin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181480"/>
            <a:ext cx="914400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mas uma conquista de quem sabe viaj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para dentro do seu próprio 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500"/>
                            </p:stCondLst>
                            <p:childTnLst>
                              <p:par>
                                <p:cTn id="207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62064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149720"/>
            <a:ext cx="914400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Ser feliz é deixar de ser vítima dos proble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e se tornar um autor da própria histór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181480"/>
            <a:ext cx="9144000" cy="132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É atravessar desertos fora de 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e ser capaz de encontrar um oásis no recôndito da sua alm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É agradecer a Deus a cada manhã pelo milagre da v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500"/>
                            </p:stCondLst>
                            <p:childTnLst>
                              <p:par>
                                <p:cTn id="238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0" dur="3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300"/>
                            </p:stCondLst>
                            <p:childTnLst>
                              <p:par>
                                <p:cTn id="242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4" dur="3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6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8" dur="3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61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79640" y="62064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191120"/>
            <a:ext cx="9144000" cy="88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Ser feliz, é não ter me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dos próprios sentiment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181480"/>
            <a:ext cx="9144000" cy="88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É saber falar de si mesm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É ter coragem para ouvir um “não”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500"/>
                            </p:stCondLst>
                            <p:childTnLst>
                              <p:par>
                                <p:cTn id="271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0"/>
                            </p:stCondLst>
                            <p:childTnLst>
                              <p:par>
                                <p:cTn id="276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5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1T16:49:21Z</dcterms:created>
  <dc:creator>MY CAse</dc:creator>
  <dc:description/>
  <dc:language>en-US</dc:language>
  <cp:lastModifiedBy>MY CAse</cp:lastModifiedBy>
  <dcterms:modified xsi:type="dcterms:W3CDTF">2007-01-01T16:50:09Z</dcterms:modified>
  <cp:revision>1</cp:revision>
  <dc:subject/>
  <dc:title>Slide 1</dc:title>
</cp:coreProperties>
</file>