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a%20vie%20en%20rose.wav" ContentType="audio/x-wav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DC8-85C0-454F-9372-E11989BA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F7D-D1FD-4C34-93B3-3B75E002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1F3-49FF-43A6-BBBD-F85944E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3C4-008F-44A7-AE8B-A24E47A2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1C3-79D7-4606-8AF9-31B89B01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C02-0FC6-44AE-B7C1-C157B6CD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21C-B48C-4E73-8137-C0F2FB39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C76-4B08-4C4A-86FB-AE8F228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5B2-0BB9-419D-AE45-668C062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FDF-05ED-4B0B-A696-FD9A5F7E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ECE-81B0-413A-B233-D35A872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E7A-1568-43F5-851C-F815531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C20-5747-4D9F-8F4D-0D47ABFA5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a%20vie%20en%20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525780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Texto extraído do livro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"Dez Leis Para Ser Feliz"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de Augusto Cury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62485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Crystal 2005 - 180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5640" y="1413000"/>
            <a:ext cx="47242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3a177"/>
                  </a:solidFill>
                  <a:miter/>
                </a:ln>
                <a:gradFill rotWithShape="0">
                  <a:gsLst>
                    <a:gs pos="0">
                      <a:srgbClr val="54412a"/>
                    </a:gs>
                    <a:gs pos="50000">
                      <a:srgbClr val="b88e5c"/>
                    </a:gs>
                    <a:gs pos="100000">
                      <a:srgbClr val="54412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0482a"/>
                  </a:outerShdw>
                </a:effectLst>
                <a:latin typeface="Arial Black"/>
              </a:rPr>
              <a:t>SER FELIZ</a:t>
            </a:r>
            <a:endParaRPr b="0" lang="en-US" sz="2400" spc="1" strike="noStrike">
              <a:ln w="9360">
                <a:solidFill>
                  <a:srgbClr val="c3a177"/>
                </a:solidFill>
                <a:miter/>
              </a:ln>
              <a:gradFill rotWithShape="0">
                <a:gsLst>
                  <a:gs pos="0">
                    <a:srgbClr val="54412a"/>
                  </a:gs>
                  <a:gs pos="50000">
                    <a:srgbClr val="b88e5c"/>
                  </a:gs>
                  <a:gs pos="100000">
                    <a:srgbClr val="54412a"/>
                  </a:gs>
                </a:gsLst>
                <a:lin ang="5400000"/>
              </a:gradFill>
              <a:effectLst>
                <a:outerShdw dist="153753" dir="2700000" blurRad="0" rotWithShape="0">
                  <a:srgbClr val="60482a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gurança para receber uma crític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inju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528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beijar os filhos, curtir os pa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omentos poéticos com os amig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eles nos mago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v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 criança livre, alegre e si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mora dentro de cada um de nó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638680"/>
            <a:ext cx="9144000" cy="7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aturidade para fal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errei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ousadia para diz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 perdoe!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0552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nsibilidade para express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preciso de você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apacidade de dizer “Eu te am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, quando você errar o caminh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comece tudo de no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0064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ois assim você será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is apaixonado pe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0" dur="3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600"/>
                            </p:stCondLst>
                            <p:childTnLst>
                              <p:par>
                                <p:cTn id="4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3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1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descobrirá qu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uma vida perfe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2578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sar as lágrimas para irrigar a tolerâ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perdas para refinar a paciê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3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19112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fal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esculpir a sere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10552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 dor para lapidar o praz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os obstáculos para abr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s janelas da intelig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3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200"/>
                            </p:stCondLst>
                            <p:childTnLst>
                              <p:par>
                                <p:cTn id="48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2" dur="3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6" dur="3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620640"/>
            <a:ext cx="5254920" cy="341784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70920" y="260280"/>
            <a:ext cx="187308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receber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1268280"/>
            <a:ext cx="197964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adquirir o 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380360" y="278136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 Unicode MS"/>
              </a:rPr>
              <a:t>Reini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393372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8e5c"/>
                </a:solidFill>
                <a:latin typeface="Arial Unicode MS"/>
              </a:rPr>
              <a:t>S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7921440" cy="1224000"/>
          </a:xfrm>
          <a:custGeom>
            <a:avLst/>
            <a:gdLst>
              <a:gd name="textAreaLeft" fmla="*/ 79200 w 7921440"/>
              <a:gd name="textAreaRight" fmla="*/ 7842240 w 7921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139755" h="21600">
                <a:moveTo>
                  <a:pt x="0" y="0"/>
                </a:moveTo>
                <a:lnTo>
                  <a:pt x="139755" y="0"/>
                </a:lnTo>
                <a:lnTo>
                  <a:pt x="139755" y="21600"/>
                </a:lnTo>
                <a:lnTo>
                  <a:pt x="0" y="21600"/>
                </a:lnTo>
                <a:close/>
              </a:path>
              <a:path fill="lightenLess" w="139755" h="21600">
                <a:moveTo>
                  <a:pt x="0" y="0"/>
                </a:moveTo>
                <a:lnTo>
                  <a:pt x="139755" y="0"/>
                </a:lnTo>
                <a:lnTo>
                  <a:pt x="138355" y="1400"/>
                </a:lnTo>
                <a:lnTo>
                  <a:pt x="1400" y="1400"/>
                </a:lnTo>
                <a:close/>
              </a:path>
              <a:path fill="darken" w="139755" h="21600">
                <a:moveTo>
                  <a:pt x="139755" y="0"/>
                </a:moveTo>
                <a:lnTo>
                  <a:pt x="139755" y="21600"/>
                </a:lnTo>
                <a:lnTo>
                  <a:pt x="138355" y="20200"/>
                </a:lnTo>
                <a:lnTo>
                  <a:pt x="138355" y="1400"/>
                </a:lnTo>
                <a:close/>
              </a:path>
              <a:path fill="darkenLess" w="139755" h="21600">
                <a:moveTo>
                  <a:pt x="139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355" y="20200"/>
                </a:lnTo>
                <a:close/>
              </a:path>
              <a:path fill="lighten" w="139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ebb00"/>
                </a:solidFill>
                <a:uFillTx/>
                <a:latin typeface="Century Gothic"/>
              </a:rPr>
              <a:t>http://br.groups.yahoo.com/group/EVANGELISMO_ON-LINE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01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ra acessar outras mensagens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CLIQUE NO LINK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765000"/>
            <a:ext cx="489744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I ME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AS PESSOAS QUE VOCÊ 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33720"/>
            <a:ext cx="914400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ER FELIZ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POIS A VIDA É UM ESPETÁCULO IMPERDÍ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E VOCÊ É UM SER HUMANO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75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225"/>
                            </p:stCondLst>
                            <p:childTnLst>
                              <p:par>
                                <p:cTn id="52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6" dur="75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775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575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75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5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75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 céu sem tempest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aminhos sem aciden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rabalhos sem fadig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lacionamentos sem decep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ncontrar força no perdã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sperança nas batalh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gurança no palco do me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mor nos desenco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3434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omemorar o suces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1008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aprender li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s fracas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343400"/>
            <a:ext cx="9144000" cy="92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er júbilo nos aplau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4100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encontrar aleg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 anonim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365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reconhe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vale a pena viver a vi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pesar de todos os desafi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incompreensões e períodos de c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a fatalidade do desti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ma conquista de quem sabe via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dentro do seu próprio 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de ser vítima do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 tornar um autor da própria histó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8148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travessar desertos fora d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r capaz de encontrar um oásis no recôndito da sua al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gradecer a Deus a cada manhã pelo milagre d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0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3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3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1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, é não ter me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dos próprios sentimen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8148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saber falar de si me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oragem para ouvir um “nã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6:49:21Z</dcterms:created>
  <dc:creator>MY CAse</dc:creator>
  <dc:description/>
  <dc:language>en-US</dc:language>
  <cp:lastModifiedBy>MY CAse</cp:lastModifiedBy>
  <dcterms:modified xsi:type="dcterms:W3CDTF">2007-01-01T16:50:09Z</dcterms:modified>
  <cp:revision>1</cp:revision>
  <dc:subject/>
  <dc:title>Slide 1</dc:title>
</cp:coreProperties>
</file>