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3.png" ContentType="image/png"/>
  <Override PartName="/ppt/media/image8.png" ContentType="image/png"/>
  <Override PartName="/ppt/media/Zamphir%20-%20Gypsy%20melodies.wav" ContentType="audio/x-wav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1EB-B34B-4703-898B-48926770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929-938C-45EA-8917-80FC3BFE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028-6081-490F-B409-EF488A3C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BCA-7EB6-496D-8912-17DBBC99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EFA-89FE-4C54-B465-538EDB99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518-FA87-4DFB-8EC1-1B187B55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B64-1482-4732-84F1-5A148531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5E4-A842-485E-A788-6B970CB0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F6C-C568-4108-BC92-972C749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B33-7D80-4CFB-90C0-58F093A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7FD-51B2-4070-9564-0C3E23A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E0F-82B7-4107-BB9E-B1223821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1D2D-A29D-42D4-936C-30F82DC61C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audio" Target="../media/Zamphir%20-%20Gypsy%20melodies.wav"/><Relationship Id="rId3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hyperlink" Target="http://www.leticiathompson.net/" TargetMode="External"/><Relationship Id="rId33" Type="http://schemas.openxmlformats.org/officeDocument/2006/relationships/hyperlink" Target="mailto:bethnorling@globo.com" TargetMode="External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5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6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7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8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9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0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1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411280" y="2781360"/>
            <a:ext cx="450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SE O AMOR</a:t>
            </a:r>
            <a:endParaRPr b="0" i="1" lang="en-US" sz="1800" spc="1" strike="noStrike">
              <a:ln w="0">
                <a:noFill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PUDESSE GRITAR</a:t>
            </a:r>
            <a:endParaRPr b="0" i="1" lang="en-US" sz="1800" spc="1" strike="noStrike">
              <a:ln w="0">
                <a:noFill/>
              </a:ln>
              <a:blipFill rotWithShape="0">
                <a:blip r:embed="rId3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87640" y="5157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3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3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6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7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00000" y="270828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o amor pudesse sempre gritar, se ele pudesse segurar nosso rosto para a direção do sol e das flores, seríamos mais felizes, menos sérios, menos graves, mais leves, mais próximos do cé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58920" y="1916280"/>
            <a:ext cx="66452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3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Zamphir -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ypsy mel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33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256536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sei dizer se é a falta de tempo, ou não querer perdê-lo, que nos leva a buscar coisas prontas ou pelo menos que nos dêem o menor trabalho possível. É como se quiséssemos cortar caminho para chegar ao mesmo ponto que o coração v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2205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 nosso relacionamento com outras pessoas temos também uma certa tendência a, ao invés de construir relações, querer encontrar coisas feitas, situações prontas e que nos dêem segurança. Construir significa ter trabalho, empenhar-se, dar de si e, por que não, ceder e perder-se um pouco na busca de 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contro pro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170028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s lamentamos pelo que não foi construído para nós e nos esquecemos do nosso poder de reparar, recuperar e reconstruir. Se temos um sonho, por que esperar que outros ponham as escadas no caminho para que subamos às nuvens? Colocando, nós, cada degrau, saberemos onde estaremos pis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4149720"/>
            <a:ext cx="7489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quilo que exige de nós tempo e esforço merecerá uma alegria muito maior no dia da conquista.</a:t>
            </a:r>
            <a:r>
              <a:rPr b="0" lang="en-US" sz="2000" spc="-1" strike="noStrike">
                <a:solidFill>
                  <a:srgbClr val="ffea8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9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0000" y="227664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ma das histórias reais e mais bonitas que conheço é essa dessa filha que foi abandonada pela mãe quando criança. Ela cresceu com o sonho de ter uma mãe e já na idade adulta procurou pela mesma, colocando de lado todos os porquês de tanto abandono, de tantos anos de dor e solidão. Ela "decidiu" ter a mãe e tem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6920" y="1989000"/>
            <a:ext cx="750888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uida dela como se fosse a flor mais linda e preciosa do mundo, por que ela conhece o que é desejar e não ter e escolheu não viver a vida lamentando-se pelo tempo perdido. Constrói álbuns à partir do tempo que recuperou, vai acumulando lembranças para o dia do amanhã e saudade sincera para o possível dia da partida. Penso que abençoada é essa mãe e preciosa é essa filha. Precioso é esse ser human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26920" y="2492280"/>
            <a:ext cx="743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ssas razões nos colocam limitações. Os erros alheios nos parecem imperdoáveis e punidos somos nós pela rejeição da construção de uma vida diferente e nova, os quais seríamos o arquiteto, pedreiro e feliz propriet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826920" y="2276640"/>
            <a:ext cx="7508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deixamos de falar com uma pessoa porque nosso coração ficou ferido, vamos colocando a felicidade num passo a frente e aquele momento de zanga fica perdido. Se tínhamos dez oportunidades de sermos felizes, teremos apenas nove porque nosso coração foi orgulhoso demais e isso falou mais alt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263700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felicidade não é utopia. Utopia é pensar que permanecendo na nossa dureza e guardando nossas razões estaremos ganhando alguma coisa. Sonhos não são quimeras, são desejos que nosso coração po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9:04:41Z</dcterms:created>
  <dc:creator>Beth Norling</dc:creator>
  <dc:description/>
  <dc:language>en-US</dc:language>
  <cp:lastModifiedBy>Beth Norling</cp:lastModifiedBy>
  <dcterms:modified xsi:type="dcterms:W3CDTF">2008-05-03T21:35:38Z</dcterms:modified>
  <cp:revision>11</cp:revision>
  <dc:subject/>
  <dc:title>Se_o_amor_pudesse_gritar</dc:title>
</cp:coreProperties>
</file>