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png" ContentType="image/png"/>
  <Override PartName="/ppt/media/image13.png" ContentType="image/png"/>
  <Override PartName="/ppt/media/image8.png" ContentType="image/png"/>
  <Override PartName="/ppt/media/Zamphir%20-%20Gypsy%20melodies.wav" ContentType="audio/x-wav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8AA-D956-42A2-8B3E-AF8C5C37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9D7-8BB4-44F5-9EDC-FED002D5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D5E-A185-45CD-812A-F9B2CA11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D3F-F44F-4107-AD92-D7883E1A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2BC-25FF-40D2-9432-80248EFB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CF4-CF52-44AC-B4A0-7F7079D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F5B-7149-4C49-9E92-89D7A37F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885-036E-4D48-99D8-68308D25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27F-4A25-4189-8E8B-50CA23D2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346-DA6F-4ADC-911D-7140732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7A7-AC90-403C-94C2-9B4A118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021-CCD4-4DD3-9E1B-5A1A9F1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D21-4BD4-4449-8063-72587F27B2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12.png"/><Relationship Id="rId37" Type="http://schemas.openxmlformats.org/officeDocument/2006/relationships/image" Target="../media/image13.png"/><Relationship Id="rId38" Type="http://schemas.openxmlformats.org/officeDocument/2006/relationships/audio" Target="../media/Zamphir%20-%20Gypsy%20melodies.wav"/><Relationship Id="rId3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hyperlink" Target="http://www.leticiathompson.net/" TargetMode="External"/><Relationship Id="rId33" Type="http://schemas.openxmlformats.org/officeDocument/2006/relationships/hyperlink" Target="mailto:bethnorling@globo.com" TargetMode="External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5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6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7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8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19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0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1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image" Target="../media/image11.gif"/><Relationship Id="rId26" Type="http://schemas.openxmlformats.org/officeDocument/2006/relationships/image" Target="../media/image11.gif"/><Relationship Id="rId27" Type="http://schemas.openxmlformats.org/officeDocument/2006/relationships/image" Target="../media/image11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411280" y="2781360"/>
            <a:ext cx="450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SE O AMOR</a:t>
            </a:r>
            <a:endParaRPr b="0" i="1" lang="en-US" sz="1800" spc="1" strike="noStrike">
              <a:ln w="0">
                <a:noFill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PUDESSE GRITAR</a:t>
            </a:r>
            <a:endParaRPr b="0" i="1" lang="en-US" sz="1800" spc="1" strike="noStrike">
              <a:ln w="0">
                <a:noFill/>
              </a:ln>
              <a:blipFill rotWithShape="0">
                <a:blip r:embed="rId3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87640" y="5157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3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3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6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7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00000" y="2708280"/>
            <a:ext cx="7364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 o amor pudesse sempre gritar, se ele pudesse segurar nosso rosto para a direção do sol e das flores, seríamos mais felizes, menos sérios, menos graves, mais leves, mais próximos do cé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58920" y="1916280"/>
            <a:ext cx="66452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3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Zamphir -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ypsy mel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33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256536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ão sei dizer se é a falta de tempo, ou não querer perdê-lo, que nos leva a buscar coisas prontas ou pelo menos que nos dêem o menor trabalho possível. É como se quiséssemos cortar caminho para chegar ao mesmo ponto que o coração v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2205000"/>
            <a:ext cx="73645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 nosso relacionamento com outras pessoas temos também uma certa tendência a, ao invés de construir relações, querer encontrar coisas feitas, situações prontas e que nos dêem segurança. Construir significa ter trabalho, empenhar-se, dar de si e, por que não, ceder e perder-se um pouco na busca de 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contro pro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0000" y="170028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s lamentamos pelo que não foi construído para nós e nos esquecemos do nosso poder de reparar, recuperar e reconstruir. Se temos um sonho, por que esperar que outros ponham as escadas no caminho para que subamos às nuvens? Colocando, nós, cada degrau, saberemos onde estaremos pis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4149720"/>
            <a:ext cx="7489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quilo que exige de nós tempo e esforço merecerá uma alegria muito maior no dia da conquista.</a:t>
            </a:r>
            <a:r>
              <a:rPr b="0" lang="en-US" sz="2000" spc="-1" strike="noStrike">
                <a:solidFill>
                  <a:srgbClr val="ffea8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9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0000" y="227664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ma das histórias reais e mais bonitas que conheço é essa dessa filha que foi abandonada pela mãe quando criança. Ela cresceu com o sonho de ter uma mãe e já na idade adulta procurou pela mesma, colocando de lado todos os porquês de tanto abandono, de tantos anos de dor e solidão. Ela "decidiu" ter a mãe e tem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6920" y="1989000"/>
            <a:ext cx="750888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uida dela como se fosse a flor mais linda e preciosa do mundo, por que ela conhece o que é desejar e não ter e escolheu não viver a vida lamentando-se pelo tempo perdido. Constrói álbuns à partir do tempo que recuperou, vai acumulando lembranças para o dia do amanhã e saudade sincera para o possível dia da partida. Penso que abençoada é essa mãe e preciosa é essa filha. Precioso é esse ser human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26920" y="2492280"/>
            <a:ext cx="743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ssas razões nos colocam limitações. Os erros alheios nos parecem imperdoáveis e punidos somos nós pela rejeição da construção de uma vida diferente e nova, os quais seríamos o arquiteto, pedreiro e feliz propriet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826920" y="2276640"/>
            <a:ext cx="7508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deixamos de falar com uma pessoa porque nosso coração ficou ferido, vamos colocando a felicidade num passo a frente e aquele momento de zanga fica perdido. Se tínhamos dez oportunidades de sermos felizes, teremos apenas nove porque nosso coração foi orgulhoso demais e isso falou mais alt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07920"/>
            <a:ext cx="9144000" cy="504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052640"/>
            <a:ext cx="9144000" cy="47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125360"/>
            <a:ext cx="9144000" cy="46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268280"/>
            <a:ext cx="9144000" cy="432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1"/>
          <a:stretch/>
        </p:blipFill>
        <p:spPr>
          <a:xfrm>
            <a:off x="7512120" y="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2"/>
          <a:stretch/>
        </p:blipFill>
        <p:spPr>
          <a:xfrm>
            <a:off x="30240" y="5195880"/>
            <a:ext cx="1631880" cy="1692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3"/>
          <a:stretch/>
        </p:blipFill>
        <p:spPr>
          <a:xfrm>
            <a:off x="7451640" y="5226120"/>
            <a:ext cx="1692360" cy="1631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4"/>
          <a:stretch/>
        </p:blipFill>
        <p:spPr>
          <a:xfrm>
            <a:off x="7877160" y="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5"/>
          <a:stretch/>
        </p:blipFill>
        <p:spPr>
          <a:xfrm>
            <a:off x="0" y="5295960"/>
            <a:ext cx="1266840" cy="1562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6"/>
          <a:stretch/>
        </p:blipFill>
        <p:spPr>
          <a:xfrm>
            <a:off x="0" y="162864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7"/>
          <a:stretch/>
        </p:blipFill>
        <p:spPr>
          <a:xfrm>
            <a:off x="1763640" y="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8"/>
          <a:stretch/>
        </p:blipFill>
        <p:spPr>
          <a:xfrm flipH="1">
            <a:off x="6659280" y="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9"/>
          <a:stretch/>
        </p:blipFill>
        <p:spPr>
          <a:xfrm flipH="1">
            <a:off x="8494560" y="170028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0"/>
          <a:stretch/>
        </p:blipFill>
        <p:spPr>
          <a:xfrm flipH="1" rot="21447600">
            <a:off x="8493840" y="4581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1"/>
          <a:stretch/>
        </p:blipFill>
        <p:spPr>
          <a:xfrm>
            <a:off x="6732720" y="628020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2"/>
          <a:stretch/>
        </p:blipFill>
        <p:spPr>
          <a:xfrm>
            <a:off x="0" y="4581360"/>
            <a:ext cx="611280" cy="578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3"/>
          <a:stretch/>
        </p:blipFill>
        <p:spPr>
          <a:xfrm flipH="1">
            <a:off x="161892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4"/>
          <a:stretch/>
        </p:blipFill>
        <p:spPr>
          <a:xfrm>
            <a:off x="0" y="32130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5"/>
          <a:stretch/>
        </p:blipFill>
        <p:spPr>
          <a:xfrm>
            <a:off x="3276720" y="0"/>
            <a:ext cx="610920" cy="577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6"/>
          <a:stretch/>
        </p:blipFill>
        <p:spPr>
          <a:xfrm flipH="1">
            <a:off x="5003640" y="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7"/>
          <a:stretch/>
        </p:blipFill>
        <p:spPr>
          <a:xfrm flipH="1">
            <a:off x="8494560" y="314172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8"/>
          <a:stretch/>
        </p:blipFill>
        <p:spPr>
          <a:xfrm flipH="1">
            <a:off x="2916000" y="628164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9"/>
          <a:stretch/>
        </p:blipFill>
        <p:spPr>
          <a:xfrm>
            <a:off x="4716360" y="6280200"/>
            <a:ext cx="611280" cy="5778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1562040" cy="126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1"/>
          <a:stretch/>
        </p:blipFill>
        <p:spPr>
          <a:xfrm>
            <a:off x="7581960" y="5591160"/>
            <a:ext cx="1562040" cy="1266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263700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da felicidade não é utopia. Utopia é pensar que permanecendo na nossa dureza e guardando nossas razões estaremos ganhando alguma coisa. Sonhos não são quimeras, são desejos que nosso coração po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9:04:41Z</dcterms:created>
  <dc:creator>Beth Norling</dc:creator>
  <dc:description/>
  <dc:language>en-US</dc:language>
  <cp:lastModifiedBy>Beth Norling</cp:lastModifiedBy>
  <dcterms:modified xsi:type="dcterms:W3CDTF">2008-05-03T21:35:38Z</dcterms:modified>
  <cp:revision>11</cp:revision>
  <dc:subject/>
  <dc:title>Se_o_amor_pudesse_gritar</dc:title>
</cp:coreProperties>
</file>