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20.jpeg" ContentType="image/jpeg"/>
  <Override PartName="/ppt/media/image58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7.png" ContentType="image/png"/>
  <Override PartName="/ppt/media/image36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25.png" ContentType="image/png"/>
  <Override PartName="/ppt/media/NEUSA%20SUAVE%20DIFERENTE-sound001.wav" ContentType="audio/x-wav"/>
  <Override PartName="/ppt/media/image42.jpeg" ContentType="image/jpeg"/>
  <Override PartName="/ppt/media/image28.jpeg" ContentType="image/jpeg"/>
  <Override PartName="/ppt/media/image23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6.jpeg" ContentType="image/jpeg"/>
  <Override PartName="/ppt/media/image32.jpeg" ContentType="image/jpeg"/>
  <Override PartName="/ppt/media/image60.jpeg" ContentType="image/jpeg"/>
  <Override PartName="/ppt/media/image16.jpeg" ContentType="image/jpeg"/>
  <Override PartName="/ppt/media/image14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3.png" ContentType="image/png"/>
  <Override PartName="/ppt/media/image54.jpeg" ContentType="image/jpeg"/>
  <Override PartName="/ppt/media/image2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8.jpeg" ContentType="image/jpeg"/>
  <Override PartName="/ppt/media/image40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8FA-AEDF-4FDC-A6DB-79A35B16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6A2-2C65-4CE2-BCA5-3021FE7F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D32-726E-49FD-B2C5-84215D8E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C27-DEB2-4547-ABBF-902FE108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B7B-1420-4567-AE17-10969208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778-E838-435A-B108-6B4BDC4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B55-0B78-4D44-AFFD-298673B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107-16B8-4C2E-94F4-CD682519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3E4-06CE-4AA1-9B33-357AA0A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C52-F8CA-470B-9ECA-98387A2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3EA-0971-4E20-81FB-2856509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BF4-A098-41AF-BAA9-651EBE5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5C2-78B2-463F-95A9-8A12452FE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NEUSA%20SUAVE%20DIFERENTE-sound001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Índice.png"/>
          <p:cNvPicPr/>
          <p:nvPr/>
        </p:nvPicPr>
        <p:blipFill>
          <a:blip r:embed="rId1"/>
          <a:stretch/>
        </p:blipFill>
        <p:spPr>
          <a:xfrm>
            <a:off x="3186000" y="1708200"/>
            <a:ext cx="2772000" cy="17319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3" descr="dep_1466045-Vintage-frame-with-ros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1951200" y="750960"/>
            <a:ext cx="5211720" cy="342252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5924520" y="3932280"/>
            <a:ext cx="144000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NEUSA SUAVE DIFERENTE-sound001.wav" descr=""/>
          <p:cNvPicPr/>
          <p:nvPr/>
        </p:nvPicPr>
        <p:blipFill>
          <a:blip r:embed="rId5"/>
          <a:stretch/>
        </p:blipFill>
        <p:spPr>
          <a:xfrm>
            <a:off x="-1104840" y="2198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NEUSA%20SUAVE%20DIFERENTE-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5" name="CaixaDeTexto 2" descr=""/>
          <p:cNvPicPr/>
          <p:nvPr/>
        </p:nvPicPr>
        <p:blipFill>
          <a:blip r:embed="rId2"/>
          <a:stretch/>
        </p:blipFill>
        <p:spPr>
          <a:xfrm>
            <a:off x="208080" y="100080"/>
            <a:ext cx="3840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92745_4fc3f08841d0f63ab7ad7d93c767a2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7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4042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43144_96beb245505c047c8877670484ba75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9" name="CaixaDeTexto 2" descr=""/>
          <p:cNvPicPr/>
          <p:nvPr/>
        </p:nvPicPr>
        <p:blipFill>
          <a:blip r:embed="rId2"/>
          <a:stretch/>
        </p:blipFill>
        <p:spPr>
          <a:xfrm>
            <a:off x="281160" y="46080"/>
            <a:ext cx="43941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82704_49201adb1e10e11ad7232778148aacb8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1" name="CaixaDeTexto 2" descr=""/>
          <p:cNvPicPr/>
          <p:nvPr/>
        </p:nvPicPr>
        <p:blipFill>
          <a:blip r:embed="rId2"/>
          <a:stretch/>
        </p:blipFill>
        <p:spPr>
          <a:xfrm>
            <a:off x="4565520" y="-60480"/>
            <a:ext cx="465768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86047_0f33cbe92352f4bc3750e456646481e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CaixaDeTexto 2" descr=""/>
          <p:cNvPicPr/>
          <p:nvPr/>
        </p:nvPicPr>
        <p:blipFill>
          <a:blip r:embed="rId2"/>
          <a:stretch/>
        </p:blipFill>
        <p:spPr>
          <a:xfrm>
            <a:off x="5121360" y="-60480"/>
            <a:ext cx="415584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118992_53dcc8172becf3483c2d5bf5af67488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5" name="CaixaDeTexto 2" descr=""/>
          <p:cNvPicPr/>
          <p:nvPr/>
        </p:nvPicPr>
        <p:blipFill>
          <a:blip r:embed="rId2"/>
          <a:stretch/>
        </p:blipFill>
        <p:spPr>
          <a:xfrm>
            <a:off x="1066680" y="4173480"/>
            <a:ext cx="6870960" cy="97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582978_d125e53b2272bfb51d2699025ac42e3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CaixaDeTexto 2" descr=""/>
          <p:cNvPicPr/>
          <p:nvPr/>
        </p:nvPicPr>
        <p:blipFill>
          <a:blip r:embed="rId2"/>
          <a:stretch/>
        </p:blipFill>
        <p:spPr>
          <a:xfrm>
            <a:off x="1066680" y="-60480"/>
            <a:ext cx="663264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255492_c7360a3194b110e03fa30855de2040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9" name="CaixaDeTexto 2" descr=""/>
          <p:cNvPicPr/>
          <p:nvPr/>
        </p:nvPicPr>
        <p:blipFill>
          <a:blip r:embed="rId2"/>
          <a:stretch/>
        </p:blipFill>
        <p:spPr>
          <a:xfrm>
            <a:off x="1670040" y="3797280"/>
            <a:ext cx="627372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566605_8ed228d58adf194e59b2d196b1362916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1" name="CaixaDeTexto 2" descr=""/>
          <p:cNvPicPr/>
          <p:nvPr/>
        </p:nvPicPr>
        <p:blipFill>
          <a:blip r:embed="rId2"/>
          <a:stretch/>
        </p:blipFill>
        <p:spPr>
          <a:xfrm>
            <a:off x="208080" y="46080"/>
            <a:ext cx="844236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593486_61b62bf7b96087618a1a06e58df903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3" name="CaixaDeTexto 2" descr=""/>
          <p:cNvPicPr/>
          <p:nvPr/>
        </p:nvPicPr>
        <p:blipFill>
          <a:blip r:embed="rId2"/>
          <a:stretch/>
        </p:blipFill>
        <p:spPr>
          <a:xfrm>
            <a:off x="281160" y="4013280"/>
            <a:ext cx="8472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74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Imagem 3" descr="135148_984b7ffda8f9e1edf382608d203efe1e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" name="CaixaDeTexto 4" descr=""/>
          <p:cNvPicPr/>
          <p:nvPr/>
        </p:nvPicPr>
        <p:blipFill>
          <a:blip r:embed="rId2"/>
          <a:stretch/>
        </p:blipFill>
        <p:spPr>
          <a:xfrm>
            <a:off x="4705200" y="150840"/>
            <a:ext cx="40179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548739_9501fddf07493916c13b15846a23724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5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608328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567135_27dd0c0ab4393ead1e9308427e18b1d0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7" name="CaixaDeTexto 2" descr=""/>
          <p:cNvPicPr/>
          <p:nvPr/>
        </p:nvPicPr>
        <p:blipFill>
          <a:blip r:embed="rId2"/>
          <a:stretch/>
        </p:blipFill>
        <p:spPr>
          <a:xfrm>
            <a:off x="92160" y="2832120"/>
            <a:ext cx="3638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48270_e426ec2ee0a646deb12a01ca437d7ef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9" name="CaixaDeTexto 2" descr=""/>
          <p:cNvPicPr/>
          <p:nvPr/>
        </p:nvPicPr>
        <p:blipFill>
          <a:blip r:embed="rId2"/>
          <a:stretch/>
        </p:blipFill>
        <p:spPr>
          <a:xfrm>
            <a:off x="189000" y="150840"/>
            <a:ext cx="40845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IIIIIIIIIII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1" name="CaixaDeTexto 2" descr=""/>
          <p:cNvPicPr/>
          <p:nvPr/>
        </p:nvPicPr>
        <p:blipFill>
          <a:blip r:embed="rId2"/>
          <a:stretch/>
        </p:blipFill>
        <p:spPr>
          <a:xfrm>
            <a:off x="347760" y="3583080"/>
            <a:ext cx="527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556433_58ba9b977d69fcb5f885b4d4459a5f7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3" name="CaixaDeTexto 2" descr=""/>
          <p:cNvPicPr/>
          <p:nvPr/>
        </p:nvPicPr>
        <p:blipFill>
          <a:blip r:embed="rId2"/>
          <a:stretch/>
        </p:blipFill>
        <p:spPr>
          <a:xfrm>
            <a:off x="480960" y="4013280"/>
            <a:ext cx="5529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168313_6521cf1b7e5e1424e0d421cf80d068a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5" name="CaixaDeTexto 2" descr=""/>
          <p:cNvPicPr/>
          <p:nvPr/>
        </p:nvPicPr>
        <p:blipFill>
          <a:blip r:embed="rId2"/>
          <a:stretch/>
        </p:blipFill>
        <p:spPr>
          <a:xfrm>
            <a:off x="3949560" y="100080"/>
            <a:ext cx="485316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547889_90bee7a88ab35c3169dda9294cc36cc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7" name="CaixaDeTexto 2" descr=""/>
          <p:cNvPicPr/>
          <p:nvPr/>
        </p:nvPicPr>
        <p:blipFill>
          <a:blip r:embed="rId2"/>
          <a:stretch/>
        </p:blipFill>
        <p:spPr>
          <a:xfrm>
            <a:off x="182520" y="150840"/>
            <a:ext cx="509580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230629_92ac5e9a5837f10e330c0734acc523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9" name="CaixaDeTexto 2" descr=""/>
          <p:cNvPicPr/>
          <p:nvPr/>
        </p:nvPicPr>
        <p:blipFill>
          <a:blip r:embed="rId2"/>
          <a:stretch/>
        </p:blipFill>
        <p:spPr>
          <a:xfrm>
            <a:off x="3554280" y="165240"/>
            <a:ext cx="55468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547097_07efb2fc51ab61eaab806fbfd1ee8fc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1" name="CaixaDeTexto 2" descr=""/>
          <p:cNvPicPr/>
          <p:nvPr/>
        </p:nvPicPr>
        <p:blipFill>
          <a:blip r:embed="rId2"/>
          <a:stretch/>
        </p:blipFill>
        <p:spPr>
          <a:xfrm>
            <a:off x="3925800" y="-60480"/>
            <a:ext cx="52786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QAAAPE66EuSk0w7QxbpsGF6L-6JYeetg7K8xo8giO-ZX1zJX-i-eFR5xWPwPBYBzkRo1soDAiL59WTMA1IaxTL9_MsAm1T1UNgPKmyYtmLBnj-ujjrnNFBK0uxZ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49341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3214800" y="268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U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4000680" y="44514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nha cachorrinha LUCY e minha gatinha JUJ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523216_88f0f6c5ed4ada20666361de7cc072b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1" name="CaixaDeTexto 2" descr=""/>
          <p:cNvPicPr/>
          <p:nvPr/>
        </p:nvPicPr>
        <p:blipFill>
          <a:blip r:embed="rId2"/>
          <a:stretch/>
        </p:blipFill>
        <p:spPr>
          <a:xfrm>
            <a:off x="4857840" y="150840"/>
            <a:ext cx="4262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1" descr="moldura coelhinhos imprim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2"/>
          <p:cNvSpPr/>
          <p:nvPr/>
        </p:nvSpPr>
        <p:spPr>
          <a:xfrm>
            <a:off x="1643040" y="17161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Formatação ruthjacobsen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1857240" y="311004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Em 11/06/2013- SBC-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1535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3" name="CaixaDeTexto 2" descr=""/>
          <p:cNvPicPr/>
          <p:nvPr/>
        </p:nvPicPr>
        <p:blipFill>
          <a:blip r:embed="rId2"/>
          <a:stretch/>
        </p:blipFill>
        <p:spPr>
          <a:xfrm>
            <a:off x="281160" y="100080"/>
            <a:ext cx="529740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253153_77aec6f79e74b2ed9676221cfe84c3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5" name="CaixaDeTexto 2" descr=""/>
          <p:cNvPicPr/>
          <p:nvPr/>
        </p:nvPicPr>
        <p:blipFill>
          <a:blip r:embed="rId2"/>
          <a:stretch/>
        </p:blipFill>
        <p:spPr>
          <a:xfrm>
            <a:off x="208080" y="-60480"/>
            <a:ext cx="45399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554460_d7bda6b3447ad4be85795623b2f86e52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" name="CaixaDeTexto 2" descr=""/>
          <p:cNvPicPr/>
          <p:nvPr/>
        </p:nvPicPr>
        <p:blipFill>
          <a:blip r:embed="rId2"/>
          <a:stretch/>
        </p:blipFill>
        <p:spPr>
          <a:xfrm>
            <a:off x="152280" y="100080"/>
            <a:ext cx="365760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540346_503008870c77996ba6ecce0bc23b8cd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9" name="CaixaDeTexto 2" descr=""/>
          <p:cNvPicPr/>
          <p:nvPr/>
        </p:nvPicPr>
        <p:blipFill>
          <a:blip r:embed="rId2"/>
          <a:stretch/>
        </p:blipFill>
        <p:spPr>
          <a:xfrm>
            <a:off x="1133640" y="60480"/>
            <a:ext cx="680400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80735_327b02ad409595c55d5ff6c37ef9d0c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" name="CaixaDeTexto 2" descr=""/>
          <p:cNvPicPr/>
          <p:nvPr/>
        </p:nvPicPr>
        <p:blipFill>
          <a:blip r:embed="rId2"/>
          <a:stretch/>
        </p:blipFill>
        <p:spPr>
          <a:xfrm>
            <a:off x="1596960" y="46080"/>
            <a:ext cx="770580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97929_7c5793236429e5ed5c796f59362be71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3" name="CaixaDeTexto 2" descr=""/>
          <p:cNvPicPr/>
          <p:nvPr/>
        </p:nvPicPr>
        <p:blipFill>
          <a:blip r:embed="rId2"/>
          <a:stretch/>
        </p:blipFill>
        <p:spPr>
          <a:xfrm>
            <a:off x="2567160" y="3747960"/>
            <a:ext cx="599112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22:22:28Z</dcterms:created>
  <dc:creator>Ruth</dc:creator>
  <dc:description/>
  <dc:language>en-US</dc:language>
  <cp:lastModifiedBy>Roberto</cp:lastModifiedBy>
  <dcterms:modified xsi:type="dcterms:W3CDTF">2013-06-30T20:02:55Z</dcterms:modified>
  <cp:revision>4</cp:revision>
  <dc:subject/>
  <dc:title>Slide 1</dc:title>
</cp:coreProperties>
</file>