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13.jpeg" ContentType="image/jpeg"/>
  <Override PartName="/ppt/media/Aeoliah%20-%20Rising%20in%20Lov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0D2-3C42-41C1-AA65-50D02B6F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6E1-2221-46A5-B994-F9BAE330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A4BAA-8A4D-4C7A-9BE2-89EBBC0C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EBA0C-816A-4C89-9B0A-B2202FA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5D82C-0A45-4128-B809-B008FA1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FB703-FE18-4BDC-8F21-814927B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C9CCC-A3E1-4D72-A73F-B29FE90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2350E-2D84-48D9-86FF-C3FBF89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32CB0-B32A-4311-8697-3140F382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2AF4-ECD1-4AAD-A75C-3916663D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9C38C-4293-47B3-B3A4-BE4C47FA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EA89E-38A8-4A81-936F-EAD9C0E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617-3DBC-48D4-978A-256E7347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72C4-4AC9-4811-B473-1954F11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B53BC-9384-4005-8E12-8BA5A93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435EA-3A05-4811-81EA-9EC08B2B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CAF54-1AFA-4D3A-8ADC-C5966BC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EC797-9A7D-4477-BD3B-40BBFDD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71D3-1A3C-4365-B5D8-67C8BD5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869D-329D-43AD-A271-25CBFD2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4FC7B-6E74-4FA1-B4A8-96C5006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FBBF3-A600-454E-ACAC-06A0611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39C64-55B5-43D9-88D6-D126DEE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2DD-2E62-42A9-A6EA-82478670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55E59-12C6-4444-A530-57BDE71D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A8EA8-051F-4FE2-A0A5-6D8A0FC3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E4037-93CC-4B78-B80F-D1F78CC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074A-B81C-4303-B505-96DB822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B624-383F-499C-9F9D-2C8EF63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4585B-B159-4A4D-8C91-C4BB828B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3CCC7-03D7-419F-931C-CBC485E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2B8E-1B16-4E53-B2EB-B23BC30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F71D-0FFF-40A3-93DB-6674DF2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BF96F-6B28-4857-B7B8-590188B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CF51-78C7-4D52-A8C2-9B70FD7A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3FF27-FF0A-495B-8EA1-0A8FCA3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9966C-4D3A-43CB-8F4F-9ADB2FCA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41DF-936A-4E39-84EB-03F63EAB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D6CCD-F808-45B7-BA38-EEE7F9C4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39AFB-4412-46EB-811C-B17F279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EAAC-62D0-41D5-A4A7-41D7911B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D798-0215-47E9-A558-394F9A0D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83E2D-C397-4EAC-A263-39E0A45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5E340-4BC2-47AA-88D1-82C6499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7F49D-65E2-4C55-8820-F8B5CE0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C48-0FDB-4F5A-9E98-F2B890E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BF782-395A-465B-8BB5-8B78AA4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8AD5-7E70-41B8-AB8C-561FEFE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93000-0548-4AED-B70A-D6CA2A62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14159-4E35-4730-AD39-97F63828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A2691-4490-42E5-8337-B364FD43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48F-18D7-42B6-8318-CE4A1215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2828-8736-404D-93B9-A6A1549E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E44D-CC99-4368-88CA-DAC1A28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2D8-E01E-4045-8C2C-F3472EC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3C1A-1A3D-4216-A3AC-0EDD355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FA9-BB58-41AB-B8ED-9DF96A81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5D3-BE3A-4192-8DF6-244C440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839D-703E-4FAF-8148-26BDFE1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16CF-9CBB-406A-8090-37D1AA3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F384-657C-421E-938C-A857792E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678B-51F0-4F0A-AE7C-79899E05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86A2-28CB-4A99-B9DA-750DDB90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AA3E-6D9F-4722-977A-2859206B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58AB-EB79-4EA6-8CE5-2AAF3C9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E6C7-D6E8-4655-868E-E91CC2A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C0F3-0FAF-477B-87AF-50300EE9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238-C1D6-450D-8D9B-1BC0CFFF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3DF7-E9C4-4BC6-AF29-E3C410E3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5C2E-6D3F-486F-A3D6-4C010B6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77E0-DD92-4AE0-8078-5C41277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FAEE-AB11-47FE-83AF-CE5F214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D7AF-B5DE-41C3-BC60-BDDCE69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F86C-1ABC-45F6-9E33-E1475587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52BB-BBBB-4002-BA1D-CBE141D7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CC89-CB43-4D53-BBCD-CDDC085A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1972-DB72-493B-B379-400438A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F8C4-0774-447B-A062-02526E53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557-6A1D-449C-BCA1-A9E88A50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2653-14F1-4465-BAEB-781DCA8F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E103-C83D-4C05-83E7-4A6FD37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4233-7F69-4DA7-A002-896CC29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F59B-5197-4B81-B725-5A38D762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BEA4-9197-4265-8BEB-100F534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9C43-4BF8-4E19-ABFA-359B636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645F-2D94-4DDE-AB21-AC00779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CC71-917C-4B82-900C-A69E5EBA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8DB7-6C81-4A8E-B535-96343697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C433-8615-40D7-9493-D2EC141F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03A-3B09-4D79-943F-AD127D45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DB6F-2B97-4B80-9148-38F18EA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2437-660F-4249-976E-CBFCDA3D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6699-F821-4ACD-9146-23A2287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FFA8-767A-423D-B55A-D140DE8D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9FC3-44CB-4402-A6A7-71A572C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4C9F-140A-4F3C-872D-BFF6566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B55E-486E-4889-B4B9-1BC3A9FA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426B8-99C5-456C-94FB-302D08A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83B2-F158-4AFB-87C3-F1B1050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C4F2-D795-4FD1-8423-18B46936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28B-FD51-4E5A-A60E-7AF22AB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BF93-C421-4159-AC0B-E69846B3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7748-1FFE-4025-BBB2-40482837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35A8-2519-42BF-9CB8-E3C922D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A7919-C138-490F-92F7-33858B8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19D0A-9671-4274-B11D-7FD7DAD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27E3-2182-45D5-B2F7-AEFEC14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5FDA-1068-4136-84B2-A004036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B9DF-4BF1-432B-BC28-6AC376E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746DE-9C2A-4757-8388-1F684CB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7972-BB43-4004-B41F-B903F84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BCD-206C-4258-B188-1F01481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E6F3-24E7-4A9D-8DCB-0FB83D9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101B-30F4-4E2F-9854-964D1FC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D193-9B41-4B68-9E3E-06694079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D930E-D6E0-4857-9EB0-E6413589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EB85-AD2C-4740-8B59-1F34DAF0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012B-ED36-4FDF-B857-C3AE6E37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F216-D52C-4F03-82C5-F63DDE14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06E1-9655-40A8-A71F-842D85D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7AB8A-6464-4DE0-BE76-9F9939F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4CD2-FB28-4FDC-9DD5-35FB9D9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6E0-34F2-4D72-B6A1-8E94D3D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90BE-3E85-443E-BC72-E45C9AB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5B1BF-104B-4C04-812A-248BC30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0D71-E088-4AA6-B48F-A9DA795B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4F1F-D9EA-43A2-9462-E006C2E3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F9C44-06B2-4918-9219-1BE7B005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197F-C28E-4AF1-8EAA-294EFCBF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CF20-48B6-4046-9514-B75B81F3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2378-F6DE-4224-92D3-3CE2898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F233C-38B6-44F0-AF70-3E07130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9B2D-86AE-4971-9D59-C50CBFBA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47B-9BC9-49D4-ABD0-59C919A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58D9-608D-4B01-81BB-FDD2E4F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71E0-6B81-45A8-8FE6-7E09516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48AF4-6798-4E11-93FA-DFC6E25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74C3-4F0E-40B0-A887-2A82B9A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7760-7DD5-4EE3-A5BE-87559E7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2E5F-E955-4646-9D1A-4A115C88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45BD0-D6F2-45A3-8A11-E8654A39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DCE2-EFB1-4ACA-BC07-CAEC9060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25515-0A86-48BE-A260-4C6F092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1622F-1EC7-41F3-B3A9-43F316D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064-9B03-45DF-9E5C-FD4387B6938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AE7-4AD7-4AE2-8784-22C2EF99FA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F7C-8455-452B-9BE6-35149FFC596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E739-991F-43F4-8CDF-36B5606ACE2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D7F-BAC9-4062-BAED-A027EC3B6C4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64A-D4D3-4A53-8C8E-3F8A964425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2977-64E5-44D1-A983-F79FAB95924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E30-7AF0-4759-8F75-5CA2B7A38E6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A69-42BB-4C49-8C66-BF8043FB47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574-C644-414F-89D3-504E0BBA78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153-46CC-4565-8206-71BD45203E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5F5-B77C-4B67-BD90-936E0235FD2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eoliah%20-%20Rising%20in%20Love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ítulo 1"/>
          <p:cNvSpPr/>
          <p:nvPr/>
        </p:nvSpPr>
        <p:spPr>
          <a:xfrm>
            <a:off x="0" y="2857680"/>
            <a:ext cx="91440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917337"/>
                </a:solidFill>
                <a:latin typeface="Trebuchet MS"/>
              </a:rPr>
              <a:t>Grandes Mest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917337"/>
                </a:solidFill>
                <a:latin typeface="Trebuchet MS"/>
              </a:rPr>
              <a:t>e a Reencarna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Aeoliah%20-%20Rising%20in%20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Plat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429080" y="1928520"/>
            <a:ext cx="45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"Ó tu, moço ou jovem que te julgas  abandonado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 pelos deuses, saiba que, se te  tornares pior,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irás ter com as piores almas, ou, se melhor,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untar-te-ás às melhores alma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em toda sucessão de vida e morte farás e sofrerás o que um igual pode merecidamente  sofrer 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nas mãos de iguai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É esta a justiça dos céus"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7a612e"/>
                </a:solidFill>
                <a:latin typeface="Trebuchet MS"/>
              </a:rPr>
              <a:t>Platão (Atenas, provavelmente 428/427 a.C. – Atenas, 348/347 a.C.)  filósofo e matemático do período clássico da Grécia Antiga, autor de diversos diálogos filosóficos e fundador da Academia em Atenas, a primeira instituição de educação superior do mundo ocidental. É considerado um dos principais pensadores gregos, pois influenciou profundamente a filosofia ocidental. Suas idéias baseiam-se na diferenciação do mundo entre as coisas sensíveis (mundo das idéias e a inteligência) e as coisas visíveis (seres vivos e a matéria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429080" y="2143080"/>
            <a:ext cx="450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... acreditando como acredito na teoria do renascimento, vivo na esperança de que se não </a:t>
            </a:r>
            <a:br>
              <a:rPr sz="1400"/>
            </a:b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nesta vida atual,  em outra vida eu possa abraçar toda a humanidade em um amplexo amigo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Mohandas Karamchand Gandhi,(Porbandar, 2 de outubro de 1869 — Nova Déli, 30 de janeiro de 1948), mais conhecido popularmente por Mahatma Gandhi (do sânscrito "Mahatma", "A Grande Alma") foi o idealizador e fundador do moderno Estado indiano e o maior defensor do Satyagraha (princípio da não-agressão, forma não-violenta de protesto) como um meio de revoluçã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Trebuchet MS"/>
              </a:rPr>
              <a:t>Leonardo </a:t>
            </a:r>
            <a:br>
              <a:rPr sz="4000"/>
            </a:br>
            <a:r>
              <a:rPr b="1" i="1" lang="it-IT" sz="4000" spc="-1" strike="noStrike">
                <a:solidFill>
                  <a:srgbClr val="ffffff"/>
                </a:solidFill>
                <a:latin typeface="Trebuchet MS"/>
              </a:rPr>
              <a:t>da Vin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429080" y="2071800"/>
            <a:ext cx="4500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Lê-me, leitor, se encontras prazer em ler-m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orque muito raramente eu voltarei a este mundo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Leonardo di Ser Piero da Vinci, ou simplesmente Leonardo da Vinci, (Anchiano, 15 de abril de 1452 – Amboise, 2 de maio de 1519)  foi um polímata italiano, uma das figuras mais importantes do Alto Renascimento, que se destacou como cientista, matemático, engenheiro, inventor, anatomista, pintor, escultor, arquiteto, botânico, poeta e músic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ítulo 1"/>
          <p:cNvSpPr/>
          <p:nvPr/>
        </p:nvSpPr>
        <p:spPr>
          <a:xfrm>
            <a:off x="0" y="264312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a612e"/>
                </a:solidFill>
                <a:latin typeface="Trebuchet MS"/>
              </a:rPr>
              <a:t>Inform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Fragmentos do livro “Só o amor é real” de Brian We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1996 – Editora Sext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Tradução: Only love is real por Roberto Ra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Música: Rising in Love – Aeol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Imagens e pequena bibliografia: Pesquisadas no Goog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Elaboração: Glória Gu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Goet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do homem é como a água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em do Céu e sobe para o Céu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ara depois voltar à Terr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Em eterno ir e vir“. </a:t>
            </a: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ohann Wolfgang von Goethe (Frankfurt am Main, 28 de Agosto de 1749 — Weimar, 22 de Março de 1832). Escritor alemão e pensador que também fez incursões pelo campo da ciência. Como escritor, Goethe foi uma das mais importantes figuras da literatura alemã e do Romantismo europeu. De sua vasta produção fazem parte: romances, peças de teatro, poemas, escritos autobiográficos, reflexões teóricas nas áreas de arte, literatura e ciências natura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Khalil Gib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Fica sabendo, portanto, que hei de volt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do silêncio maior... Não esqueças 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oltarei para ti... Um pouco de temp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um momento de repouso sobre o vento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e uma outra mulher me dará à luz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Gibran Khalil Gibran (Bicharre, 6 de janeiro de 1883 – Nova Iorque, 10 de abril de 1931) , ensaísta, filósofo, prosador, poeta, conferencista e pin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Victor Hu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a sua dor não passav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inalmente, deu à luz outro menino, e grande foi a alegria do pai, que exclamou: 'Um filho!'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Naquele dia, ele foi o único a sentir-se tão feliz, pois a mãe, prostrada e pálida, jazia deitada, o espírito entorpecido..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gemeu, angustiada, pensando menos no novo filho do que no filho ausent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'O meu anjo está morto e eu não estou ao seu lado!'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oi então que, falando através da criança que tinha nos braços, 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la ouviu mais uma vez a voz adorada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'Sou eu que estou aqui - mas não contes a ninguém!'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a criança fitou seu rosto.”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Victor Marie Hugo (Besançon, 26 de fevereiro de 1802 — Paris, 22 de maio de 1885). Poeta, dramaturgo, ensaísta, artista, estadista e ativista pelos direitos humanos francês. É autor de Les Misérables e de Notre-Dame de Paris, entre diversas outras obr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John Mase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357440" y="1857240"/>
            <a:ext cx="4786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"Acredito que, quando uma pessoa morr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volta a este planeta, em nova aparência carn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utra mãe o faz nasc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Com pernas mais fortes e cabeça mais lev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velha alma se põe a caminho novamente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ohn Edward Masefield, (01 de junho de 1878 - 12 de Maio de 1967)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oi um poeta e escritor Inglês. Poeta laureado do Reino Unido de 1930 até sua morte. Ele é lembrado como o autor de novelas,  clássicos infantis e poemas, incluindo "A Misericórdia Everlasting" e “Mar-Fever"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Durante toda a minha vid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referi-me subconscientemente a experiênci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e tive em existências anteriores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ivi na Judéia há oitocentos anos, mas nunca soub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e havia um Cristo entre os meus contemporâneo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s estrelas que eu via no céu quando era pastor na Assíria,  são as mesmas que hoje vejo como nativo da Nova Inglaterra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Henry David Thoreau  (Concord, 12 de julho de 1817 — Concord, 6 de maio de 1862), foi autor estadunidense, poeta, naturalista, ativista antiimpostos, crítico da idéia de desenvolvimento, pesquisador, historiador, filósofo, e transcendentalist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Dante Gabriel Rosset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Sei que já estive aqui ant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onde e quando não sei dizer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conheço a relva que há lá for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cheiro doce e penetrant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s luzes da praia, o som sussurran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Já foste minha algum dia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Há quanto tempo não sei dize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no momento em que viraste o ros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ara seguir o vôo daquele pássaro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foi como se um véu caísse, - eu vira aquilo antes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Dante Gabriel Rossetti (Nasceu em Londres, em 12 de Maio de 1828, e  morreu em Birchington-on-Sea, Inglaterra, em 9 de Abril de 1882). Pintor e poeta inglês do século XIX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William Wordswo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"Nosso nascer não passa de um sono e de um esqueciment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que nasce conosco, o Sol de nossa vid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teve o seu ocaso em outro lugar, e vem de long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não em completo olvido e não inteiramente nu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trazemos conosco nuvens de esplendo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indos de Deus, que é o nosso 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céu está em torno de nós em nossa infância!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William Wordsworth (Cockermouth, 7 de abril de 1770 – Rydal Mount, 23 de abril de 1850) foi o maior poeta romântico inglês que, ao lado de Samuel Taylor Coleridge, ajudou a lançar o romantismo na literatura inglesa com a publicação conjunta, em 1798, das Lyrical Ballads (“Baladas Líricas”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Cíc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7149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utro forte indício de que os home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sabem a maioria das coisas antes do nascimento é qu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ando criança aprendem fatos com enorme rapidez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que demonstra que não os estão aprenden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ela primeira vez, e sim relembrando-os..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Marco Túlio Cícero, estadista, orador e filósofo romano, Marco Túlio Cícero nasceu a (13 de janeiro do ano 106 a.C. em Arpino, Itália, e morreu em 7 de dezembro de 43 a.C. em Formia, Itália). Recebeu aprimorada educação, com os maiores oradores e jurisconsultos de sua époc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22:14:38Z</dcterms:created>
  <dc:creator>USUARIO</dc:creator>
  <dc:description/>
  <dc:language>en-US</dc:language>
  <cp:lastModifiedBy>USUARIO</cp:lastModifiedBy>
  <dcterms:modified xsi:type="dcterms:W3CDTF">2012-08-31T01:06:54Z</dcterms:modified>
  <cp:revision>37</cp:revision>
  <dc:subject/>
  <dc:title>Slide 1</dc:title>
</cp:coreProperties>
</file>