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13.jpeg" ContentType="image/jpeg"/>
  <Override PartName="/ppt/media/Aeoliah%20-%20Rising%20in%20Lov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4C9-E137-4F4D-9C14-54EB1237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3D1-8D62-4E5E-8730-F6D7DC84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0E776-90A8-4E7B-9276-12147268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FFBE3-6EAC-496C-8873-9C1E3050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54DA-F69A-468A-91E2-5BD5165A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1141B-6824-4AD9-AA5E-F4F22B57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A2D3-A03A-4399-B4C7-4009EF9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10A45-CB3B-44F2-B885-2D8E0BA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D1EEC-9FA3-49B8-A003-B0331700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98151-BF6D-405D-A612-CA95D95D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3D7BE-D1E9-40C1-BEA9-996BF17B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0E805-E32B-4468-8934-57F3445C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FD5-905E-47DA-9325-435498DF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6C161-BE37-47DE-9AAD-45AB804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3D221-D23C-4990-B62F-6EE2D7D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D189E-AB9B-42B9-AA2B-2047FF0E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547B3-BA9F-4CDA-ADE6-29AA435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5E6D-93AF-43A2-8FAB-BF8F1EA7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40E66-5C86-4E8D-81A2-E7865E7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37849-DF7B-4571-AC70-1D313B9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14FC8-DF3D-48E5-9AB1-F5D4711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3E002-068E-4E94-A770-0096187F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A9456-9B78-403A-AD60-F8EB90D8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5C4-F830-4DA7-8F97-3A2232B7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953F0-B106-42E0-BA2F-CADD8F77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239DE-0012-4B75-8C54-0E194779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FD7E-494D-47F9-997D-881DB263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5092E-3C2E-4CE5-9530-2FE17AEB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C3342-1274-4488-BC74-88A4D05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10E6-AFD4-4C8C-B713-8FBECF15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36D9F-3F8D-46F2-B884-C95EF5DF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93B1-530D-41DA-AB0D-FE2DFF7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A0CC-B53F-4099-B698-0CD02EB2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5007B-CFB5-473C-9079-1B3E2B4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0BC-5532-4B79-84B7-9750357C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D7D0D-88A4-415F-8146-19CF686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9080E-8F3B-4A46-8F16-D61F1AB0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0025D-9527-43C6-8025-56ABECC3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F94C2-A361-42AA-8C56-43174598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054B7-66A2-4D5B-A38B-62E10079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F45CF-83EF-455A-B012-AAE9A48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6FEDD-D54F-48C9-965B-AFCDE14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A7F71-183D-403E-BC56-F09FA8C1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DFEC7-184E-4601-9C61-EB8203F8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DB75-AAF1-42C8-8E8E-EB48243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C1CD-BCC7-4548-9418-127EDFA8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EFDFC-0B9C-4385-B4B2-E45C66B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D4649-BF5A-47E8-B927-E736C0F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D1017-8CA7-44FF-B1A6-240E3DF7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BFF47-8B0E-4D08-A892-DD858BD1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96E47-458A-4138-80F1-983C7895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B3D8-D77A-477E-B9CA-673675D2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AE99-100E-4E6D-9021-6E69860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BD2D-DCD0-48E9-861B-C5D33E0E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57E7-1D1A-4C6F-A98C-D7C19D99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B180-3481-4E64-AFD8-63D7A204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03C-5E1C-4315-936D-079057E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358E-9F9F-4038-81D7-57FA93A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3ABC-715E-427B-9137-82D48DE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F622-A848-4444-97B3-34E29F7C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9435-7AD9-4E38-B62C-93E7DBED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C12A-C590-42D4-92F8-027D6E86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8B8E-B79E-4DDD-9920-C585A2D4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39AE-9B52-4754-8F45-5F9E8FB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B098-7AB0-4C49-80AD-94AED24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98E3-94B1-48D6-8DC9-3A68E94A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4013-F405-47F4-8AAC-F1121D5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47E-DDF0-4122-B3CD-4B9DA763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7CA0-4F92-4FF6-9DE1-198FBCDC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54D4-BDC6-477D-BD4B-AC140E7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C8FB-E355-4588-A2F4-C1FFFF2F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03AD-773D-4D1C-A0B3-977EB49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76A0-FC45-4DFF-949B-831F2DDE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7207-D579-4899-9DEB-5E98C0D8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18DD-1DE7-4F9C-8AF8-251020D9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81CB-DF71-4770-A004-893C4129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A6088-EF78-402C-905E-9D51FEA7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71BD-EBDB-43D4-902D-3DB250A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DEF-1D30-48A2-A85B-5887E764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A47F-4E49-4385-9344-63BA48B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0C60-D2F7-4EAA-9358-6C32E9D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B591-78E5-437B-BA8C-77844850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ABBE-E49A-462D-B143-FF1DA7F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27A8-97F3-4AD1-8FA8-0D52E2A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2B16-9383-4BF8-BDFB-268D759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D6A6-849F-4A71-ABBB-1E11FCB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8CE4-F28B-4241-83F7-78A7C538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526C-75A7-4E07-BF08-84362E8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45BF-F47C-455F-BA8E-503A1574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674-7047-4BF5-8E21-27482D18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9DFF-78AD-4002-822D-6391A22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C423-F501-405B-B651-2202DE2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1FC34-7301-42B5-B780-763BBEB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643A-988C-4CB2-A8C0-6D56C3A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B8D4-EFAE-4610-B2CB-F8CAD68F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6B02-D03D-40FB-BD22-884806A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F292-1495-4D24-9B68-423B6331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688F-6B8D-4884-A87B-BFF76AD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9951-8D31-49BF-8640-3CACAD1F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D0202-ADAB-4A24-B8C9-89102B1E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ACF-97A2-4353-BCD8-A342BF1B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A02C2-2608-4D0D-B33E-1B23220F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095B-1EAE-41C4-83DF-51447857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C1013-0863-455D-AA30-D9A6818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5523-F877-4E83-93AC-D3C55DA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3D666-5A55-4DAB-A48A-3C857421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6ECD-15E6-491C-B4A5-FED6196C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E2E8-ABC0-4F71-A94D-0ED89F16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DB446-ED16-4735-B796-D44ADE2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9FA17-2C07-4D0E-8E81-8AA0A24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AA59-FF0C-4AAD-BD91-117E903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25C-F9D7-42FE-87FB-890858F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6691-D3BA-4235-B0F9-51FB981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B0885-4EB6-4A53-8E3E-2A765B55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A67D9-80B2-4F36-BB0B-2F00D3E3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898B-4FBB-4FC5-84EA-EFFEC9E9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F1FE-DB1B-48BB-BDE8-9CC58C1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6EF8-25F2-4701-88E4-F1055A7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F05B8-59A3-4E56-9DA4-14EF9BA2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2CF0-8782-4178-B6A6-3781315D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AA5B2-619F-49C7-BA81-DDA1CE6D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DECA2-5DC4-4F68-B303-71F33F0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EEE-AE55-46BB-9B03-F5CE288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1F45-D249-4C03-8066-220DAF7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F4C2E-E548-4889-9FC9-9F3F3B0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B9918-D2F9-4676-8FA5-05868090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C5803-4ADB-432E-A0CC-91CF3B3D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BE049-F0E9-48BB-8C52-5C202EC2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1848-3593-4D40-8C05-07243DC8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3022-FB0C-4374-B2C1-29F7679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72DB9-9F55-4A23-93F6-9C473829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48C8-6735-4AE8-B7FE-68A04A6D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8963A-AD1E-4A11-9C6B-51A2F2F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A41-4227-48D8-9E2A-CB5FA54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098C-D057-4491-A307-F277106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9E93-AEC8-41CA-BF09-C33DB01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2710-B0EC-4DCB-AFE8-3016E3C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5BD1-3419-459C-B1C6-7A9D8FD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F804-E69F-4F25-AE43-7E01F1DB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CD33E-B625-4E44-B627-438B282E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D41F-CCD9-4970-BE72-D659FAF3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0107F-FAB3-468D-A7F5-1330062F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1C694-DD7F-4466-B242-E7515F9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FE758-40E4-41E2-9B66-96ECDDA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BB60-CD32-4E96-9E5F-26B116C6D9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39FD-A8CA-41E6-8145-CF97EB4E02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EB58-63CB-467B-A013-B55C0829E95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B42-B81A-45C7-AC98-ECD6D0E7D1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F8F-7E8E-4C4D-80EE-A10185E11A6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58B5-5599-4FC1-9EF0-2F72DA55299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EB47-6333-4EF8-8750-F64DE5719D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A97E-D6BD-482D-A225-D3DE057B1B1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37A-A9F5-4232-9DC1-DCCB4F3CBC5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4DAA-B066-4E9B-9366-D5ECBC1D203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7AC0-C99C-4F4A-8CC8-E5626021108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0B6F-CF03-4AC8-83E5-858620A1299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eoliah%20-%20Rising%20in%20Love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ítulo 1"/>
          <p:cNvSpPr/>
          <p:nvPr/>
        </p:nvSpPr>
        <p:spPr>
          <a:xfrm>
            <a:off x="0" y="2857680"/>
            <a:ext cx="91440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917337"/>
                </a:solidFill>
                <a:latin typeface="Trebuchet MS"/>
              </a:rPr>
              <a:t>Grandes Mest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917337"/>
                </a:solidFill>
                <a:latin typeface="Trebuchet MS"/>
              </a:rPr>
              <a:t>e a Reencarnaçã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Aeoliah%20-%20Rising%20in%20Lo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Plat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429080" y="1928520"/>
            <a:ext cx="45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"Ó tu, moço ou jovem que te julgas  abandonado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 pelos deuses, saiba que, se te  tornares pior,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irás ter com as piores almas, ou, se melhor,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juntar-te-ás às melhores alma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em toda sucessão de vida e morte farás e sofrerás o que um igual pode merecidamente  sofrer 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nas mãos de iguai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É esta a justiça dos céus"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7a612e"/>
                </a:solidFill>
                <a:latin typeface="Trebuchet MS"/>
              </a:rPr>
              <a:t>Platão (Atenas, provavelmente 428/427 a.C. – Atenas, 348/347 a.C.)  filósofo e matemático do período clássico da Grécia Antiga, autor de diversos diálogos filosóficos e fundador da Academia em Atenas, a primeira instituição de educação superior do mundo ocidental. É considerado um dos principais pensadores gregos, pois influenciou profundamente a filosofia ocidental. Suas idéias baseiam-se na diferenciação do mundo entre as coisas sensíveis (mundo das idéias e a inteligência) e as coisas visíveis (seres vivos e a matéria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Gandh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429080" y="2143080"/>
            <a:ext cx="450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... acreditando como acredito na teoria do renascimento, vivo na esperança de que se não </a:t>
            </a:r>
            <a:br>
              <a:rPr sz="1400"/>
            </a:b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nesta vida atual,  em outra vida eu possa abraçar toda a humanidade em um amplexo amigo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Mohandas Karamchand Gandhi,(Porbandar, 2 de outubro de 1869 — Nova Déli, 30 de janeiro de 1948), mais conhecido popularmente por Mahatma Gandhi (do sânscrito "Mahatma", "A Grande Alma") foi o idealizador e fundador do moderno Estado indiano e o maior defensor do Satyagraha (princípio da não-agressão, forma não-violenta de protesto) como um meio de revoluçã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Trebuchet MS"/>
              </a:rPr>
              <a:t>Leonardo </a:t>
            </a:r>
            <a:br>
              <a:rPr sz="4000"/>
            </a:br>
            <a:r>
              <a:rPr b="1" i="1" lang="it-IT" sz="4000" spc="-1" strike="noStrike">
                <a:solidFill>
                  <a:srgbClr val="ffffff"/>
                </a:solidFill>
                <a:latin typeface="Trebuchet MS"/>
              </a:rPr>
              <a:t>da Vin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429080" y="2071800"/>
            <a:ext cx="4500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Lê-me, leitor, se encontras prazer em ler-m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orque muito raramente eu voltarei a este mundo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Leonardo di Ser Piero da Vinci, ou simplesmente Leonardo da Vinci, (Anchiano, 15 de abril de 1452 – Amboise, 2 de maio de 1519)  foi um polímata italiano, uma das figuras mais importantes do Alto Renascimento, que se destacou como cientista, matemático, engenheiro, inventor, anatomista, pintor, escultor, arquiteto, botânico, poeta e músic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ítulo 1"/>
          <p:cNvSpPr/>
          <p:nvPr/>
        </p:nvSpPr>
        <p:spPr>
          <a:xfrm>
            <a:off x="0" y="264312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7a612e"/>
                </a:solidFill>
                <a:latin typeface="Trebuchet MS"/>
              </a:rPr>
              <a:t>Inform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Fragmentos do livro “Só o amor é real” de Brian We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1996 – Editora Sext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Tradução: Only love is real por Roberto Ra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Música: Rising in Love – Aeoli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Imagens e pequena bibliografia: Pesquisadas no Goog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7a612e"/>
                </a:solidFill>
                <a:latin typeface="Trebuchet MS"/>
              </a:rPr>
              <a:t>Elaboração: Glória Gu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Goet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alma do homem é como a água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em do Céu e sobe para o Céu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ara depois voltar à Terr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Em eterno ir e vir“. </a:t>
            </a: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Johann Wolfgang von Goethe (Frankfurt am Main, 28 de Agosto de 1749 — Weimar, 22 de Março de 1832). Escritor alemão e pensador que também fez incursões pelo campo da ciência. Como escritor, Goethe foi uma das mais importantes figuras da literatura alemã e do Romantismo europeu. De sua vasta produção fazem parte: romances, peças de teatro, poemas, escritos autobiográficos, reflexões teóricas nas áreas de arte, literatura e ciências natura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Khalil Gib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Fica sabendo, portanto, que hei de volta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do silêncio maior... Não esqueças 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oltarei para ti... Um pouco de temp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um momento de repouso sobre o vento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e uma outra mulher me dará à luz.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Gibran Khalil Gibran (Bicharre, 6 de janeiro de 1883 – Nova Iorque, 10 de abril de 1931) , ensaísta, filósofo, prosador, poeta, conferencista e pin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Victor Hu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a sua dor não passav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Finalmente, deu à luz outro menino, e grande foi a alegria do pai, que exclamou: 'Um filho!'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Naquele dia, ele foi o único a sentir-se tão feliz, pois a mãe, prostrada e pálida, jazia deitada, o espírito entorpecido..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gemeu, angustiada, pensando menos no novo filho do que no filho ausent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'O meu anjo está morto e eu não estou ao seu lado!'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Foi então que, falando através da criança que tinha nos braços, 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la ouviu mais uma vez a voz adorada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'Sou eu que estou aqui - mas não contes a ninguém!'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E a criança fitou seu rosto.”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Victor Marie Hugo (Besançon, 26 de fevereiro de 1802 — Paris, 22 de maio de 1885). Poeta, dramaturgo, ensaísta, artista, estadista e ativista pelos direitos humanos francês. É autor de Les Misérables e de Notre-Dame de Paris, entre diversas outras obra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John Mase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357440" y="1857240"/>
            <a:ext cx="4786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"Acredito que, quando uma pessoa morr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alma volta a este planeta, em nova aparência carna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utra mãe o faz nasc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Com pernas mais fortes e cabeça mais lev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velha alma se põe a caminho novamente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John Edward Masefield, (01 de junho de 1878 - 12 de Maio de 1967)</a:t>
            </a:r>
            <a:br>
              <a:rPr sz="1100"/>
            </a:b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foi um poeta e escritor Inglês. Poeta laureado do Reino Unido de 1930 até sua morte. Ele é lembrado como o autor de novelas,  clássicos infantis e poemas, incluindo "A Misericórdia Everlasting" e “Mar-Fever"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rebuchet MS"/>
              </a:rPr>
              <a:t>Henry David Thorea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Durante toda a minha vid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referi-me subconscientemente a experiência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que tive em existências anteriores..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ivi na Judéia há oitocentos anos, mas nunca soub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que havia um Cristo entre os meus contemporâneo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s estrelas que eu via no céu quando era pastor na Assíria,  são as mesmas que hoje vejo como nativo da Nova Inglaterra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Henry David Thoreau  (Concord, 12 de julho de 1817 — Concord, 6 de maio de 1862), foi autor estadunidense, poeta, naturalista, ativista antiimpostos, crítico da idéia de desenvolvimento, pesquisador, historiador, filósofo, e transcendentalist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rebuchet MS"/>
              </a:rPr>
              <a:t>Dante Gabriel Rosset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Sei que já estive aqui ante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mas onde e quando não sei dizer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conheço a relva que há lá for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 cheiro doce e penetrant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s luzes da praia, o som sussurrant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Já foste minha algum dia 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Há quanto tempo não sei dize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Mas no momento em que viraste o ros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ara seguir o vôo daquele pássaro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foi como se um véu caísse, - eu vira aquilo antes"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Dante Gabriel Rossetti (Nasceu em Londres, em 12 de Maio de 1828, e  morreu em Birchington-on-Sea, Inglaterra, em 9 de Abril de 1882). Pintor e poeta inglês do século XIX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rebuchet MS"/>
              </a:rPr>
              <a:t>William Wordswo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4593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"Nosso nascer não passa de um sono e de um esquecimento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A Alma que nasce conosco, o Sol de nossa vida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teve o seu ocaso em outro lugar, e vem de long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não em completo olvido e não inteiramente nu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Mas trazemos conosco nuvens de esplendor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vindos de Deus, que é o nosso la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 céu está em torno de nós em nossa infância!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William Wordsworth (Cockermouth, 7 de abril de 1770 – Rydal Mount, 23 de abril de 1850) foi o maior poeta romântico inglês que, ao lado de Samuel Taylor Coleridge, ajudou a lançar o romantismo na literatura inglesa com a publicação conjunta, em 1798, das Lyrical Ballads (“Baladas Líricas”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9080" y="642600"/>
            <a:ext cx="4500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rebuchet MS"/>
              </a:rPr>
              <a:t>Cíc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428720" y="2071800"/>
            <a:ext cx="47149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“</a:t>
            </a: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utro forte indício de que os home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sabem a maioria das coisas antes do nascimento é qu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quando criança aprendem fatos com enorme rapidez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o que demonstra que não os estão aprenden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7a612e"/>
                </a:solidFill>
                <a:latin typeface="Trebuchet MS"/>
              </a:rPr>
              <a:t>pela primeira vez, e sim relembrando-os...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100" spc="-1" strike="noStrike">
                <a:solidFill>
                  <a:srgbClr val="7a612e"/>
                </a:solidFill>
                <a:latin typeface="Trebuchet MS"/>
              </a:rPr>
              <a:t>Marco Túlio Cícero, estadista, orador e filósofo romano, Marco Túlio Cícero nasceu a (13 de janeiro do ano 106 a.C. em Arpino, Itália, e morreu em 7 de dezembro de 43 a.C. em Formia, Itália). Recebeu aprimorada educação, com os maiores oradores e jurisconsultos de sua époc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Imagem 4" descr="victor_hugo.jpg"/>
          <p:cNvPicPr/>
          <p:nvPr/>
        </p:nvPicPr>
        <p:blipFill>
          <a:blip r:embed="rId1"/>
          <a:stretch/>
        </p:blipFill>
        <p:spPr>
          <a:xfrm>
            <a:off x="320760" y="673200"/>
            <a:ext cx="3838320" cy="551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3T22:14:38Z</dcterms:created>
  <dc:creator>USUARIO</dc:creator>
  <dc:description/>
  <dc:language>en-US</dc:language>
  <cp:lastModifiedBy>USUARIO</cp:lastModifiedBy>
  <dcterms:modified xsi:type="dcterms:W3CDTF">2012-08-31T01:06:54Z</dcterms:modified>
  <cp:revision>37</cp:revision>
  <dc:subject/>
  <dc:title>Slide 1</dc:title>
</cp:coreProperties>
</file>