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ysa_mataraso_ne_me_quitte_pas.%201.24%20cut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85D-BF2D-4114-B0CE-39C243B8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9F3-DD6A-467A-B579-3A099F82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AB1-A59C-47C2-A6ED-08CAB5DF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71E-42CA-4169-8FA1-B4D79A5D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8E4-AFE6-459E-AD0A-FC63AE17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8D9-CE90-485E-8990-15920911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97A-1DEE-46FD-AE16-D321B4B9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EC1-7E42-49F6-AB2F-B17C8151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285-3064-46E1-A391-05F6B9AA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60C-83FF-46AD-BC24-D297E16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624-3BE2-4ABC-8BF4-09D2403C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84D-31CD-4F40-9B00-8E3F788A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3CAB-2915-4BE2-9AFB-DB453A8BF0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ysa_mataraso_ne_me_quitte_pas.%201.24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457200"/>
            <a:ext cx="83059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b775"/>
                </a:solidFill>
                <a:latin typeface="Copperplate Gothic Light"/>
              </a:rPr>
              <a:t>O Homem Que Eu Quero..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Quero um homem imortal, com desejos e manhas dos mortais, quero que conheças meu avesso e direito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E cuides de mim como botão de rosa desabrochando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Ao penetrar-me não me peças licença, antes disso enfeitiça-me com tua delicadeza!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Peço-te, esquece, não perguntes nada e nunca,    sobre minha alma, ela, só a mim pertence..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Quero que vivas em meu coração, verás nele, claramente minha sensualidade à flor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  da pele fazendo charme, levando-te à paixão.         Sexo não se dá, divide-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e3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vert"/>
    <p:sndAc>
      <p:stSnd>
        <p:snd r:embed="rId2" name="maysa_mataraso_ne_me_quitte_pas.%201.24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99072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Não me desejo sentir bebida, muito menos esvaziada..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Quero sentir-me provada, gota a gota, jamais deixarei  vazio, o espaço que te pertence!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No amor não há de haver só cumplicidade, mas arrebatamentos, sem medo de pecados.  Sentir somente paz de criança dormindo... 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E nada mais! Quero-te sim, mas como homem imortal! Prende-me em teus braços, quero sentir o calor do teu corpo e os pelos das tuas  pernas roçando-se às minh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2e3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685800"/>
            <a:ext cx="76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Toque-me inteira, experimenta-me transcende barreiras, tanto faz se normais ou anormais!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Porém, como objeto não me terás, em dia ou hora alguma, se não me amares desesperadamente no momento sagrado do sexo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Sinto o contraste perfeito nas formas biológicas, geométricas, feitas sob medida, para encaixar nossos corpos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Levas-me à loucura porque te amo, nunca te vi ou senti como simples objeto. Se me amas, por que o desejo de tornar-me sábia e poderosa? Se faço do nosso amor delícia prazerosa e te possuo com a candura de ros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202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762120"/>
            <a:ext cx="716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Meus caminhos, há muito, os conheces. Da minha intimidade provas-te o sabor, meus segredos para ti são cristalinos, podes roubar até minha liberdade, desde que me cubras de carinho, aí sim, serei, das cativas, a mais feliz! Afinal quem és? Disseste que querias ser aquele homem mortal, aquele que erra, aprende e se arrepende, por quê? És meu amor e amigo, teu porto é meu lar, teu peito meu abrigo! Sendo imortal és só princípio, jamais serás fin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283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6858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Imortal, tu me arrebatas... Amas-me acima de tudo e de todos...</a:t>
            </a:r>
            <a:br>
              <a:rPr sz="2400"/>
            </a:br>
            <a:r>
              <a:rPr b="1" lang="pt-BR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Sinto em ti o amante ideal... Se somos da mesma natureza, imortais por excelência... Prenda-se à minha alma, faço-te agora conhecê-la! Não tentes algemá-la, somente ela me liberta e leva-me a longínquas paragens... Contigo a meu lado, facilitaremos seu vôo, voará em busca da liberdade, com a qual sempre sonh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6b775"/>
                </a:solidFill>
                <a:latin typeface="Copperplate Gothic Light"/>
              </a:rPr>
              <a:t>Iracema Zan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2c3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5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391f"/>
            </a:gs>
            <a:gs pos="50000">
              <a:srgbClr val="c2d5af"/>
            </a:gs>
            <a:gs pos="100000">
              <a:srgbClr val="2c3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5120" y="304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2d5af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2d5af"/>
                </a:solidFill>
                <a:latin typeface="Times New Roman"/>
              </a:rPr>
              <a:t>Maysa Mataraso – Ne me quitt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17524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5af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5a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97180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2d5af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03f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495680"/>
            <a:ext cx="70102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2d5af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700"/>
                            </p:stCondLst>
                            <p:childTnLst>
                              <p:par>
                                <p:cTn id="5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725"/>
                            </p:stCondLst>
                            <p:childTnLst>
                              <p:par>
                                <p:cTn id="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9:27:27Z</dcterms:created>
  <dc:creator>ssoliver@terra.com.br </dc:creator>
  <dc:description>Sem link</dc:description>
  <dc:language>en-US</dc:language>
  <cp:lastModifiedBy>Leticia Thompson</cp:lastModifiedBy>
  <dcterms:modified xsi:type="dcterms:W3CDTF">2004-11-03T17:49:32Z</dcterms:modified>
  <cp:revision>9</cp:revision>
  <dc:subject>SSO</dc:subject>
  <dc:title>O homem que eu quero</dc:title>
</cp:coreProperties>
</file>