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aysa_mataraso_ne_me_quitte_pas.%201.24%20cut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757-3DD6-4B3A-A0CB-BFDA07BE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7819-7CEC-40D8-908A-D770A2A9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E6C-1E7B-4153-81E0-C9B7FC56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1A2B-A3F4-40C3-8453-28B1FC9C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4260-B45A-44A2-84D8-3F2F4EC5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774-29E6-4322-8537-242E5AE6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FFB-3D7E-4F38-994D-CFCD98C2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B0C-410A-48E7-8FA8-94BB1976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B7C-965D-4D21-9364-822B9D43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B72-AF5B-4721-A8A2-050524A7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D9D-B43E-42BC-8478-412DC6A8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4D0-4C6E-4D93-BDBA-F3BB95AD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DC66-574D-44A7-832F-94C498EF86E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aysa_mataraso_ne_me_quitte_pas.%201.24%20cu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b7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457200"/>
            <a:ext cx="83059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b775"/>
                </a:solidFill>
                <a:latin typeface="Copperplate Gothic Light"/>
              </a:rPr>
              <a:t>O Homem Que Eu Quero...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</a:rPr>
              <a:t>Quero um homem imortal, com desejos e manhas dos mortais, quero que conheças meu avesso e direito.</a:t>
            </a:r>
            <a:br>
              <a:rPr sz="24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</a:rPr>
              <a:t>E cuides de mim como botão de rosa desabrochando.</a:t>
            </a:r>
            <a:br>
              <a:rPr sz="24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</a:rPr>
              <a:t>Ao penetrar-me não me peças licença, antes disso enfeitiça-me com tua delicadeza!</a:t>
            </a:r>
            <a:br>
              <a:rPr sz="24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</a:rPr>
              <a:t>Peço-te, esquece, não perguntes nada e nunca,    sobre minha alma, ela, só a mim pertence...</a:t>
            </a:r>
            <a:br>
              <a:rPr sz="24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</a:rPr>
              <a:t>Quero que vivas em meu coração, verás nele, claramente minha sensualidade à flor</a:t>
            </a:r>
            <a:br>
              <a:rPr sz="24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</a:rPr>
              <a:t>  da pele fazendo charme, levando-te à paixão.         Sexo não se dá, divide-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2e3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7000">
    <p:randomBar dir="vert"/>
    <p:sndAc>
      <p:stSnd>
        <p:snd r:embed="rId2" name="maysa_mataraso_ne_me_quitte_pas.%201.24%20cu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b7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990720"/>
            <a:ext cx="754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  <a:ea typeface="Arial"/>
              </a:rPr>
              <a:t>Não me desejo sentir bebida, muito menos esvaziada...</a:t>
            </a:r>
            <a:br>
              <a:rPr sz="24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  <a:ea typeface="Arial"/>
              </a:rPr>
              <a:t>Quero sentir-me provada, gota a gota, jamais deixarei  vazio, o espaço que te pertence!</a:t>
            </a:r>
            <a:br>
              <a:rPr sz="24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  <a:ea typeface="Arial"/>
              </a:rPr>
              <a:t>No amor não há de haver só cumplicidade, mas arrebatamentos, sem medo de pecados.  Sentir somente paz de criança dormindo... </a:t>
            </a:r>
            <a:br>
              <a:rPr sz="24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  <a:ea typeface="Arial"/>
              </a:rPr>
              <a:t>E nada mais! Quero-te sim, mas como homem imortal! Prende-me em teus braços, quero sentir o calor do teu corpo e os pelos das tuas  pernas roçando-se às minh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2e3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b7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685800"/>
            <a:ext cx="769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  <a:ea typeface="Arial"/>
              </a:rPr>
              <a:t>Toque-me inteira, experimenta-me transcende barreiras, tanto faz se normais ou anormais!</a:t>
            </a:r>
            <a:br>
              <a:rPr sz="24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  <a:ea typeface="Arial"/>
              </a:rPr>
              <a:t>Porém, como objeto não me terás, em dia ou hora alguma, se não me amares desesperadamente no momento sagrado do sexo.</a:t>
            </a:r>
            <a:br>
              <a:rPr sz="24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  <a:ea typeface="Arial"/>
              </a:rPr>
              <a:t>Sinto o contraste perfeito nas formas biológicas, geométricas, feitas sob medida, para encaixar nossos corpos.</a:t>
            </a:r>
            <a:br>
              <a:rPr sz="2400"/>
            </a:b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  <a:ea typeface="Arial"/>
              </a:rPr>
              <a:t>Levas-me à loucura porque te amo, nunca te vi ou senti como simples objeto. Se me amas, por que o desejo de tornar-me sábia e poderosa? Se faço do nosso amor delícia prazerosa e te possuo com a candura de ros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202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b7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66680" y="762120"/>
            <a:ext cx="7162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b775"/>
                </a:solidFill>
                <a:latin typeface="Copperplate Gothic Light"/>
                <a:ea typeface="Arial"/>
              </a:rPr>
              <a:t>Meus caminhos, há muito, os conheces. Da minha intimidade provas-te o sabor, meus segredos para ti são cristalinos, podes roubar até minha liberdade, desde que me cubras de carinho, aí sim, serei, das cativas, a mais feliz! Afinal quem és? Disseste que querias ser aquele homem mortal, aquele que erra, aprende e se arrepende, por quê? És meu amor e amigo, teu porto é meu lar, teu peito meu abrigo! Sendo imortal és só princípio, jamais serás fina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2835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b7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68580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6b775"/>
                </a:solidFill>
                <a:latin typeface="Copperplate Gothic Light"/>
                <a:ea typeface="Arial"/>
              </a:rPr>
              <a:t>Imortal, tu me arrebatas... Amas-me acima de tudo e de todos...</a:t>
            </a:r>
            <a:br>
              <a:rPr sz="2400"/>
            </a:br>
            <a:r>
              <a:rPr b="1" lang="pt-BR" sz="2400" spc="-1" strike="noStrike">
                <a:solidFill>
                  <a:srgbClr val="96b775"/>
                </a:solidFill>
                <a:latin typeface="Copperplate Gothic Light"/>
                <a:ea typeface="Arial"/>
              </a:rPr>
              <a:t>Sinto em ti o amante ideal... Se somos da mesma natureza, imortais por excelência... Prenda-se à minha alma, faço-te agora conhecê-la! Não tentes algemá-la, somente ela me liberta e leva-me a longínquas paragens... Contigo a meu lado, facilitaremos seu vôo, voará em busca da liberdade, com a qual sempre sonh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56386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6b775"/>
                </a:solidFill>
                <a:latin typeface="Copperplate Gothic Light"/>
              </a:rPr>
              <a:t>Iracema Zan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2c3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250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391f"/>
            </a:gs>
            <a:gs pos="50000">
              <a:srgbClr val="c2d5af"/>
            </a:gs>
            <a:gs pos="100000">
              <a:srgbClr val="2c391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05120" y="30492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2d5af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2d5af"/>
                </a:solidFill>
                <a:latin typeface="Times New Roman"/>
              </a:rPr>
              <a:t>Maysa Mataraso – Ne me quitte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175248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5af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5af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2971800"/>
            <a:ext cx="701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2d5af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303f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495680"/>
            <a:ext cx="701028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2d5af"/>
                </a:solidFill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700"/>
                            </p:stCondLst>
                            <p:childTnLst>
                              <p:par>
                                <p:cTn id="5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725"/>
                            </p:stCondLst>
                            <p:childTnLst>
                              <p:par>
                                <p:cTn id="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3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6T09:27:27Z</dcterms:created>
  <dc:creator>ssoliver@terra.com.br </dc:creator>
  <dc:description>Sem link</dc:description>
  <dc:language>en-US</dc:language>
  <cp:lastModifiedBy>Leticia Thompson</cp:lastModifiedBy>
  <dcterms:modified xsi:type="dcterms:W3CDTF">2004-11-03T17:49:32Z</dcterms:modified>
  <cp:revision>9</cp:revision>
  <dc:subject>SSO</dc:subject>
  <dc:title>O homem que eu quero</dc:title>
</cp:coreProperties>
</file>