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mensagdedeu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3B48-09C6-44CC-BC42-57CF4C52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7A3-DF99-4FB6-8C30-CF959B06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AEA6-234F-4411-8875-B8479C2F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E940-DA61-40CF-A16A-227024E2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92E8-2D69-4F4B-BE4B-A8D0594C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F10-A6D4-4C2F-B14A-26BE62A2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3B2F-E520-46A9-AD80-3D629553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8496-3539-4440-A862-3245B4CB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4743-2F4B-42F7-8FC7-D9E34892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5A1B-CD7C-4A90-A465-AF51E108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6C4-DC17-43AC-9E80-1157D62A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44F6-7F6F-497D-A8ED-3E2479C2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56D9-DA8C-4559-9CC7-F54CC1E2A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ensagdedeu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75112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3429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"/>
              </a:rPr>
              <a:t>DEUS O ABENÇO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3512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149560"/>
            <a:ext cx="82296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lack Chancery"/>
              </a:rPr>
              <a:t>Os 7-ups da Vid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319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328464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Decida ter um bom 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Este é o dia em que o Senhor agiu; alegremo-nos e exultemos neste dia.”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 Sl 118: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4348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#1   </a:t>
            </a:r>
            <a:r>
              <a:rPr b="1" lang="en-US" sz="4000" spc="-1" strike="noStrike">
                <a:solidFill>
                  <a:srgbClr val="ffffff"/>
                </a:solidFill>
                <a:latin typeface="Lucida Handwriting"/>
              </a:rPr>
              <a:t>Acor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319480" y="136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#2   </a:t>
            </a:r>
            <a:r>
              <a:rPr b="1" lang="en-US" sz="4000" spc="-1" strike="noStrike">
                <a:solidFill>
                  <a:srgbClr val="ffffff"/>
                </a:solidFill>
                <a:latin typeface="Lucida Handwriting"/>
              </a:rPr>
              <a:t>Vista-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43120" y="236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278136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A melhor maneira de se vestir é pôr um sorri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Um sorriso é uma maneira barata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de melhorar sua apar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O Senhor, contudo, disse a Samuel: ‘Não considere sua aparência nem sua altura, pois eu o rejeitei. O Senhor não vê como o homem: o homem vê a aparência, mas o Senhor, o coração.”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1 Samuel 16:7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887480" y="1216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14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#3  </a:t>
            </a:r>
            <a:r>
              <a:rPr b="1" lang="en-US" sz="4000" spc="-1" strike="noStrike">
                <a:solidFill>
                  <a:srgbClr val="ffffff"/>
                </a:solidFill>
                <a:latin typeface="Lucida Handwriting"/>
              </a:rPr>
              <a:t> Cale-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5584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852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Fale coisas agradáveis e aprenda a ouv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Deus nos deu dois ouvidos e uma boca. Com isso ele deve ter querido dizer que nós devemos ouvir duas vezes e falar u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Quem guarda a sua boca guarda a sua vida, mas quem fala demais acaba se arruinando.” Pv 13: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23984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48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#4   </a:t>
            </a:r>
            <a:r>
              <a:rPr b="1" lang="en-US" sz="4000" spc="-1" strike="noStrike">
                <a:solidFill>
                  <a:srgbClr val="ffffff"/>
                </a:solidFill>
                <a:latin typeface="Lucida Handwriting"/>
              </a:rPr>
              <a:t>Tome uma posi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95480" y="265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85264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...pelo que você cr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Tome uma posição pelo que você acredita, ou você cairá por qualquer cois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E não nos cansemos de fazer o bem, pois no tempo próprio colheremos, se não desanimarmos. Portanto, enquanto temos oportunidade,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façamos a bem a todos...”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 Gálatas 6:9,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5584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#5   </a:t>
            </a:r>
            <a:r>
              <a:rPr b="1" lang="en-US" sz="4000" spc="-1" strike="noStrike">
                <a:solidFill>
                  <a:srgbClr val="ffffff"/>
                </a:solidFill>
                <a:latin typeface="Lucida Handwriting"/>
              </a:rPr>
              <a:t>Olhe para c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287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6450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Olhe  para o Senh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Tudo posso naquele que me fortalece.”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 Fp 4: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67148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19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#6   </a:t>
            </a:r>
            <a:r>
              <a:rPr b="1" lang="en-US" sz="4000" spc="-1" strike="noStrike">
                <a:solidFill>
                  <a:srgbClr val="ffffff"/>
                </a:solidFill>
                <a:latin typeface="Lucida Handwriting"/>
              </a:rPr>
              <a:t>Alc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6676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342900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Alcance algo mais elev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fie no Senhor de todo o seu coração e não se apóie em seu próprio entendimento; reconheça o Senhor em todos os seus caminhos, e ele endireitará as suas veredas.”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 Pv 3:5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5912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19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Handwriting"/>
              </a:rPr>
              <a:t>#7   </a:t>
            </a:r>
            <a:r>
              <a:rPr b="1" lang="en-US" sz="4000" spc="-1" strike="noStrike">
                <a:solidFill>
                  <a:srgbClr val="ffffff"/>
                </a:solidFill>
                <a:latin typeface="Lucida Handwriting"/>
              </a:rPr>
              <a:t>Ele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7148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342900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Eleve suas ora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Não andem ansiosos por coisa alguma, mas em tudo, pela oração e súplicas, e com ação de graças, apresentem seus pedidos a Deus.”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 Fp 4:6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21:41:18Z</dcterms:created>
  <dc:creator>Tradução: www.imensagens.ws</dc:creator>
  <dc:description/>
  <dc:language>en-US</dc:language>
  <cp:lastModifiedBy>RUTH ASSAD GARCIA</cp:lastModifiedBy>
  <dcterms:modified xsi:type="dcterms:W3CDTF">2007-01-08T22:22:50Z</dcterms:modified>
  <cp:revision>6</cp:revision>
  <dc:subject/>
  <dc:title>Os 7 "ups" da Vida</dc:title>
</cp:coreProperties>
</file>