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Ernesto%20Cortazar%20-%20One%20voice%20concert.wav" ContentType="audio/x-wav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1.jpeg" ContentType="image/jpe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3FD-4E4A-4B68-B6B6-C09D892F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7CF-D10D-4935-AA6D-A04EBE12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24A-62A1-4222-A0F3-CFDC3E6C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CA4-5674-478B-A589-C5336C62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916-64A6-4126-A3E4-3D05760D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D02-E7B6-4C20-9978-F33FFF43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FAD-8CD1-4D6F-9CBA-2B9D66A5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EDF-90D5-430A-99E6-F861B742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B40-7A2B-4849-8103-B6F82E3C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2C2-0C01-4A45-8023-16E8762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369-E336-4DD4-B05C-B903922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459-B269-4B68-A954-27CB261A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05DA-DD55-459A-B3F1-0ACDBD5F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audio" Target="../media/Ernesto%20Cortazar%20-%20One%20voice%20concert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9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0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1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5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1.jpeg"/><Relationship Id="rId18" Type="http://schemas.openxmlformats.org/officeDocument/2006/relationships/image" Target="../media/image2.gif"/><Relationship Id="rId19" Type="http://schemas.openxmlformats.org/officeDocument/2006/relationships/image" Target="../media/image1.jpeg"/><Relationship Id="rId20" Type="http://schemas.openxmlformats.org/officeDocument/2006/relationships/hyperlink" Target="http://www.leticiathompson.net/" TargetMode="External"/><Relationship Id="rId21" Type="http://schemas.openxmlformats.org/officeDocument/2006/relationships/hyperlink" Target="mailto:bethnorling@globo.com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042920" y="1052640"/>
            <a:ext cx="243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 ILUSÃ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5734080"/>
            <a:ext cx="2962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765000"/>
            <a:ext cx="7436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A ilusão é como aquele presente que chega enrolado num papel bem bonito, às vezes tanto que nem queremos abrir por medo, talvez, justamente de saber o que vem d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49360"/>
            <a:ext cx="7796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Não buscamos ser enganados cientemente, mas, inconscientemente desejamos que tudo o que é feio, mau, que faz mal, que decepciona, que fere, fique em algum lugar longe do nosso alc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941720"/>
            <a:ext cx="7851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Fechamos então os olhos à certas coisas e preferimos viver na ilusão de que tudo vai bem. Quantas pessoas não vivem assim a vida inteira de olhos fech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4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3480" y="692280"/>
            <a:ext cx="7724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 mundo não é um campo florido sem espinhos e em muitas ocasiões, particularmente ante o desconhecido, precisamos abrir nós mesmos o caminho para uma vida p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5157720"/>
            <a:ext cx="7940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E o que é uma vida plena? É a vida cheia da maturidade e do conhecimento do bem e do mal e a faculdade de poder fazer uma escol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4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1628640"/>
            <a:ext cx="408780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 desconhecimento do mal não diminui nosso sofrimento, apenas encobre-o e dá-nos a ilusão de que tudo vai bem. É como estar doente e preferir ignorar, o tratamento não vem e menos ainda a cura ou a possibilidade d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3480" y="692280"/>
            <a:ext cx="4340160" cy="46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essoas mentem-se porque não têm coragem o bastante para encarar a realidade, enfrentá-la e passar por cima d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Muitos vivem de falsas felicidades, máscaras que preferem colocar di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dos outros e que somente nos momentos mais profundos de se estar consigo mesmos é que tiram e não podem impedir que as lágrimas cor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Nessas horas são verdadeiras, feridas certamente, mas v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e re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2200" y="4221000"/>
            <a:ext cx="78674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É a maneira de encarar o mundo que diferencia os que chamamos de fracos e fortes. Os primeiros mentem-se e seguem assim e os segundos abrem essa embalagem bonita, decepcionam-se com o que encontram e se dizem que ainda assim construirão alguma cois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4581360"/>
            <a:ext cx="7940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orque viver é experimentar a vida nos seus pormenores, provar do doce e do amargo e ter no coração a certeza de que as verdades, mesmo doloridas, nos tornam mais fortes e nos condicionam a buscar o que há de melhor em nó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206064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úsica: Ernesto Cortazar - One voice conc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1"/>
              </a:rPr>
              <a:t>bethnorling@globo.com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2:15:48Z</dcterms:created>
  <dc:creator>Beth Norling</dc:creator>
  <dc:description/>
  <dc:language>en-US</dc:language>
  <cp:lastModifiedBy>Beth Norling</cp:lastModifiedBy>
  <dcterms:modified xsi:type="dcterms:W3CDTF">2008-03-09T20:59:54Z</dcterms:modified>
  <cp:revision>21</cp:revision>
  <dc:subject/>
  <dc:title>A_ilusao</dc:title>
</cp:coreProperties>
</file>