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Ernesto%20Cortazar%20-%20One%20voice%20concert.wav" ContentType="audio/x-wav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1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BE9-9414-408C-ACF3-DBBD8D9E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EB5-9B70-4ADB-870E-7F3E0FC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947-F926-4F0F-A921-56D705AF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474-4342-43E0-A7D4-064120F2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6F0-0AA0-4566-AD27-A25B0FF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B1E-30E0-4E8D-8D75-67EE8BB6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6D3-2643-4874-AD02-C838DDA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DA6-C51C-4072-831C-427072DC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491-F360-4C42-8EE5-39F103EC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335-3329-4DEC-B59F-D6C7032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222-41C8-4030-AD9E-9A46F4E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504-21E8-4DB5-88F0-740647C8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7B69-A69C-400C-B7DE-69A9C608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audio" Target="../media/Ernesto%20Cortazar%20-%20One%20voice%20concert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5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1.jpeg"/><Relationship Id="rId18" Type="http://schemas.openxmlformats.org/officeDocument/2006/relationships/image" Target="../media/image2.gif"/><Relationship Id="rId19" Type="http://schemas.openxmlformats.org/officeDocument/2006/relationships/image" Target="../media/image1.jpeg"/><Relationship Id="rId20" Type="http://schemas.openxmlformats.org/officeDocument/2006/relationships/hyperlink" Target="http://www.leticiathompson.net/" TargetMode="External"/><Relationship Id="rId21" Type="http://schemas.openxmlformats.org/officeDocument/2006/relationships/hyperlink" Target="mailto:bethnorling@globo.com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920" y="1052640"/>
            <a:ext cx="243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A ILUSÃ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5734080"/>
            <a:ext cx="2962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tícia Thompson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765000"/>
            <a:ext cx="743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A ilusão é como aquele presente que chega enrolado num papel bem bonito, às vezes tanto que nem queremos abrir por medo, talvez, justamente de saber o que vem d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4000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49360"/>
            <a:ext cx="77961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ão buscamos ser enganados cientemente, mas, inconscientemente desejamos que tudo o que é feio, mau, que faz mal, que decepciona, que fere, fique em algum lugar longe do nosso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941720"/>
            <a:ext cx="78516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Fechamos então os olhos à certas coisas e preferimos viver na ilusão de que tudo vai bem. Quantas pessoas não vivem assim a vida inteira de olhos fech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6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4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3480" y="692280"/>
            <a:ext cx="77248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 mundo não é um campo florido sem espinhos e em muitas ocasiões, particularmente ante o desconhecido, precisamos abrir nós mesmos o caminho para uma vida p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5157720"/>
            <a:ext cx="7940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 o que é uma vida plena? É a vida cheia da maturidade e do conhecimento do bem e do mal e a faculdade de poder fazer uma esco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4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1628640"/>
            <a:ext cx="40878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 desconhecimento do mal não diminui nosso sofrimento, apenas encobre-o e dá-nos a ilusão de que tudo vai bem. É como estar doente e preferir ignorar, o tratamento não vem e menos ainda a cura ou a possibilidade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6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3480" y="692280"/>
            <a:ext cx="4340160" cy="46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essoas mentem-se porque não têm coragem o bastante para encarar a realidade, enfrentá-la e passar por cima d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Muitos vivem de falsas felicidades, máscaras que preferem colocar di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dos outros e que somente nos momentos mais profundos de se estar consigo mesmos é que tiram e não podem impedir que as lágrimas cor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Nessas horas são verdadeiras, feridas certamente, mas v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 r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2200" y="4221000"/>
            <a:ext cx="78674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É a maneira de encarar o mundo que diferencia os que chamamos de fracos e fortes. Os primeiros mentem-se e seguem assim e os segundos abrem essa embalagem bonita, decepcionam-se com o que encontram e se dizem que ainda assim construirão alguma cois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581360"/>
            <a:ext cx="7940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orque viver é experimentar a vida nos seus pormenores, provar do doce e do amargo e ter no coração a certeza de que as verdades, mesmo doloridas, nos tornam mais fortes e nos condicionam a buscar o que há de melhor em nó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0" y="0"/>
            <a:ext cx="9144000" cy="1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0" y="6742080"/>
            <a:ext cx="9144000" cy="115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1305000" cy="1295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7596360" y="26028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250920" y="530064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7596360" y="530064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 rot="10800000">
            <a:off x="8316720" y="6092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 flipH="1" rot="10800000">
            <a:off x="250920" y="6093000"/>
            <a:ext cx="495360" cy="426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 flipH="1">
            <a:off x="8317080" y="33336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36000" y="0"/>
            <a:ext cx="108000" cy="6858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765000"/>
            <a:ext cx="7632720" cy="5328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6640"/>
            <a:ext cx="7490160" cy="518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2060640"/>
            <a:ext cx="6840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éd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exto: Letícia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0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agens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úsica: Ernesto Cortazar - One voice conc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tação: Beth No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Verdana"/>
                <a:hlinkClick r:id="rId21"/>
              </a:rPr>
              <a:t>bethnorling@globo.com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2:15:48Z</dcterms:created>
  <dc:creator>Beth Norling</dc:creator>
  <dc:description/>
  <dc:language>en-US</dc:language>
  <cp:lastModifiedBy>Beth Norling</cp:lastModifiedBy>
  <dcterms:modified xsi:type="dcterms:W3CDTF">2008-03-09T20:59:54Z</dcterms:modified>
  <cp:revision>21</cp:revision>
  <dc:subject/>
  <dc:title>A_ilusao</dc:title>
</cp:coreProperties>
</file>