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AlisonKrauss_InThePalmOfYourHand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DFD9-97A7-4A0B-B235-747E97715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0259-4D36-41EE-9FCB-D9B0AC22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8EB2-0B0D-4521-8AF9-3D5361268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7E55-198A-475B-A163-5D28A30C6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0635-80BF-46AA-BB8E-25A98A34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BD0B-0D6A-4DEB-B444-42BEEE63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A3DE-4926-42DA-B384-64E9FE67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AF0C-808E-4C8A-84BD-20B76485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F08E-4085-4132-B761-E129F5BA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CC16-C620-4D8F-ABF7-D9664EEC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8D74-5FEB-4974-9CCC-4F7DDD77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DBF6-05AC-4D24-B107-576CE807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266D-FBCC-4FF1-A0C6-7CE1C0D4F2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AlisonKrauss_InThePalmOfYourHand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9280" y="404640"/>
            <a:ext cx="4032360" cy="1312920"/>
          </a:xfrm>
          <a:prstGeom prst="rect">
            <a:avLst/>
          </a:prstGeom>
          <a:noFill/>
          <a:ln cap="sq"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3 conselhos para a vida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324480" y="30481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81520" y="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ffff"/>
                </a:solidFill>
                <a:uFillTx/>
                <a:latin typeface="Goudy Stout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716280"/>
            <a:ext cx="914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alvez Deus queira que tu conheç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uitas pessoas más antes de conheceres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essoa boa, a fim de que tu possas ficar gr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quando, enfim, a tiveres encontrad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-86760" y="260280"/>
            <a:ext cx="157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ffff"/>
                </a:solidFill>
                <a:uFillTx/>
                <a:latin typeface="Goudy Stout"/>
              </a:rPr>
              <a:t>1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495680"/>
            <a:ext cx="8839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ão cho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orque alguma coisa terminou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as sorri porque ela acontece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-86760" y="0"/>
            <a:ext cx="157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ffff"/>
                </a:solidFill>
                <a:uFillTx/>
                <a:latin typeface="Goudy Stou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16000" y="260280"/>
            <a:ext cx="7128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Haverá sempre alguém que te critic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as continua a manter-te confiant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restando atenção àqueles 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quem tu duplamente conf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-86760" y="189000"/>
            <a:ext cx="157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ffff"/>
                </a:solidFill>
                <a:uFillTx/>
                <a:latin typeface="Goudy Stout"/>
              </a:rPr>
              <a:t>1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4191120"/>
            <a:ext cx="86868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orna-te uma pessoa melh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 assegura-te de que sabes bem quem és tu próprio, antes de conheceres algué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 de esperares que ele veja quem tu és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-86760" y="189000"/>
            <a:ext cx="157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ffff"/>
                </a:solidFill>
                <a:uFillTx/>
                <a:latin typeface="Goudy Stout"/>
              </a:rPr>
              <a:t>1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72428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</a:rPr>
              <a:t>Não corras demasiado; as melhores coisas chegam quando menos se esper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737240" y="765000"/>
            <a:ext cx="440676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cc99"/>
                </a:solidFill>
                <a:latin typeface="Comic Sans MS"/>
                <a:ea typeface="Times New Roman"/>
              </a:rPr>
              <a:t>Envia isto às pessoas que, por qualquer razão, são teus amigos/as, mesmo se tu as não vês e não lhes falas com frequência; reenvia também à pessoa que to mand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cc99"/>
                </a:solidFill>
                <a:latin typeface="Comic Sans MS"/>
                <a:ea typeface="Times New Roman"/>
              </a:rPr>
              <a:t> </a:t>
            </a:r>
            <a:r>
              <a:rPr b="1" i="1" lang="es-ES" sz="2400" spc="-1" strike="noStrike">
                <a:solidFill>
                  <a:srgbClr val="00cc99"/>
                </a:solidFill>
                <a:latin typeface="Comic Sans MS"/>
                <a:ea typeface="Times New Roman"/>
              </a:rPr>
              <a:t>E lembra-t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“</a:t>
            </a:r>
            <a:r>
              <a:rPr b="1" i="1" lang="es-ES" sz="24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T</a:t>
            </a:r>
            <a:r>
              <a:rPr b="1" i="1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do o que chega, chega  sempre por alguma razã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5280" y="33336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0000"/>
                </a:solidFill>
                <a:uFillTx/>
                <a:latin typeface="Goudy Stou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2349360"/>
            <a:ext cx="41911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ff00"/>
                </a:solidFill>
                <a:latin typeface="Comic Sans MS"/>
                <a:ea typeface="Times New Roman"/>
              </a:rPr>
              <a:t>Eu não te amo pelo que tu és, mas pelo que eu sou quando eu estou contig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9280" y="26028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3300"/>
                </a:solidFill>
                <a:uFillTx/>
                <a:latin typeface="Goudy Stout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3933720"/>
            <a:ext cx="5400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ff00"/>
                </a:solidFill>
                <a:latin typeface="Comic Sans MS"/>
                <a:ea typeface="Times New Roman"/>
              </a:rPr>
              <a:t>Ninguém merece as tuas lágrimas, 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ff00"/>
                </a:solidFill>
                <a:latin typeface="Comic Sans MS"/>
                <a:ea typeface="Times New Roman"/>
              </a:rPr>
              <a:t>se alguém as merec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ff00"/>
                </a:solidFill>
                <a:latin typeface="Comic Sans MS"/>
                <a:ea typeface="Times New Roman"/>
              </a:rPr>
              <a:t>não te fará  certamente chorar.</a:t>
            </a:r>
            <a:r>
              <a:rPr b="0" i="1" lang="es-ES" sz="2800" spc="-1" strike="noStrike">
                <a:solidFill>
                  <a:srgbClr val="00ff00"/>
                </a:solidFill>
                <a:latin typeface="Comic Sans MS"/>
                <a:ea typeface="Times New Roman"/>
              </a:rPr>
              <a:t>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95280" y="26028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3300"/>
                </a:solidFill>
                <a:uFillTx/>
                <a:latin typeface="Goudy Stou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4437000"/>
            <a:ext cx="52200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ff00"/>
                </a:solidFill>
                <a:latin typeface="Comic Sans MS"/>
                <a:ea typeface="Times New Roman"/>
              </a:rPr>
              <a:t>Se alguém não te amar como tu deseja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ff00"/>
                </a:solidFill>
                <a:latin typeface="Comic Sans MS"/>
                <a:ea typeface="Times New Roman"/>
              </a:rPr>
              <a:t>isso não quer dizer que essa pessoa não te ame com todo o seu cor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5280" y="26028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ffff"/>
                </a:solidFill>
                <a:uFillTx/>
                <a:latin typeface="Goudy Stout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4267080"/>
            <a:ext cx="8077320" cy="26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 verdadeiro ami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é  aquele que segura a tua mã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  toca o teu coração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0920" y="0"/>
            <a:ext cx="118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ffff"/>
                </a:solidFill>
                <a:uFillTx/>
                <a:latin typeface="Goudy Stout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3987720"/>
            <a:ext cx="83055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 pior maneira de senti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 falta de algué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é sentares-te a seu la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 saberes que ele/a nunca estará do teu lado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6800" y="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ffff"/>
                </a:solidFill>
                <a:uFillTx/>
                <a:latin typeface="Goudy Stou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4076640"/>
            <a:ext cx="75074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unca deixes de sorri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esmo que estejas trist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orque tu não sabes quem poderá apaixonar-se pelo teu sorri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36800" y="18900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ffff"/>
                </a:solidFill>
                <a:uFillTx/>
                <a:latin typeface="Goudy Stout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4114800"/>
            <a:ext cx="86104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alvez, para a generalidade das pessoa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u não sejas senão mais u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as para certas pesso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u és todo o mundo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42480" y="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ffff"/>
                </a:solidFill>
                <a:uFillTx/>
                <a:latin typeface="Goudy Stou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62400" y="260280"/>
            <a:ext cx="5781600" cy="24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ão percas temp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om quem não está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isponível  para passar algum tempo contigo</a:t>
            </a:r>
            <a:r>
              <a:rPr b="0" lang="es-ES" sz="3600" spc="-1" strike="noStrike">
                <a:solidFill>
                  <a:srgbClr val="ffffff"/>
                </a:solidFill>
                <a:latin typeface="Cooper Black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5T03:59:01Z</dcterms:created>
  <dc:creator>Jean-Yves Dorval</dc:creator>
  <dc:description/>
  <dc:language>en-US</dc:language>
  <cp:lastModifiedBy>Olindo Marques</cp:lastModifiedBy>
  <dcterms:modified xsi:type="dcterms:W3CDTF">2005-04-17T17:32:29Z</dcterms:modified>
  <cp:revision>28</cp:revision>
  <dc:subject/>
  <dc:title>Présentation PowerPoint</dc:title>
</cp:coreProperties>
</file>