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AlisonKrauss_InThePalmOfYourHand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8C04-0B45-47E5-AE05-ABB124D18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7845-843C-42EE-9DCC-4D9B2794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56D1-2ACD-4981-98A5-B815AA46D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179A-471C-49CE-8103-AC3FBBA0E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2BB3-3579-4AF2-80D6-CD321D2F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10B2-3A69-4C8D-9FAA-ED33A078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9834-7827-43FA-AFB9-33C92E00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5890-921B-4170-852E-797269D4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CAE3-C5FB-4137-AD47-74D1A5F0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49EC-8C79-42A3-8E77-5DA6F54D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6012-68EC-4BC0-B794-CAC600C9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61F9-CEA3-426A-8E15-8EC4F9C6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102A-D140-4B1C-94C8-C7283358DD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AlisonKrauss_InThePalmOfYourHand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9280" y="404640"/>
            <a:ext cx="4032360" cy="1312920"/>
          </a:xfrm>
          <a:prstGeom prst="rect">
            <a:avLst/>
          </a:prstGeom>
          <a:noFill/>
          <a:ln cap="sq"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3 conselhos para a vida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324480" y="30481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81520" y="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ffff"/>
                </a:solidFill>
                <a:uFillTx/>
                <a:latin typeface="Goudy Stout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716280"/>
            <a:ext cx="914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alvez Deus queira que tu conheç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uitas pessoas más antes de conheceres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essoa boa, a fim de que tu possas ficar gr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quando, enfim, a tiveres encontrad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-86760" y="260280"/>
            <a:ext cx="157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ffff"/>
                </a:solidFill>
                <a:uFillTx/>
                <a:latin typeface="Goudy Stout"/>
              </a:rPr>
              <a:t>1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495680"/>
            <a:ext cx="8839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ão cho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orque alguma coisa terminou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as sorri porque ela acontece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-86760" y="0"/>
            <a:ext cx="157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ffff"/>
                </a:solidFill>
                <a:uFillTx/>
                <a:latin typeface="Goudy Stou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16000" y="260280"/>
            <a:ext cx="7128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Haverá sempre alguém que te critic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as continua a manter-te confiant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restando atenção àqueles 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quem tu duplamente conf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-86760" y="189000"/>
            <a:ext cx="157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ffff"/>
                </a:solidFill>
                <a:uFillTx/>
                <a:latin typeface="Goudy Stout"/>
              </a:rPr>
              <a:t>1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4191120"/>
            <a:ext cx="86868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orna-te uma pessoa melh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 assegura-te de que sabes bem quem és tu próprio, antes de conheceres algué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 de esperares que ele veja quem tu és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-86760" y="189000"/>
            <a:ext cx="157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ffff"/>
                </a:solidFill>
                <a:uFillTx/>
                <a:latin typeface="Goudy Stout"/>
              </a:rPr>
              <a:t>1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72428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</a:rPr>
              <a:t>Não corras demasiado; as melhores coisas chegam quando menos se esper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737240" y="765000"/>
            <a:ext cx="440676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cc99"/>
                </a:solidFill>
                <a:latin typeface="Comic Sans MS"/>
                <a:ea typeface="Times New Roman"/>
              </a:rPr>
              <a:t>Envia isto às pessoas que, por qualquer razão, são teus amigos/as, mesmo se tu as não vês e não lhes falas com frequência; reenvia também à pessoa que to mand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cc99"/>
                </a:solidFill>
                <a:latin typeface="Comic Sans MS"/>
                <a:ea typeface="Times New Roman"/>
              </a:rPr>
              <a:t> </a:t>
            </a:r>
            <a:r>
              <a:rPr b="1" i="1" lang="es-ES" sz="2400" spc="-1" strike="noStrike">
                <a:solidFill>
                  <a:srgbClr val="00cc99"/>
                </a:solidFill>
                <a:latin typeface="Comic Sans MS"/>
                <a:ea typeface="Times New Roman"/>
              </a:rPr>
              <a:t>E lembra-t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“</a:t>
            </a:r>
            <a:r>
              <a:rPr b="1" i="1" lang="es-ES" sz="24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T</a:t>
            </a:r>
            <a:r>
              <a:rPr b="1" i="1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do o que chega, chega  sempre por alguma razã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5280" y="33336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0000"/>
                </a:solidFill>
                <a:uFillTx/>
                <a:latin typeface="Goudy Stou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2349360"/>
            <a:ext cx="41911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ff00"/>
                </a:solidFill>
                <a:latin typeface="Comic Sans MS"/>
                <a:ea typeface="Times New Roman"/>
              </a:rPr>
              <a:t>Eu não te amo pelo que tu és, mas pelo que eu sou quando eu estou contig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9280" y="26028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3300"/>
                </a:solidFill>
                <a:uFillTx/>
                <a:latin typeface="Goudy Stout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3933720"/>
            <a:ext cx="5400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ff00"/>
                </a:solidFill>
                <a:latin typeface="Comic Sans MS"/>
                <a:ea typeface="Times New Roman"/>
              </a:rPr>
              <a:t>Ninguém merece as tuas lágrimas, 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ff00"/>
                </a:solidFill>
                <a:latin typeface="Comic Sans MS"/>
                <a:ea typeface="Times New Roman"/>
              </a:rPr>
              <a:t>se alguém as merec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ff00"/>
                </a:solidFill>
                <a:latin typeface="Comic Sans MS"/>
                <a:ea typeface="Times New Roman"/>
              </a:rPr>
              <a:t>não te fará  certamente chorar.</a:t>
            </a:r>
            <a:r>
              <a:rPr b="0" i="1" lang="es-ES" sz="2800" spc="-1" strike="noStrike">
                <a:solidFill>
                  <a:srgbClr val="00ff00"/>
                </a:solidFill>
                <a:latin typeface="Comic Sans MS"/>
                <a:ea typeface="Times New Roman"/>
              </a:rPr>
              <a:t>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95280" y="26028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3300"/>
                </a:solidFill>
                <a:uFillTx/>
                <a:latin typeface="Goudy Stou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4437000"/>
            <a:ext cx="52200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ff00"/>
                </a:solidFill>
                <a:latin typeface="Comic Sans MS"/>
                <a:ea typeface="Times New Roman"/>
              </a:rPr>
              <a:t>Se alguém não te amar como tu deseja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ff00"/>
                </a:solidFill>
                <a:latin typeface="Comic Sans MS"/>
                <a:ea typeface="Times New Roman"/>
              </a:rPr>
              <a:t>isso não quer dizer que essa pessoa não te ame com todo o seu cor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5280" y="26028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ffff"/>
                </a:solidFill>
                <a:uFillTx/>
                <a:latin typeface="Goudy Stout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4267080"/>
            <a:ext cx="8077320" cy="26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 verdadeiro ami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é  aquele que segura a tua mã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  toca o teu coração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0920" y="0"/>
            <a:ext cx="118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ffff"/>
                </a:solidFill>
                <a:uFillTx/>
                <a:latin typeface="Goudy Stout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3987720"/>
            <a:ext cx="83055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 pior maneira de senti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 falta de algué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é sentares-te a seu la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 saberes que ele/a nunca estará do teu lado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6800" y="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ffff"/>
                </a:solidFill>
                <a:uFillTx/>
                <a:latin typeface="Goudy Stou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4076640"/>
            <a:ext cx="75074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unca deixes de sorri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esmo que estejas trist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orque tu não sabes quem poderá apaixonar-se pelo teu sorri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36800" y="18900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ffff"/>
                </a:solidFill>
                <a:uFillTx/>
                <a:latin typeface="Goudy Stout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4114800"/>
            <a:ext cx="86104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alvez, para a generalidade das pessoa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u não sejas senão mais u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as para certas pesso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u és todo o mundo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42480" y="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ffff"/>
                </a:solidFill>
                <a:uFillTx/>
                <a:latin typeface="Goudy Stou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62400" y="260280"/>
            <a:ext cx="5781600" cy="24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ão percas temp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om quem não está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isponível  para passar algum tempo contigo</a:t>
            </a:r>
            <a:r>
              <a:rPr b="0" lang="es-ES" sz="3600" spc="-1" strike="noStrike">
                <a:solidFill>
                  <a:srgbClr val="ffffff"/>
                </a:solidFill>
                <a:latin typeface="Cooper Black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5T03:59:01Z</dcterms:created>
  <dc:creator>Jean-Yves Dorval</dc:creator>
  <dc:description/>
  <dc:language>en-US</dc:language>
  <cp:lastModifiedBy>Olindo Marques</cp:lastModifiedBy>
  <dcterms:modified xsi:type="dcterms:W3CDTF">2005-04-17T17:32:29Z</dcterms:modified>
  <cp:revision>28</cp:revision>
  <dc:subject/>
  <dc:title>Présentation PowerPoint</dc:title>
</cp:coreProperties>
</file>