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07-Un%20dia%20en%20primavera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85C-74EC-4C8F-B613-43298D98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DD8-4AB0-4FFC-9FCD-956C2955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C8B-2BE6-4315-816F-3BDB8687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922-9ED6-4D11-97EA-54CB6B75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F32-3C2E-432C-8C3F-6ED48FF0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F9D-9806-41A4-9A41-71025596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410-2C02-4136-AB02-768EA701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9B8-68DC-4D22-AEBF-C49C4F6F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9C9-690B-4079-BB00-9C60D8B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BFF-447F-42DB-99CE-731B4E4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E3C-8CE2-4CE5-82FE-FBAA5C2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977-7EAF-4CD6-B183-1820FF9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FB2B-82B3-4ACC-9576-6952630D41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7-Un%20dia%20en%20primav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tocdj\Desktop\Tormenta1.jpg"/>
          <p:cNvPicPr/>
          <p:nvPr/>
        </p:nvPicPr>
        <p:blipFill>
          <a:blip r:embed="rId1"/>
          <a:stretch/>
        </p:blipFill>
        <p:spPr>
          <a:xfrm>
            <a:off x="142920" y="131760"/>
            <a:ext cx="8858160" cy="6583320"/>
          </a:xfrm>
          <a:prstGeom prst="rect">
            <a:avLst/>
          </a:prstGeom>
          <a:ln w="0">
            <a:noFill/>
          </a:ln>
        </p:spPr>
      </p:pic>
      <p:sp>
        <p:nvSpPr>
          <p:cNvPr id="42" name="8 Rectángulo"/>
          <p:cNvSpPr/>
          <p:nvPr/>
        </p:nvSpPr>
        <p:spPr>
          <a:xfrm>
            <a:off x="1857240" y="714240"/>
            <a:ext cx="50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9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ormenta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198.imageshack.us/img198/2918/huracan7b9vl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89800"/>
          </a:xfrm>
          <a:prstGeom prst="rect">
            <a:avLst/>
          </a:prstGeom>
          <a:ln w="0">
            <a:noFill/>
          </a:ln>
        </p:spPr>
      </p:pic>
      <p:sp>
        <p:nvSpPr>
          <p:cNvPr id="67" name="5 Rectángulo"/>
          <p:cNvSpPr/>
          <p:nvPr/>
        </p:nvSpPr>
        <p:spPr>
          <a:xfrm>
            <a:off x="714240" y="714240"/>
            <a:ext cx="764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imeiro êxito não significa vitória e o primeiro fracasso não significa derro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"/>
          <p:cNvSpPr/>
          <p:nvPr/>
        </p:nvSpPr>
        <p:spPr>
          <a:xfrm>
            <a:off x="714240" y="2143080"/>
            <a:ext cx="764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gunta-te se o que estás fazendo hoje te aproxima do lugar aonde queres estar amanhã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C:\Documents and Settings\tocdj\Desktop\torb2g.jpg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54880"/>
          </a:xfrm>
          <a:prstGeom prst="rect">
            <a:avLst/>
          </a:prstGeom>
          <a:ln w="0">
            <a:noFill/>
          </a:ln>
        </p:spPr>
      </p:pic>
      <p:sp>
        <p:nvSpPr>
          <p:cNvPr id="70" name="7 Rectángulo"/>
          <p:cNvSpPr/>
          <p:nvPr/>
        </p:nvSpPr>
        <p:spPr>
          <a:xfrm>
            <a:off x="714240" y="714240"/>
            <a:ext cx="7715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de por uma barreira em tua vida, recorda o que vais deixar dentro e o que que ficará fo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Rectángulo"/>
          <p:cNvSpPr/>
          <p:nvPr/>
        </p:nvSpPr>
        <p:spPr>
          <a:xfrm>
            <a:off x="3071880" y="4938840"/>
            <a:ext cx="57862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Deus guarde teu caminh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49240" y="765000"/>
            <a:ext cx="76327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Receba duas mensagens semanais gratuitas, uma na segunda-feira e outra na sex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Basta clicar aqui e ou enviar um e-mail para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powerpointsemanal-subscribe@yahoogrupos.com.br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Georgia"/>
                <a:ea typeface="Vijaya"/>
              </a:rPr>
              <a:t>não precisa escrever nada no e-mail, nem no campo assunto é só enviar o e-mail e daí a pouco você recebe uma mensagem de confirmação, a qual deve novamente somente clicar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Documents and Settings\student\My Documents\My Pictures\National Geographic\national geographic 7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40480"/>
          </a:xfrm>
          <a:prstGeom prst="rect">
            <a:avLst/>
          </a:prstGeom>
          <a:ln w="0">
            <a:noFill/>
          </a:ln>
        </p:spPr>
      </p:pic>
      <p:sp>
        <p:nvSpPr>
          <p:cNvPr id="44" name="3 Rectángulo"/>
          <p:cNvSpPr/>
          <p:nvPr/>
        </p:nvSpPr>
        <p:spPr>
          <a:xfrm>
            <a:off x="785880" y="785880"/>
            <a:ext cx="75722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m que um dia um camponês pediu a Deus  permitir-lhe mandar sobre a Natureza para -segundo ele - conseguir melhores  colhei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3 Rectángulo"/>
          <p:cNvSpPr/>
          <p:nvPr/>
        </p:nvSpPr>
        <p:spPr>
          <a:xfrm>
            <a:off x="4596480" y="2928960"/>
            <a:ext cx="383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 Deus lhe concedeu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tormenta-foto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47" name="3 Rectángulo"/>
          <p:cNvSpPr/>
          <p:nvPr/>
        </p:nvSpPr>
        <p:spPr>
          <a:xfrm>
            <a:off x="714240" y="642960"/>
            <a:ext cx="7643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ão quando o camponês queria chuva ligeira, assim acontecia; quando pedia sol, este brilhava em seu esplendor; se necessitava mais água, chovia mais regularmente;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4 Rectángulo"/>
          <p:cNvSpPr/>
          <p:nvPr/>
        </p:nvSpPr>
        <p:spPr>
          <a:xfrm>
            <a:off x="714240" y="257184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 quando chegou o tempo da colheita, sua surpresa e estupor foram grandes porque o resultado foi  um total fracas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zonagratuita.com/a-zonafondos/galerias/tormentas-tornados/004.jpg"/>
          <p:cNvPicPr/>
          <p:nvPr/>
        </p:nvPicPr>
        <p:blipFill>
          <a:blip r:embed="rId1"/>
          <a:stretch/>
        </p:blipFill>
        <p:spPr>
          <a:xfrm>
            <a:off x="142920" y="120600"/>
            <a:ext cx="8858160" cy="658980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785880" y="671400"/>
            <a:ext cx="7500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certado e meio aborrecido perguntou a Deus por que aconteceu aquilo, se ele havia escolhido os climas que achou adequ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tormenta-foto2.jpg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429600"/>
          </a:xfrm>
          <a:prstGeom prst="rect">
            <a:avLst/>
          </a:prstGeom>
          <a:ln w="0">
            <a:noFill/>
          </a:ln>
        </p:spPr>
      </p:pic>
      <p:sp>
        <p:nvSpPr>
          <p:cNvPr id="52" name="3 Rectángulo"/>
          <p:cNvSpPr/>
          <p:nvPr/>
        </p:nvSpPr>
        <p:spPr>
          <a:xfrm>
            <a:off x="785880" y="785880"/>
            <a:ext cx="750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as Deus respondeu - "Tu pediste o que quiseste, mas não o que de verdade convinh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Rectángulo"/>
          <p:cNvSpPr/>
          <p:nvPr/>
        </p:nvSpPr>
        <p:spPr>
          <a:xfrm>
            <a:off x="714240" y="2347920"/>
            <a:ext cx="750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unca pediste tormentas, e estas são muito necessárias para limpar a semente, afugentar aves e animais que a consomem, e purificá-la de pragas que a destroem...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zonagratuita.com/a-zonafondos/galerias/tormentas-tornados/007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55" name="2 Rectángulo"/>
          <p:cNvSpPr/>
          <p:nvPr/>
        </p:nvSpPr>
        <p:spPr>
          <a:xfrm>
            <a:off x="714240" y="70488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m acontece conosco, queremos que nossa vida seja puro amor e doçura, nada de proble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714240" y="207180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otimista não é aquele que não vê as dificuldades, mas aquele que não se assusta com elas, não se deixa ultrapass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:\Documents and Settings\tocdj\Desktop\tormenta2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Picture1"/>
          <p:cNvPicPr/>
          <p:nvPr/>
        </p:nvPicPr>
        <p:blipFill>
          <a:blip r:embed="rId2"/>
          <a:stretch/>
        </p:blipFill>
        <p:spPr>
          <a:xfrm>
            <a:off x="142920" y="142920"/>
            <a:ext cx="8715240" cy="6572160"/>
          </a:xfrm>
          <a:prstGeom prst="rect">
            <a:avLst/>
          </a:prstGeom>
          <a:ln w="0">
            <a:noFill/>
          </a:ln>
        </p:spPr>
      </p:pic>
      <p:sp>
        <p:nvSpPr>
          <p:cNvPr id="59" name="5 Rectángulo"/>
          <p:cNvSpPr/>
          <p:nvPr/>
        </p:nvSpPr>
        <p:spPr>
          <a:xfrm>
            <a:off x="714240" y="4665600"/>
            <a:ext cx="7643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or isso podemos afirmar que as dificuldades são vantagens, as dificuldades amadurecem  as pessoas, as fazem cresce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zonagratuita.com/a-zonafondos/galerias/tormentas-tornados/014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61" name="4 Rectángulo"/>
          <p:cNvSpPr/>
          <p:nvPr/>
        </p:nvSpPr>
        <p:spPr>
          <a:xfrm>
            <a:off x="714240" y="776160"/>
            <a:ext cx="7643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so faz falta uma verdadeira tormenta na vida de uma pessoa, para fazê-la compreender o quanto se tem preocupado com bobagens, por chuviscos passagei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Rectángulo"/>
          <p:cNvSpPr/>
          <p:nvPr/>
        </p:nvSpPr>
        <p:spPr>
          <a:xfrm>
            <a:off x="785880" y="3071880"/>
            <a:ext cx="75009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IMPORTANTE NÃO É FUGIR DAS TORMENTAS, MAS TER FÉ E CONFIANÇA EM QUE LOGO PASSARÃO E NOS DEIXARÃO ALGO DE BOM EM NOSSAS VI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http://img198.imageshack.us/img198/7318/huracan44kn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64" name="3 Rectángulo"/>
          <p:cNvSpPr/>
          <p:nvPr/>
        </p:nvSpPr>
        <p:spPr>
          <a:xfrm>
            <a:off x="714240" y="642960"/>
            <a:ext cx="7643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á derrotas que têm mais dignidade do que a vitória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Rectángulo"/>
          <p:cNvSpPr/>
          <p:nvPr/>
        </p:nvSpPr>
        <p:spPr>
          <a:xfrm>
            <a:off x="714240" y="1803240"/>
            <a:ext cx="764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 retirada a tempo é em si uma vitória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3:41:37Z</dcterms:created>
  <dc:creator/>
  <dc:description/>
  <dc:language>en-US</dc:language>
  <cp:lastModifiedBy>Sérgio</cp:lastModifiedBy>
  <dcterms:modified xsi:type="dcterms:W3CDTF">2010-01-19T00:20:21Z</dcterms:modified>
  <cp:revision>32</cp:revision>
  <dc:subject/>
  <dc:title>TORMENTAS</dc:title>
</cp:coreProperties>
</file>