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3E9-3A20-44F2-8F30-A7940CE6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4D4-3292-4B45-BD1B-458623D7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DB3-73BF-4E80-8DFC-0FCD917C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0B0-5F16-43AD-99A8-D10B7EB1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AF9-3D97-42B1-BDA3-80B0BD2C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49F7-FA7F-41D7-A8D1-EE30F048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CB4-E107-49DA-BA05-118551FC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332-1F3C-4747-96EB-8865FE8D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6AC-4047-49A5-9B97-C912E790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999-ABDA-446B-80BA-9E84D1DF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903-C7BE-4734-819F-B7795A76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E27-18AE-4FE0-BA4E-998C7216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08E9-5B56-41CA-B21B-1683013DB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093000"/>
            <a:ext cx="81345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Impact"/>
              </a:rPr>
              <a:t>Leste esta fábula?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052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Moral da História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Century Gothic"/>
              </a:rPr>
              <a:t>Aproveita  a vida, trabalha  e diverte-te em proporção, porque trabalhar demasiado só traz  benefícios nas fábulas de La  Fontaine.</a:t>
            </a:r>
            <a:br>
              <a:rPr sz="2400"/>
            </a:b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entury Gothic"/>
              </a:rPr>
              <a:t>Trabalha, mas disfruta da vida, ela é única. Se não encontras a tua metade da laranja,  não desanimes, procura a metade do limão, põe-lhe açucar, aguardente e gelo e sê  feliz!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Century Gothic"/>
              </a:rPr>
              <a:t>E  lembra-te: viver só para trabalhar faz muito bem.....ao património do Patrão!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Impact"/>
              </a:rPr>
              <a:t>Que tenhas um bom Dia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10200" y="3573360"/>
            <a:ext cx="31338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Era uma vez uma Formiga e uma Cigarra  que eram muito amigas............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 Durante todo o Outono a Formiga trabalhou sem  parar, armazenando comida para o Inv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77080" y="4653000"/>
            <a:ext cx="2266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Não aproveitou o sol, a brisa suave  do fim da tarde, nem duma conversa com os amigos a tomar uma cervejinha depois do dia de trabalho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782880"/>
            <a:ext cx="399564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entury Gothic"/>
              </a:rPr>
              <a:t>Enquanto isso, a Cigarra só andava a cantar com os amigos  nos bares da cidade, não desperdiçou nem um minuto sequer, cantou durante todo o Outono, dançou, aproveitou o sol, disfrutou muito sem se preocupar com o mau tempo que estava para vi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76840" y="3789360"/>
            <a:ext cx="3467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062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Passados uns dias começou o frio, a Formiguita,  exausta de tanto trabalhar meteu-se na sua pobre guarida cheia de comida até ao tect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2349360"/>
            <a:ext cx="529272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Mas, alguém a chamou da rua e  quando abriu a porta teve uma surpresa quando viu a sua amiga Cigarra num Ferrari e  com um valioso casaco de peles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A Cigarra disse-lhe: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O</a:t>
            </a: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lá amiga! Vou passar o Inverno a Paris. Podes cuidar da minha casita?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 A Formiga respondeu: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</a:t>
            </a: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laro! Sem problemas. </a:t>
            </a:r>
            <a:br>
              <a:rPr sz="2800"/>
            </a:b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Mas o que aconteceu? Onde conseguiste o dinheiro para ir a Paris, comprar este  Ferrari, e esse casaco tão bonito e caro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E a  Cigarra respondeu: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-</a:t>
            </a: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Imagina lá, que eu estava a cantar num bar a semana  passada e um</a:t>
            </a:r>
            <a:br>
              <a:rPr sz="2800"/>
            </a:b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produtor gostou da minha voz.. Assinei um contrato para  fazer shows em Paris.</a:t>
            </a:r>
            <a:br>
              <a:rPr sz="2800"/>
            </a:b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 A propósito, precisas de alguma coisa</a:t>
            </a:r>
            <a:br>
              <a:rPr sz="2800"/>
            </a:br>
            <a:r>
              <a:rPr b="0" i="1" lang="es-ES" sz="2800" spc="-1" strike="noStrike">
                <a:solidFill>
                  <a:srgbClr val="000000"/>
                </a:solidFill>
                <a:latin typeface="Century Gothic"/>
              </a:rPr>
              <a:t> de  lá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Sim, -  disse a Formiga.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Century Gothic"/>
              </a:rPr>
              <a:t>Se te encontrares com </a:t>
            </a:r>
            <a:r>
              <a:rPr b="1" i="1" lang="es-ES" sz="3200" spc="-1" strike="noStrike">
                <a:solidFill>
                  <a:srgbClr val="000000"/>
                </a:solidFill>
                <a:latin typeface="Century Gothic"/>
              </a:rPr>
              <a:t>La Fontaine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Century Gothic"/>
              </a:rPr>
              <a:t>(autor da fábula  original),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s-ES" sz="3200" spc="-1" strike="noStrike">
                <a:solidFill>
                  <a:srgbClr val="000000"/>
                </a:solidFill>
                <a:latin typeface="Century Gothic"/>
              </a:rPr>
              <a:t>MANDA-O À  MERDA, DA MINHA PARTE</a:t>
            </a:r>
            <a:r>
              <a:rPr b="0" i="1" lang="es-E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0T08:12:01Z</dcterms:created>
  <dc:creator>riche</dc:creator>
  <dc:description/>
  <dc:language>en-US</dc:language>
  <cp:lastModifiedBy> </cp:lastModifiedBy>
  <dcterms:modified xsi:type="dcterms:W3CDTF">2007-06-28T08:13:31Z</dcterms:modified>
  <cp:revision>10</cp:revision>
  <dc:subject/>
  <dc:title>Leíste esta fabula? </dc:title>
</cp:coreProperties>
</file>