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Andr%C3%A9%20Gagnon%20-%20Evelyne.wav" ContentType="audio/x-wav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8653-B0D3-4F7E-8E21-8639000F2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D237-BE2C-4EDB-8A76-C8EA8618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F589-6C8B-4A83-883B-F0C3BA538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B224-EFBD-45A2-B270-FE4B8128B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AF7D-2587-4E84-899B-0DE37087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3909-2490-4C2C-B622-BB159348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CF2D-A08E-4E15-9A5B-635408AD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74A6-0E6E-4A3F-BB21-C4889BC3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9EE8-D681-4EB2-8A87-253D796E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287F-3D15-4430-B7D1-EDB41FAB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D993-7072-4AEF-9D8E-19F097B6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DB96-C2B8-4D06-AD3F-38B4933F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B0DC-914A-49FB-AA40-7DD2474B5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audio" Target="../media/Andr&#233;%20Gagnon%20-%20Evelyne.wav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leticiathompson.net/" TargetMode="External"/><Relationship Id="rId3" Type="http://schemas.openxmlformats.org/officeDocument/2006/relationships/hyperlink" Target="mailto:bethnorling@globo.com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9b8b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85554b"/>
            </a:solidFill>
            <a:miter/>
          </a:ln>
          <a:effectLst>
            <a:outerShdw dist="17819" dir="2700000" blurRad="0" rotWithShape="0">
              <a:srgbClr val="4f322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254160">
            <a:solidFill>
              <a:srgbClr val="8555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429000" y="762120"/>
            <a:ext cx="497196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85554b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MUITO ALÉM</a:t>
            </a:r>
            <a:endParaRPr b="0" i="1" lang="en-US" sz="4000" spc="1" strike="noStrike">
              <a:ln w="9360">
                <a:solidFill>
                  <a:srgbClr val="85554b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85554b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DAS APARÊNCIAS</a:t>
            </a:r>
            <a:endParaRPr b="0" i="1" lang="en-US" sz="4000" spc="1" strike="noStrike">
              <a:ln w="9360">
                <a:solidFill>
                  <a:srgbClr val="85554b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0" y="5486400"/>
            <a:ext cx="346716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85554b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etícia Thompson</a:t>
            </a:r>
            <a:endParaRPr b="0" i="1" lang="en-US" sz="2800" spc="1" strike="noStrike">
              <a:ln w="9360">
                <a:solidFill>
                  <a:srgbClr val="85554b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514368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429680" y="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7429680" y="514368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  <p:sndAc>
      <p:stSnd>
        <p:snd r:embed="rId6" name="Andr%C3%A9%20Gagnon%20-%20Evelyn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9b8b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85554b"/>
            </a:solidFill>
            <a:miter/>
          </a:ln>
          <a:effectLst>
            <a:outerShdw dist="17819" dir="2700000" blurRad="0" rotWithShape="0">
              <a:srgbClr val="4f322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254160">
            <a:solidFill>
              <a:srgbClr val="8555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836640"/>
            <a:ext cx="4321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bbac"/>
                </a:solidFill>
                <a:latin typeface="Verdana"/>
              </a:rPr>
              <a:t>Não... Quem vê cara não vê coração, nem a alma, nem a solidão ou o desespero escondidos atrás de sorrisos ou gest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bbac"/>
                </a:solidFill>
                <a:latin typeface="Verdana"/>
              </a:rPr>
              <a:t>Não que essas coisas não sejam transparentes, mas o que as outras pessoas gostam mesmo são das evidênci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bbac"/>
                </a:solidFill>
                <a:latin typeface="Verdana"/>
              </a:rPr>
              <a:t>Para elas, se sorrimos, é evidente que estamos felizes e não há razão para ir alé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bbac"/>
                </a:solidFill>
                <a:latin typeface="Verdana"/>
              </a:rPr>
              <a:t>As pessoas se esquecem simplesmente que existimos além, muito além das aparênci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429680" y="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0" y="514368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7429680" y="514368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p:transition spd="slow" advTm="36000"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9b8b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85554b"/>
            </a:solidFill>
            <a:miter/>
          </a:ln>
          <a:effectLst>
            <a:outerShdw dist="17819" dir="2700000" blurRad="0" rotWithShape="0">
              <a:srgbClr val="4f322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254160">
            <a:solidFill>
              <a:srgbClr val="8555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3640" y="801720"/>
            <a:ext cx="4130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bbac"/>
                </a:solidFill>
                <a:latin typeface="Arial"/>
              </a:rPr>
              <a:t>Se você está triste, seus verdadeiros amigos vão querer saber por quê, vão se interess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bbac"/>
                </a:solidFill>
                <a:latin typeface="Arial"/>
              </a:rPr>
              <a:t>Talvez antes que você pronuncie uma palavra eles já notaram, por que te conhecem o suficien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bbac"/>
                </a:solidFill>
                <a:latin typeface="Arial"/>
              </a:rPr>
              <a:t>Mas em geral cada qual já tem suas próprias preocupações, legítimas ou não, para querer saber o que se passa dentro de um coração fech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0" y="514368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429680" y="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7524720" y="5143680"/>
            <a:ext cx="1619280" cy="161892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dissolv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9b8b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85554b"/>
            </a:solidFill>
            <a:miter/>
          </a:ln>
          <a:effectLst>
            <a:outerShdw dist="17819" dir="2700000" blurRad="0" rotWithShape="0">
              <a:srgbClr val="4f322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254160">
            <a:solidFill>
              <a:srgbClr val="8555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19720" y="685800"/>
            <a:ext cx="40384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bbac"/>
                </a:solidFill>
                <a:latin typeface="Verdana"/>
              </a:rPr>
              <a:t>Diz-se “como vai você” ou “tudo bom” mais por  educação do que por interesse em saber realmente como o outro vai. Faz parte do palco da vida onde cada qual representa seu pap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bbac"/>
                </a:solidFill>
                <a:latin typeface="Verdana"/>
              </a:rPr>
              <a:t>E quando as cortinas se fecham, fecha-se também o mundo em torno de s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bbac"/>
                </a:solidFill>
                <a:latin typeface="Verdana"/>
              </a:rPr>
              <a:t>Pessoas sentem-se sozinhas, choram sozinhas e oram em silêncio para que a solidão faça uma viagem para bem long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14368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7429680" y="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7429680" y="514368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p:transition spd="slow" advTm="34000"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9b8b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85554b"/>
            </a:solidFill>
            <a:miter/>
          </a:ln>
          <a:effectLst>
            <a:outerShdw dist="17819" dir="2700000" blurRad="0" rotWithShape="0">
              <a:srgbClr val="4f322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254160">
            <a:solidFill>
              <a:srgbClr val="8555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3640" y="3581280"/>
            <a:ext cx="8093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bbac"/>
                </a:solidFill>
                <a:latin typeface="Verdana"/>
              </a:rPr>
              <a:t>Todo mundo parece tão preocupado com sua busca de felicidade, seu par perfeito, suas realizações... sua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bbac"/>
                </a:solidFill>
                <a:latin typeface="Verdana"/>
              </a:rPr>
              <a:t>Olhássemos nós um pouquinho mais para o lado e veríamos que não pode haver felicidade, ou perfeição, ou realizações se temos tudo, se conseguimos tudo, mas não conquistamos verdadeiramente um coraç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0" y="514368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7429680" y="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7429680" y="514368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p:transition spd="slow" advTm="32000"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9b8b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85554b"/>
            </a:solidFill>
            <a:miter/>
          </a:ln>
          <a:effectLst>
            <a:outerShdw dist="17819" dir="2700000" blurRad="0" rotWithShape="0">
              <a:srgbClr val="4f322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254160">
            <a:solidFill>
              <a:srgbClr val="8555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2781360"/>
            <a:ext cx="374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4bbac"/>
                </a:solidFill>
                <a:latin typeface="Verdana"/>
              </a:rPr>
              <a:t>As pessoas existem além das aparências, elas amam além das aparências, elas sofrem além das aparências. Elas são, simples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0" y="514368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7429680" y="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7429680" y="514368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dissolv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9b8b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85554b"/>
            </a:solidFill>
            <a:miter/>
          </a:ln>
          <a:effectLst>
            <a:outerShdw dist="17819" dir="2700000" blurRad="0" rotWithShape="0">
              <a:srgbClr val="4f322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254160">
            <a:solidFill>
              <a:srgbClr val="8555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3640" y="1268280"/>
            <a:ext cx="43592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554b"/>
                </a:solidFill>
                <a:latin typeface="Verdana"/>
              </a:rPr>
              <a:t>A gente aprende muitas coisas na vida, mas pouco aprendemos sobre olh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554b"/>
                </a:solidFill>
                <a:latin typeface="Verdana"/>
              </a:rPr>
              <a:t>Olhar dentro, pra dentro... fotografar em si as necessidades alheias e tentar supri-las com um interesse verdadei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554b"/>
                </a:solidFill>
                <a:latin typeface="Verdana"/>
              </a:rPr>
              <a:t>A superfície engana tanto e tanto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554b"/>
                </a:solidFill>
                <a:latin typeface="Verdana"/>
              </a:rPr>
              <a:t>Mas ninguém disfarça um olhar que brilha ou que ch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514368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7429680" y="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7429680" y="514368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9b8b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85554b"/>
            </a:solidFill>
            <a:miter/>
          </a:ln>
          <a:effectLst>
            <a:outerShdw dist="17819" dir="2700000" blurRad="0" rotWithShape="0">
              <a:srgbClr val="4f322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254160">
            <a:solidFill>
              <a:srgbClr val="8555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3640" y="1700280"/>
            <a:ext cx="4359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8dbd3"/>
                </a:solidFill>
                <a:latin typeface="Verdana"/>
              </a:rPr>
              <a:t>Existiria menos egoísmo e menos solidão se olhássemos mais nos olhos das pessoas, se compreendêssemos que para elas muitas vezes mais importante que um pedaço de pão é um pouco da nossa atenç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429680" y="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0" y="514368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7429680" y="514368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p:transition spd="slow" advTm="28000"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9b8b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85554b"/>
            </a:solidFill>
            <a:miter/>
          </a:ln>
          <a:effectLst>
            <a:outerShdw dist="17819" dir="2700000" blurRad="0" rotWithShape="0">
              <a:srgbClr val="4f322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254160">
            <a:solidFill>
              <a:srgbClr val="8555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1700280"/>
            <a:ext cx="727236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8dbd3"/>
                </a:solidFill>
                <a:latin typeface="Verdana"/>
              </a:rPr>
              <a:t>Crédit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8dbd3"/>
                </a:solidFill>
                <a:latin typeface="Verdana"/>
              </a:rPr>
              <a:t>Texto: Letícia Thompson – Muito além das aparê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ece5e4"/>
                </a:solidFill>
                <a:uFillTx/>
                <a:latin typeface="Verdana"/>
                <a:hlinkClick r:id="rId2"/>
              </a:rPr>
              <a:t>www.leticiathompson.net</a:t>
            </a:r>
            <a:r>
              <a:rPr b="1" lang="pt-BR" sz="1800" spc="-1" strike="noStrike">
                <a:solidFill>
                  <a:srgbClr val="e8dbd3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8dbd3"/>
                </a:solidFill>
                <a:latin typeface="Verdana"/>
              </a:rPr>
              <a:t>Imagens: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8dbd3"/>
                </a:solidFill>
                <a:latin typeface="Verdana"/>
              </a:rPr>
              <a:t>Música: André Gagnon – Evely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8dbd3"/>
                </a:solidFill>
                <a:latin typeface="Verdana"/>
              </a:rPr>
              <a:t>Formatação: Beth Nor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8dbd3"/>
                </a:solidFill>
                <a:latin typeface="Verdana"/>
              </a:rPr>
              <a:t>E-mail: </a:t>
            </a:r>
            <a:r>
              <a:rPr b="0" lang="pt-BR" sz="1800" spc="-1" strike="noStrike" u="sng">
                <a:solidFill>
                  <a:srgbClr val="ece5e4"/>
                </a:solidFill>
                <a:uFillTx/>
                <a:latin typeface="Verdana"/>
                <a:hlinkClick r:id="rId3"/>
              </a:rPr>
              <a:t>bethnorling@globo.com</a:t>
            </a:r>
            <a:r>
              <a:rPr b="1" lang="pt-BR" sz="1800" spc="-1" strike="noStrike">
                <a:solidFill>
                  <a:srgbClr val="e8dbd3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e8dbd3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7429680" y="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0" y="514368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7"/>
          <a:stretch/>
        </p:blipFill>
        <p:spPr>
          <a:xfrm>
            <a:off x="7429680" y="514368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2T02:52:56Z</dcterms:created>
  <dc:creator>Beth Norling</dc:creator>
  <dc:description/>
  <dc:language>en-US</dc:language>
  <cp:lastModifiedBy>Beth Norling</cp:lastModifiedBy>
  <dcterms:modified xsi:type="dcterms:W3CDTF">2007-03-20T13:59:01Z</dcterms:modified>
  <cp:revision>33</cp:revision>
  <dc:subject/>
  <dc:title>Muito_alem_das_aparencias </dc:title>
</cp:coreProperties>
</file>