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Andr%C3%A9%20Gagnon%20-%20Evelyne.wav" ContentType="audio/x-wav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25E-9385-4313-9B61-765B773D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E7B-6A82-4DAF-899F-1C64ECAF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5B9-659D-4A7A-831A-CB370AFB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454-435B-4822-92D8-EABF4F23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7B1-899E-4EA5-A015-F386EAA6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ADC-93D3-43EE-961F-AA35481C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60D4-2FC5-45C3-8F1A-066623CB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71C-7C72-4AA2-B5A2-4E33378D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D20-34C9-4D95-BDCF-7758833E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AC7-2065-4C75-BD8A-6C4E9A32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2AA-0374-4B1A-9CA1-1CC7168B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B06-F03F-4A31-9DCB-A18AC5D6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23A9-5576-4CC1-BA1D-B6EA17DA7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Andr&#233;%20Gagnon%20-%20Evelyne.wav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429000" y="762120"/>
            <a:ext cx="497196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5554b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UITO ALÉM</a:t>
            </a:r>
            <a:endParaRPr b="0" i="1" lang="en-US" sz="4000" spc="1" strike="noStrike">
              <a:ln w="9360">
                <a:solidFill>
                  <a:srgbClr val="85554b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5554b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S APARÊNCIAS</a:t>
            </a:r>
            <a:endParaRPr b="0" i="1" lang="en-US" sz="4000" spc="1" strike="noStrike">
              <a:ln w="9360">
                <a:solidFill>
                  <a:srgbClr val="85554b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0" y="5486400"/>
            <a:ext cx="34671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5554b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85554b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  <p:sndAc>
      <p:stSnd>
        <p:snd r:embed="rId6" name="Andr%C3%A9%20Gagnon%20-%20Evelyn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836640"/>
            <a:ext cx="4321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Não... Quem vê cara não vê coração, nem a alma, nem a solidão ou o desespero escondidos atrás de sorrisos ou ges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Não que essas coisas não sejam transparentes, mas o que as outras pessoas gostam mesmo são das evidênci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Para elas, se sorrimos, é evidente que estamos felizes e não há razão para ir alé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As pessoas se esquecem simplesmente que existimos além, muito além das aparê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36000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3640" y="801720"/>
            <a:ext cx="4130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Arial"/>
              </a:rPr>
              <a:t>Se você está triste, seus verdadeiros amigos vão querer saber por quê, vão se interess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Arial"/>
              </a:rPr>
              <a:t>Talvez antes que você pronuncie uma palavra eles já notaram, por que te conhecem o sufic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Arial"/>
              </a:rPr>
              <a:t>Mas em geral cada qual já tem suas próprias preocupações, legítimas ou não, para querer saber o que se passa dentro de um coração fech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524720" y="5143680"/>
            <a:ext cx="1619280" cy="16189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68580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Diz-se “como vai você” ou “tudo bom” mais por  educação do que por interesse em saber realmente como o outro vai. Faz parte do palco da vida onde cada qual representa seu pap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E quando as cortinas se fecham, fecha-se também o mundo em torno de 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Pessoas sentem-se sozinhas, choram sozinhas e oram em silêncio para que a solidão faça uma viagem para bem long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34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3640" y="35812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Todo mundo parece tão preocupado com sua busca de felicidade, seu par perfeito, suas realizações... sua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bbac"/>
                </a:solidFill>
                <a:latin typeface="Verdana"/>
              </a:rPr>
              <a:t>Olhássemos nós um pouquinho mais para o lado e veríamos que não pode haver felicidade, ou perfeição, ou realizações se temos tudo, se conseguimos tudo, mas não conquistamos verdadeiramente um cor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2781360"/>
            <a:ext cx="37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bbac"/>
                </a:solidFill>
                <a:latin typeface="Verdana"/>
              </a:rPr>
              <a:t>As pessoas existem além das aparências, elas amam além das aparências, elas sofrem além das aparências. Elas são, simples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40" y="1268280"/>
            <a:ext cx="4359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554b"/>
                </a:solidFill>
                <a:latin typeface="Verdana"/>
              </a:rPr>
              <a:t>A gente aprende muitas coisas na vida, mas pouco aprendemos sobre olh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554b"/>
                </a:solidFill>
                <a:latin typeface="Verdana"/>
              </a:rPr>
              <a:t>Olhar dentro, pra dentro... fotografar em si as necessidades alheias e tentar supri-las com um interesse verdadei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554b"/>
                </a:solidFill>
                <a:latin typeface="Verdana"/>
              </a:rPr>
              <a:t>A superfície engana tanto e tanto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554b"/>
                </a:solidFill>
                <a:latin typeface="Verdana"/>
              </a:rPr>
              <a:t>Mas ninguém disfarça um olhar que brilha ou que c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3640" y="1700280"/>
            <a:ext cx="4359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8dbd3"/>
                </a:solidFill>
                <a:latin typeface="Verdana"/>
              </a:rPr>
              <a:t>Existiria menos egoísmo e menos solidão se olhássemos mais nos olhos das pessoas, se compreendêssemos que para elas muitas vezes mais importante que um pedaço de pão é um pouco da nossa aten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 advTm="28000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9b8b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85554b"/>
            </a:solidFill>
            <a:miter/>
          </a:ln>
          <a:effectLst>
            <a:outerShdw dist="17819" dir="2700000" blurRad="0" rotWithShape="0">
              <a:srgbClr val="4f322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4160">
            <a:solidFill>
              <a:srgbClr val="855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700280"/>
            <a:ext cx="72723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Crédi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Texto: Letícia Thompson – Muito além das aparê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ece5e4"/>
                </a:solidFill>
                <a:uFillTx/>
                <a:latin typeface="Verdana"/>
                <a:hlinkClick r:id="rId2"/>
              </a:rPr>
              <a:t>www.leticiathompson.net</a:t>
            </a: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Imagens: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Música: André Gagnon – Evely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Formatação: Beth Nor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E-mail: </a:t>
            </a:r>
            <a:r>
              <a:rPr b="0" lang="pt-BR" sz="1800" spc="-1" strike="noStrike" u="sng">
                <a:solidFill>
                  <a:srgbClr val="ece5e4"/>
                </a:solidFill>
                <a:uFillTx/>
                <a:latin typeface="Verdana"/>
                <a:hlinkClick r:id="rId3"/>
              </a:rPr>
              <a:t>bethnorling@globo.com</a:t>
            </a:r>
            <a:r>
              <a:rPr b="1" lang="pt-BR" sz="1800" spc="-1" strike="noStrike">
                <a:solidFill>
                  <a:srgbClr val="e8dbd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e8dbd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429680" y="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02:52:56Z</dcterms:created>
  <dc:creator>Beth Norling</dc:creator>
  <dc:description/>
  <dc:language>en-US</dc:language>
  <cp:lastModifiedBy>Beth Norling</cp:lastModifiedBy>
  <dcterms:modified xsi:type="dcterms:W3CDTF">2007-03-20T13:59:01Z</dcterms:modified>
  <cp:revision>33</cp:revision>
  <dc:subject/>
  <dc:title>Muito_alem_das_aparencias </dc:title>
</cp:coreProperties>
</file>