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La%20vie%20en%20rose.wav" ContentType="audio/x-wav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071-DA17-4813-939F-F93A8043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491-B3E7-48E0-85F7-8A07668D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45E-20AA-4ABA-B9C4-15FFC6B1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7D7-6A20-4B11-8473-D7CABE40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CC9-8EFC-4A12-8396-1EB8615E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D3F-F232-4AB7-B779-54CB464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DA7-720D-4162-96E6-6696B468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645-A9EA-4894-AAC4-557913B5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282-B5D8-46A7-A4F3-AB3AFA8C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ABB-3919-46FB-B912-6BBD765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BB5-C89F-47B3-BEDC-72F987F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073-D6A0-47E3-A22B-2DB09D47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81A-AEC8-448D-8EF3-4F406D3B3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La%20vie%20en%20ro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4120" y="5257800"/>
            <a:ext cx="350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Texto extraído do livro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"Dez Leis Para Ser Feliz"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de Augusto Cury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62485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Crystal 2005 - 180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95640" y="1413000"/>
            <a:ext cx="47242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3a177"/>
                  </a:solidFill>
                  <a:miter/>
                </a:ln>
                <a:gradFill rotWithShape="0">
                  <a:gsLst>
                    <a:gs pos="0">
                      <a:srgbClr val="54412a"/>
                    </a:gs>
                    <a:gs pos="50000">
                      <a:srgbClr val="b88e5c"/>
                    </a:gs>
                    <a:gs pos="100000">
                      <a:srgbClr val="54412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0482a"/>
                  </a:outerShdw>
                </a:effectLst>
                <a:latin typeface="Arial Black"/>
              </a:rPr>
              <a:t>SER FELIZ</a:t>
            </a:r>
            <a:endParaRPr b="0" lang="en-US" sz="2400" spc="1" strike="noStrike">
              <a:ln w="9360">
                <a:solidFill>
                  <a:srgbClr val="c3a177"/>
                </a:solidFill>
                <a:miter/>
              </a:ln>
              <a:gradFill rotWithShape="0">
                <a:gsLst>
                  <a:gs pos="0">
                    <a:srgbClr val="54412a"/>
                  </a:gs>
                  <a:gs pos="50000">
                    <a:srgbClr val="b88e5c"/>
                  </a:gs>
                  <a:gs pos="100000">
                    <a:srgbClr val="54412a"/>
                  </a:gs>
                </a:gsLst>
                <a:lin ang="5400000"/>
              </a:gradFill>
              <a:effectLst>
                <a:outerShdw dist="153753" dir="2700000" blurRad="0" rotWithShape="0">
                  <a:srgbClr val="60482a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segurança para receber uma crític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smo que inju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95288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beijar os filhos, curtir os pa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momentos poéticos com os amig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smo que eles nos mago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12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deixar vi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 criança livre, alegre e si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que mora dentro de cada um de nó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638680"/>
            <a:ext cx="9144000" cy="74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maturidade para fala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u errei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500"/>
                            </p:stCondLst>
                            <p:childTnLst>
                              <p:par>
                                <p:cTn id="35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ousadia para diz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 perdoe!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05520"/>
            <a:ext cx="9144000" cy="12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sensibilidade para expressa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u preciso de você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capacidade de dizer “Eu te am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8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62064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, quando você errar o caminh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recomece tudo de no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0064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ois assim você será cada v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is apaixonado pe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0" dur="3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600"/>
                            </p:stCondLst>
                            <p:childTnLst>
                              <p:par>
                                <p:cTn id="42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4" dur="3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1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19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descobrirá que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ter uma vida perfe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25780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usar as lágrimas para irrigar a tolerâ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s perdas para refinar a paciê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9" dur="3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3" dur="3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191120"/>
            <a:ext cx="9144000" cy="80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s falh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ara esculpir a sereni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105520"/>
            <a:ext cx="914400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 dor para lapidar o praz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os obstáculos para abr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s janelas da inteligê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3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200"/>
                            </p:stCondLst>
                            <p:childTnLst>
                              <p:par>
                                <p:cTn id="48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2" dur="3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6" dur="3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620640"/>
            <a:ext cx="5254920" cy="341784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70920" y="260280"/>
            <a:ext cx="1873080" cy="73332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Para receber s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1268280"/>
            <a:ext cx="1979640" cy="73332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Para adquirir o C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380360" y="2781360"/>
            <a:ext cx="1295280" cy="68580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 Unicode MS"/>
              </a:rPr>
              <a:t>Reini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3933720"/>
            <a:ext cx="1295280" cy="68580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8e5c"/>
                </a:solidFill>
                <a:latin typeface="Arial Unicode MS"/>
              </a:rPr>
              <a:t>S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7921440" cy="1224000"/>
          </a:xfrm>
          <a:custGeom>
            <a:avLst/>
            <a:gdLst>
              <a:gd name="textAreaLeft" fmla="*/ 79200 w 7921440"/>
              <a:gd name="textAreaRight" fmla="*/ 7842240 w 7921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139755" h="21600">
                <a:moveTo>
                  <a:pt x="0" y="0"/>
                </a:moveTo>
                <a:lnTo>
                  <a:pt x="139755" y="0"/>
                </a:lnTo>
                <a:lnTo>
                  <a:pt x="139755" y="21600"/>
                </a:lnTo>
                <a:lnTo>
                  <a:pt x="0" y="21600"/>
                </a:lnTo>
                <a:close/>
              </a:path>
              <a:path fill="lightenLess" w="139755" h="21600">
                <a:moveTo>
                  <a:pt x="0" y="0"/>
                </a:moveTo>
                <a:lnTo>
                  <a:pt x="139755" y="0"/>
                </a:lnTo>
                <a:lnTo>
                  <a:pt x="138355" y="1400"/>
                </a:lnTo>
                <a:lnTo>
                  <a:pt x="1400" y="1400"/>
                </a:lnTo>
                <a:close/>
              </a:path>
              <a:path fill="darken" w="139755" h="21600">
                <a:moveTo>
                  <a:pt x="139755" y="0"/>
                </a:moveTo>
                <a:lnTo>
                  <a:pt x="139755" y="21600"/>
                </a:lnTo>
                <a:lnTo>
                  <a:pt x="138355" y="20200"/>
                </a:lnTo>
                <a:lnTo>
                  <a:pt x="138355" y="1400"/>
                </a:lnTo>
                <a:close/>
              </a:path>
              <a:path fill="darkenLess" w="139755" h="21600">
                <a:moveTo>
                  <a:pt x="139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355" y="20200"/>
                </a:lnTo>
                <a:close/>
              </a:path>
              <a:path fill="lighten" w="139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ebb00"/>
                </a:solidFill>
                <a:uFillTx/>
                <a:latin typeface="Century Gothic"/>
              </a:rPr>
              <a:t>http://br.groups.yahoo.com/group/EVANGELISMO_ON-LINE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01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ara acessar outras mensagens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CLIQUE NO LINK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62064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765000"/>
            <a:ext cx="4897440" cy="11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E SI ME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AS PESSOAS QUE VOCÊ 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133720"/>
            <a:ext cx="9144000" cy="12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E SER FELIZ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POIS A VIDA É UM ESPETÁCULO IMPERDÍ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E VOCÊ É UM SER HUMANO E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75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225"/>
                            </p:stCondLst>
                            <p:childTnLst>
                              <p:par>
                                <p:cTn id="52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6" dur="75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775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575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75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5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75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914400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m céu sem tempestad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caminhos sem acident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trabalhos sem fadig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relacionamentos sem decepç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54936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724280"/>
            <a:ext cx="914400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ncontrar força no perdã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sperança nas batalh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gurança no palco do med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mor nos desenco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34340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comemorar o sucess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10080"/>
            <a:ext cx="9144000" cy="80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aprender liç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nos fracas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54936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343400"/>
            <a:ext cx="9144000" cy="92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ter júbilo nos aplau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41008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encontrar aleg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no anonim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3657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reconhe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que vale a pena viver a vid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pesar de todos os desafi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incompreensões e períodos de c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ma fatalidade do desti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8148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uma conquista de quem sabe viaj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ara dentro do seu próprio 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497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deixar de ser vítima do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se tornar um autor da própria histó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81480"/>
            <a:ext cx="914400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atravessar desertos fora d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ser capaz de encontrar um oásis no recôndito da sua al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agradecer a Deus a cada manhã pelo milagre d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0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4" dur="3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3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1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191120"/>
            <a:ext cx="9144000" cy="8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, é não ter me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dos próprios sentimen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181480"/>
            <a:ext cx="9144000" cy="8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saber falar de si me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coragem para ouvir um “não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6:49:21Z</dcterms:created>
  <dc:creator>MY CAse</dc:creator>
  <dc:description/>
  <dc:language>en-US</dc:language>
  <cp:lastModifiedBy>MY CAse</cp:lastModifiedBy>
  <dcterms:modified xsi:type="dcterms:W3CDTF">2007-01-01T16:50:09Z</dcterms:modified>
  <cp:revision>1</cp:revision>
  <dc:subject/>
  <dc:title>Slide 1</dc:title>
</cp:coreProperties>
</file>