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Ernesto%20Cortazar%20-%20La%20vie%20en%20rose.wav" ContentType="audio/x-wav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C05-B43E-4D76-9932-8748BD2A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1E2-3504-4EDA-9CA6-7E296FF8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1AC-67F0-4525-B9AC-B75184CB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DE1-7070-4203-B115-94CA9932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B1E-FD11-410A-8F9E-9E20A84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98F-DDB7-4574-B4C8-568CF054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132-7286-44DD-97D1-C64BFF70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5B5-235B-4076-A330-E74E72D2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204-0719-45BF-B355-7A0C34FE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588-CDFF-48E7-8089-141F891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042-95B8-4DC0-84B1-68EA638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9B0-3509-4CE0-B51F-305CF94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5191-DDEF-4881-A063-0CAF3B2F4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a%20vie%20en%20ros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5257800"/>
            <a:ext cx="350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Texto extraído do livro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"Dez Leis Para Ser Feliz"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de Augusto Cury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62485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c3a177"/>
                  </a:solidFill>
                  <a:miter/>
                </a:ln>
                <a:noFill/>
                <a:latin typeface="Arial Black"/>
              </a:rPr>
              <a:t>Crystal 2005 - 180</a:t>
            </a:r>
            <a:endParaRPr b="0" lang="en-US" sz="2400" spc="1" strike="noStrike">
              <a:ln w="3240">
                <a:solidFill>
                  <a:srgbClr val="c3a177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95640" y="1413000"/>
            <a:ext cx="47242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3a177"/>
                  </a:solidFill>
                  <a:miter/>
                </a:ln>
                <a:gradFill rotWithShape="0">
                  <a:gsLst>
                    <a:gs pos="0">
                      <a:srgbClr val="54412a"/>
                    </a:gs>
                    <a:gs pos="50000">
                      <a:srgbClr val="b88e5c"/>
                    </a:gs>
                    <a:gs pos="100000">
                      <a:srgbClr val="54412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0482a"/>
                  </a:outerShdw>
                </a:effectLst>
                <a:latin typeface="Arial Black"/>
              </a:rPr>
              <a:t>SER FELIZ</a:t>
            </a:r>
            <a:endParaRPr b="0" lang="en-US" sz="2400" spc="1" strike="noStrike">
              <a:ln w="9360">
                <a:solidFill>
                  <a:srgbClr val="c3a177"/>
                </a:solidFill>
                <a:miter/>
              </a:ln>
              <a:gradFill rotWithShape="0">
                <a:gsLst>
                  <a:gs pos="0">
                    <a:srgbClr val="54412a"/>
                  </a:gs>
                  <a:gs pos="50000">
                    <a:srgbClr val="b88e5c"/>
                  </a:gs>
                  <a:gs pos="100000">
                    <a:srgbClr val="54412a"/>
                  </a:gs>
                </a:gsLst>
                <a:lin ang="5400000"/>
              </a:gradFill>
              <a:effectLst>
                <a:outerShdw dist="153753" dir="2700000" blurRad="0" rotWithShape="0">
                  <a:srgbClr val="60482a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gurança para receber uma crític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inju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528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beijar os filhos, curtir os pa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omentos poéticos com os amig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smo que eles nos mago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v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 criança livre, alegre e si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mora dentro de cada um de nó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638680"/>
            <a:ext cx="9144000" cy="74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maturidade para fal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errei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500"/>
                            </p:stCondLst>
                            <p:childTnLst>
                              <p:par>
                                <p:cTn id="35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ousadia para diz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e perdoe!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05520"/>
            <a:ext cx="9144000" cy="12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sensibilidade para expressa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u preciso de você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apacidade de dizer “Eu te am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, quando você errar o caminh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comece tudo de no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0064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ois assim você será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is apaixonado pel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0" dur="3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600"/>
                            </p:stCondLst>
                            <p:childTnLst>
                              <p:par>
                                <p:cTn id="4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3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1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19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descobrirá que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uma vida perfe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2578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sar as lágrimas para irrigar a tolerâ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perdas para refinar a paciê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9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3" dur="3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19112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s falh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esculpir a sere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10552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a dor para lapidar o praz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sar os obstáculos para abr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s janelas da inteligê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3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200"/>
                            </p:stCondLst>
                            <p:childTnLst>
                              <p:par>
                                <p:cTn id="48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2" dur="3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6" dur="3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620640"/>
            <a:ext cx="5254920" cy="341784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70920" y="260280"/>
            <a:ext cx="187308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receber sl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1268280"/>
            <a:ext cx="1979640" cy="73332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CLIQUE AQU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Para adquirir o C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43c3b"/>
                </a:solidFill>
                <a:uFillTx/>
                <a:latin typeface="Trebuchet MS"/>
              </a:rPr>
              <a:t>GOTAS DE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380360" y="278136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 Unicode MS"/>
              </a:rPr>
              <a:t>Reini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3933720"/>
            <a:ext cx="1295280" cy="685800"/>
          </a:xfrm>
          <a:prstGeom prst="rect">
            <a:avLst/>
          </a:prstGeom>
          <a:noFill/>
          <a:ln w="12600">
            <a:solidFill>
              <a:srgbClr val="b88e5c"/>
            </a:solidFill>
            <a:miter/>
          </a:ln>
          <a:effectLst>
            <a:outerShdw dist="17819" dir="2700000" blurRad="0" rotWithShape="0">
              <a:srgbClr val="411b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8e5c"/>
                </a:solidFill>
                <a:latin typeface="Arial Unicode MS"/>
              </a:rPr>
              <a:t>S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7921440" cy="1224000"/>
          </a:xfrm>
          <a:custGeom>
            <a:avLst/>
            <a:gdLst>
              <a:gd name="textAreaLeft" fmla="*/ 79200 w 7921440"/>
              <a:gd name="textAreaRight" fmla="*/ 7842240 w 7921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139755" h="21600">
                <a:moveTo>
                  <a:pt x="0" y="0"/>
                </a:moveTo>
                <a:lnTo>
                  <a:pt x="139755" y="0"/>
                </a:lnTo>
                <a:lnTo>
                  <a:pt x="139755" y="21600"/>
                </a:lnTo>
                <a:lnTo>
                  <a:pt x="0" y="21600"/>
                </a:lnTo>
                <a:close/>
              </a:path>
              <a:path fill="lightenLess" w="139755" h="21600">
                <a:moveTo>
                  <a:pt x="0" y="0"/>
                </a:moveTo>
                <a:lnTo>
                  <a:pt x="139755" y="0"/>
                </a:lnTo>
                <a:lnTo>
                  <a:pt x="138355" y="1400"/>
                </a:lnTo>
                <a:lnTo>
                  <a:pt x="1400" y="1400"/>
                </a:lnTo>
                <a:close/>
              </a:path>
              <a:path fill="darken" w="139755" h="21600">
                <a:moveTo>
                  <a:pt x="139755" y="0"/>
                </a:moveTo>
                <a:lnTo>
                  <a:pt x="139755" y="21600"/>
                </a:lnTo>
                <a:lnTo>
                  <a:pt x="138355" y="20200"/>
                </a:lnTo>
                <a:lnTo>
                  <a:pt x="138355" y="1400"/>
                </a:lnTo>
                <a:close/>
              </a:path>
              <a:path fill="darkenLess" w="139755" h="21600">
                <a:moveTo>
                  <a:pt x="139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355" y="20200"/>
                </a:lnTo>
                <a:close/>
              </a:path>
              <a:path fill="lighten" w="139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ebb00"/>
                </a:solidFill>
                <a:uFillTx/>
                <a:latin typeface="Century Gothic"/>
              </a:rPr>
              <a:t>http://br.groups.yahoo.com/group/EVANGELISMO_ON-LINE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01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ara acessar outras mensagens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CLIQUE NO LINK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62064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765000"/>
            <a:ext cx="4897440" cy="11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I ME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AS PESSOAS QUE VOCÊ 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133720"/>
            <a:ext cx="9144000" cy="12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JAMAIS DESISTA DE SER FELIZ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POIS A VIDA É UM ESPETÁCULO IMPERDÍ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a177"/>
                </a:solidFill>
                <a:latin typeface="Arial"/>
                <a:ea typeface="Arial"/>
              </a:rPr>
              <a:t>E VOCÊ É UM SER HUMANO ESPE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75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225"/>
                            </p:stCondLst>
                            <p:childTnLst>
                              <p:par>
                                <p:cTn id="52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6" dur="75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775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2575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75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5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75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 céu sem tempest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aminhos sem acident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rabalhos sem fadig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relacionamentos sem decep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724280"/>
            <a:ext cx="914400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ncontrar força no perdã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sperança nas batalh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gurança no palco do med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mor nos desenco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34340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comemorar o sucess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10080"/>
            <a:ext cx="9144000" cy="80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aprender liçõ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s fracas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54936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343400"/>
            <a:ext cx="9144000" cy="92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ap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ter júbilo nos aplau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4100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encontrar aleg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no anonim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365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reconhe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que vale a pena viver a vid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apesar de todos os desafi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incompreensões e períodos de c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1911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não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uma fatalidade do desti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mas uma conquista de quem sabe viaj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para dentro do seu próprio 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49720"/>
            <a:ext cx="91440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 é deixar de ser vítima do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 tornar um autor da própria histó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181480"/>
            <a:ext cx="914400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travessar desertos fora d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e ser capaz de encontrar um oásis no recôndito da sua al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agradecer a Deus a cada manhã pelo milagre da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0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4" dur="3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3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1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47a48"/>
              </a:gs>
              <a:gs pos="100000">
                <a:srgbClr val="7859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62064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90600">
            <a:solidFill>
              <a:srgbClr val="b88e5c"/>
            </a:solidFill>
            <a:miter/>
          </a:ln>
          <a:effectLst>
            <a:outerShdw dist="17819" dir="2700000" blurRad="0" rotWithShape="0">
              <a:srgbClr val="b88e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609480"/>
            <a:ext cx="5181840" cy="3429000"/>
          </a:xfrm>
          <a:prstGeom prst="rect">
            <a:avLst/>
          </a:prstGeom>
          <a:noFill/>
          <a:ln w="57240">
            <a:solidFill>
              <a:srgbClr val="b88e5c"/>
            </a:solidFill>
            <a:miter/>
          </a:ln>
          <a:effectLst>
            <a:outerShdw dist="17819" dir="2700000" blurRad="0" rotWithShape="0">
              <a:srgbClr val="7d5d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Ser feliz, é não ter me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dos próprios sentimen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181480"/>
            <a:ext cx="9144000" cy="8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2f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saber falar de si me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a177"/>
                </a:solidFill>
                <a:latin typeface="Arial"/>
                <a:ea typeface="Arial"/>
              </a:rPr>
              <a:t>É ter coragem para ouvir um “nã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6:49:21Z</dcterms:created>
  <dc:creator>MY CAse</dc:creator>
  <dc:description/>
  <dc:language>en-US</dc:language>
  <cp:lastModifiedBy>MY CAse</cp:lastModifiedBy>
  <dcterms:modified xsi:type="dcterms:W3CDTF">2007-01-01T16:50:09Z</dcterms:modified>
  <cp:revision>1</cp:revision>
  <dc:subject/>
  <dc:title>Slide 1</dc:title>
</cp:coreProperties>
</file>