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lanis%20Morrisette%20-%20Forgive%20Me%20Love%20%202.40%20cut.wav" ContentType="audio/x-wav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85D7-D813-4199-8262-D8D6B221B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9828-86F1-4714-848C-353AEE88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700C-C688-439B-AE53-4FF34D025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7E97-F1A8-4A97-B87E-13B675C43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1F17-EDE9-4E4C-9DBD-372180D7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D064-1458-4710-880A-BA7BB678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DBEB-23ED-4EAE-B794-15191DFF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9725-12C4-4F91-9B6B-9346C747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960F-908C-417B-AD0E-AE5FCEE7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E55C-ADC7-4DF8-9CA7-0D927322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A77F-52B9-4F37-A8F4-E52195D1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4B9F-1851-4595-810A-0EE71914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5C8E-AF55-4E9D-9E65-CD73BB7AF54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lanis%20Morrisette%20-%20Forgive%20Me%20Love%20%202.40%20cut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eticiathompson.net/" TargetMode="External"/><Relationship Id="rId2" Type="http://schemas.openxmlformats.org/officeDocument/2006/relationships/hyperlink" Target="http://www.leticiathompson.net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880" y="533520"/>
            <a:ext cx="830592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b2b2b2"/>
                </a:solidFill>
                <a:latin typeface="Copperplate Gothic Light"/>
              </a:rPr>
              <a:t>Preciso de alguém...</a:t>
            </a:r>
            <a:br>
              <a:rPr sz="3600"/>
            </a:br>
            <a:br>
              <a:rPr sz="3600"/>
            </a:br>
            <a:r>
              <a:rPr b="1" lang="pt-BR" sz="2800" spc="-1" strike="noStrike">
                <a:solidFill>
                  <a:srgbClr val="b2b2b2"/>
                </a:solidFill>
                <a:latin typeface="Copperplate Gothic Light"/>
              </a:rPr>
              <a:t>Que me olhe nos olhos quando fa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b2b2b2"/>
                </a:solidFill>
                <a:latin typeface="Copperplate Gothic Light"/>
              </a:rPr>
              <a:t> </a:t>
            </a:r>
            <a:r>
              <a:rPr b="1" lang="pt-BR" sz="2800" spc="-1" strike="noStrike">
                <a:solidFill>
                  <a:srgbClr val="b2b2b2"/>
                </a:solidFill>
                <a:latin typeface="Copperplate Gothic Light"/>
              </a:rPr>
              <a:t>Que ouça as minhas tristezas e neuroses com paciência. E, ainda que nã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b2b2b2"/>
                </a:solidFill>
                <a:latin typeface="Copperplate Gothic Light"/>
              </a:rPr>
              <a:t>compreenda, respeite os meus sentimentos.</a:t>
            </a:r>
            <a:br>
              <a:rPr sz="2800"/>
            </a:br>
            <a:r>
              <a:rPr b="1" lang="pt-BR" sz="2800" spc="-1" strike="noStrike">
                <a:solidFill>
                  <a:srgbClr val="b2b2b2"/>
                </a:solidFill>
                <a:latin typeface="Copperplate Gothic Light"/>
              </a:rPr>
              <a:t>Preciso de alguém, que venha brig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b2b2b2"/>
                </a:solidFill>
                <a:latin typeface="Copperplate Gothic Light"/>
              </a:rPr>
              <a:t>ao meu lado sem precisar ser convocado; alguém amigo o suficiente para dizer-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b2b2b2"/>
                </a:solidFill>
                <a:latin typeface="Copperplate Gothic Light"/>
              </a:rPr>
              <a:t>as verdades que não quero ouvir, mesm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b2b2b2"/>
                </a:solidFill>
                <a:latin typeface="Copperplate Gothic Light"/>
              </a:rPr>
              <a:t>sabendo que posso odiá-lo por is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3000">
    <p:randomBar dir="vert"/>
    <p:sndAc>
      <p:stSnd>
        <p:snd r:embed="rId2" name="Alanis%20Morrisette%20-%20Forgive%20Me%20Love%20%202.40%20cu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480" y="762120"/>
            <a:ext cx="8077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Arial"/>
              </a:rPr>
              <a:t>Nesse mundo de céticos, preciso de alguém que creia, nessa coisa misteriosa, desacreditada, quase impossível: a amizade. </a:t>
            </a:r>
            <a:br>
              <a:rPr sz="2800"/>
            </a:b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Arial"/>
              </a:rPr>
              <a:t>Que teime em ser leal, simples e justo, que não vá embora se algum dia eu perder o meu ouro e não for mais a sensação da fes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Arial"/>
              </a:rPr>
              <a:t>Preciso de um amigo que receba com gratidão o meu auxílio, a minha mão estendida. Mesmo que isto seja muito pouco para suas necess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7000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914400"/>
            <a:ext cx="7772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Arial"/>
              </a:rPr>
              <a:t>Preciso de um amigo que também seja companheiro, nas farras e pescaria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Arial"/>
              </a:rPr>
              <a:t>nas guerras e alegrias, e que no me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Arial"/>
              </a:rPr>
              <a:t>da tempestade, grite em coro comig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Arial"/>
              </a:rPr>
              <a:t>"Nós ainda vamos rir muito disso tudo"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Arial"/>
              </a:rPr>
              <a:t>e ria muito. Não pude escolher aque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Arial"/>
              </a:rPr>
              <a:t>que me trouxeram ao mundo, m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Arial"/>
              </a:rPr>
              <a:t>posso escolher meu amig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3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95280" y="990720"/>
            <a:ext cx="6416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Arial"/>
              </a:rPr>
              <a:t>E nessa busca empenho a minha própria alma pois, com uma amizade verdadeira, a vi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Arial"/>
              </a:rPr>
              <a:t>se torna mais simple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Arial"/>
              </a:rPr>
              <a:t>mais rica e mais bel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510552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</a:rPr>
              <a:t>(Desconheço o au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randomBar dir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47920" y="38088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Times New Roman"/>
              </a:rPr>
              <a:t>Alanis_Morissette_Forgive_me_l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274320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cc0000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4419720"/>
            <a:ext cx="69501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00"/>
                </a:solidFill>
                <a:latin typeface="Times New Roman"/>
              </a:rPr>
              <a:t>Visite o Si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leticiathompson.net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1523880"/>
            <a:ext cx="3733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900"/>
                            </p:stCondLst>
                            <p:childTnLst>
                              <p:par>
                                <p:cTn id="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3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6T03:00:18Z</dcterms:created>
  <dc:creator>ssoliver@terra.com.br </dc:creator>
  <dc:description/>
  <dc:language>en-US</dc:language>
  <cp:lastModifiedBy>Leticia Thompson</cp:lastModifiedBy>
  <dcterms:modified xsi:type="dcterms:W3CDTF">2004-11-02T20:24:06Z</dcterms:modified>
  <cp:revision>4</cp:revision>
  <dc:subject/>
  <dc:title>Preciso de alguém</dc:title>
</cp:coreProperties>
</file>