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Orquestra%20Rom%C3%A2ntica%20Brasileira-Outra%20Vez.wav" ContentType="audio/x-wav"/>
  <Override PartName="/ppt/media/image2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8BA-F1DC-4E28-AD84-85BD4FE0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E60B-95B3-41F0-8E35-DF21583E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EB9-0E6D-4A90-89F4-4D63BFF6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38B0-7B81-4CAC-A2F1-A83C8125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FACD-A442-4356-9A8B-D461EFB1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D5C9-8AC4-4364-9E72-ED0D7B1A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541D-DD5A-4CFF-BEBC-E11FB094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32DD-6659-4CF3-9B7C-04471753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7AE3-AADB-4887-85FC-236E36ED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AB01-1314-49D6-9524-79E68AC2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494F-21BA-41C2-A5ED-194B577B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9E6E-FEA7-46B2-AD3B-29438E32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0A3B-9634-4061-9B59-D68C12BE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00F3-EA42-48AD-BD26-1454DDDB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7429-BF72-4D88-936C-229422F1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D59A-2893-4C3F-8DB5-A60AE0DF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255D-7B28-4E05-85C7-43826C6B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0C7-5026-4338-9EBC-7AED55DA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183-970A-4ADC-A2AC-63D0DD49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72C-4830-4161-AE87-C5273792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DD9-5C9F-45E7-AC4F-FAC56F8F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59A-5707-4D8B-94E8-BA81452D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F44-8BDC-41F0-916E-6E5A257E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411-B8A8-40F1-9D1A-CFFCFB10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48BC-F357-4F76-BD43-BF4547DB24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4676-E1CB-47B1-B835-62C053C422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Orquestra%20Rom&#226;ntica%20Brasileira-Outra%20Vez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mailto:contact@leticiathompson.net" TargetMode="External"/><Relationship Id="rId3" Type="http://schemas.openxmlformats.org/officeDocument/2006/relationships/hyperlink" Target="http://www.leticiathompson.net/" TargetMode="External"/><Relationship Id="rId4" Type="http://schemas.openxmlformats.org/officeDocument/2006/relationships/hyperlink" Target="mailto:marlick@ig.com.br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51280" y="1052640"/>
            <a:ext cx="4984920" cy="184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"/>
              </a:rPr>
              <a:t>Abra teu coração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11640" y="3860640"/>
            <a:ext cx="4219560" cy="51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"/>
              </a:rPr>
              <a:t>Letícia Thompson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308720" y="6165720"/>
            <a:ext cx="905040" cy="370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"/>
              </a:rPr>
              <a:t>SOM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395280" y="1125360"/>
            <a:ext cx="338472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260280"/>
            <a:ext cx="3492360" cy="6337440"/>
          </a:xfrm>
          <a:custGeom>
            <a:avLst/>
            <a:gdLst>
              <a:gd name="textAreaLeft" fmla="*/ 170280 w 3492360"/>
              <a:gd name="textAreaRight" fmla="*/ 3322080 w 3492360"/>
              <a:gd name="textAreaTop" fmla="*/ 170280 h 6337440"/>
              <a:gd name="textAreaBottom" fmla="*/ 6167160 h 6337440"/>
            </a:gdLst>
            <a:ahLst/>
            <a:rect l="textAreaLeft" t="textAreaTop" r="textAreaRight" b="textAreaBottom"/>
            <a:pathLst>
              <a:path w="21600" h="39195">
                <a:moveTo>
                  <a:pt x="3600" y="0"/>
                </a:moveTo>
                <a:arcTo wR="3600" hR="3600" stAng="16200000" swAng="-5400000"/>
                <a:lnTo>
                  <a:pt x="0" y="35595"/>
                </a:lnTo>
                <a:arcTo wR="3600" hR="3600" stAng="10800000" swAng="-5400000"/>
                <a:lnTo>
                  <a:pt x="18000" y="39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83920" y="681120"/>
            <a:ext cx="5927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Quando tua alm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Parecer pequen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Mesmo quando ach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Que amar não mais vale 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pen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Abra teu coração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E quando a noite cheg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E a solidão te alcança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Ainda assim eu peç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Abra o teu coração!</a:t>
            </a: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Orquestra%20Rom%C3%A2ntica%20Brasileira-Outra%20Vez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89000"/>
            <a:ext cx="3457440" cy="6408720"/>
          </a:xfrm>
          <a:custGeom>
            <a:avLst/>
            <a:gdLst>
              <a:gd name="textAreaLeft" fmla="*/ 168480 w 3457440"/>
              <a:gd name="textAreaRight" fmla="*/ 3288960 w 3457440"/>
              <a:gd name="textAreaTop" fmla="*/ 168480 h 6408720"/>
              <a:gd name="textAreaBottom" fmla="*/ 6240240 h 6408720"/>
            </a:gdLst>
            <a:ahLst/>
            <a:rect l="textAreaLeft" t="textAreaTop" r="textAreaRight" b="textAreaBottom"/>
            <a:pathLst>
              <a:path w="21600" h="40036">
                <a:moveTo>
                  <a:pt x="3600" y="0"/>
                </a:moveTo>
                <a:arcTo wR="3600" hR="3600" stAng="16200000" swAng="-5400000"/>
                <a:lnTo>
                  <a:pt x="0" y="36436"/>
                </a:lnTo>
                <a:arcTo wR="3600" hR="3600" stAng="10800000" swAng="-5400000"/>
                <a:lnTo>
                  <a:pt x="18000" y="40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08560" y="1125360"/>
            <a:ext cx="39020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Vou te contar um segred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Um coraçã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Só abre por dentr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E só o dono tem a chav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E se ele se fecha ou se ab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Depende unicamente de t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Abra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Tire as mágoa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ush Script MT"/>
              </a:rPr>
              <a:t>Jogue fora as tristeza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260280"/>
            <a:ext cx="3457440" cy="6337440"/>
          </a:xfrm>
          <a:custGeom>
            <a:avLst/>
            <a:gdLst>
              <a:gd name="textAreaLeft" fmla="*/ 168480 w 3457440"/>
              <a:gd name="textAreaRight" fmla="*/ 3288960 w 3457440"/>
              <a:gd name="textAreaTop" fmla="*/ 168480 h 6337440"/>
              <a:gd name="textAreaBottom" fmla="*/ 6168960 h 6337440"/>
            </a:gdLst>
            <a:ahLst/>
            <a:rect l="textAreaLeft" t="textAreaTop" r="textAreaRight" b="textAreaBottom"/>
            <a:pathLst>
              <a:path w="21600" h="39591">
                <a:moveTo>
                  <a:pt x="3600" y="0"/>
                </a:moveTo>
                <a:arcTo wR="3600" hR="3600" stAng="16200000" swAng="-5400000"/>
                <a:lnTo>
                  <a:pt x="0" y="35991"/>
                </a:lnTo>
                <a:arcTo wR="3600" hR="3600" stAng="10800000" swAng="-5400000"/>
                <a:lnTo>
                  <a:pt x="18000" y="39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51480" y="404640"/>
            <a:ext cx="407484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Deixe somente doc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lembranç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E faça um lugarzinh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Pra acolher as belez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Que a vida te reserv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Tenho certez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Que a ternura vai fluir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Teu coração renovad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Será fonte de alegri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E será maravilhoso te v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sorri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260280"/>
            <a:ext cx="3457440" cy="6337440"/>
          </a:xfrm>
          <a:custGeom>
            <a:avLst/>
            <a:gdLst>
              <a:gd name="textAreaLeft" fmla="*/ 168480 w 3457440"/>
              <a:gd name="textAreaRight" fmla="*/ 3288960 w 3457440"/>
              <a:gd name="textAreaTop" fmla="*/ 168480 h 6337440"/>
              <a:gd name="textAreaBottom" fmla="*/ 6168960 h 6337440"/>
            </a:gdLst>
            <a:ahLst/>
            <a:rect l="textAreaLeft" t="textAreaTop" r="textAreaRight" b="textAreaBottom"/>
            <a:pathLst>
              <a:path w="21600" h="39591">
                <a:moveTo>
                  <a:pt x="3600" y="0"/>
                </a:moveTo>
                <a:arcTo wR="3600" hR="3600" stAng="16200000" swAng="-5400000"/>
                <a:lnTo>
                  <a:pt x="0" y="35991"/>
                </a:lnTo>
                <a:arcTo wR="3600" hR="3600" stAng="10800000" swAng="-5400000"/>
                <a:lnTo>
                  <a:pt x="18000" y="39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1197000"/>
            <a:ext cx="529596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édi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-mai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contact@leticiathompson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isite o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www.leticiathompson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úsica:  Outra v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questra Romântica Brasilei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rmatação: </a:t>
            </a:r>
            <a:r>
              <a:rPr b="1" i="1" lang="en-US" sz="4400" spc="-1" strike="noStrike">
                <a:solidFill>
                  <a:srgbClr val="ffffff"/>
                </a:solidFill>
                <a:latin typeface="Monotype Corsiva"/>
              </a:rPr>
              <a:t>Mar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marlick@ig.com.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speite os créd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23:28:58Z</dcterms:created>
  <dc:creator>Marli              marlick@ig.com.br</dc:creator>
  <dc:description>Autora: Letícia Thompson - não retirar e nem modificar os créditos.</dc:description>
  <dc:language>en-US</dc:language>
  <cp:lastModifiedBy>One</cp:lastModifiedBy>
  <dcterms:modified xsi:type="dcterms:W3CDTF">2007-02-09T19:54:41Z</dcterms:modified>
  <cp:revision>3</cp:revision>
  <dc:subject/>
  <dc:title>Abra teu coração.pps.marli</dc:title>
</cp:coreProperties>
</file>