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Orquestra%20Rom%C3%A2ntica%20Brasileira-Outra%20Vez.wav" ContentType="audio/x-wav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972-673A-4944-B94F-5D20C068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F17-DFAD-4A50-B248-7944359E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76A-4125-4A87-9F34-933E3545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33C-1194-4228-8508-A04AC372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504C-8D04-4115-AB91-AA223DFB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742E-741F-4C6D-987D-06D96A86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38D0-7ADA-43B6-8AB0-872A1F8C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C566-B795-4F48-9930-59232A0D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1C27-6452-443E-9CE8-D7A3F544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A5D-74F6-4528-A410-662771EE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E7A3-1931-49CD-8B3E-FFC48A1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B04-B409-4795-B3D1-45A9AED3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E2AC-2FD6-406A-BD7C-863B9229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28D6-831C-4B3B-8E12-B95AF49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F15F-87C5-4840-8563-8E181FC9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E77E-F6BE-4F9B-8B65-9A4452E7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B271-210D-4DBB-A690-11B7BF71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AE6-137B-428F-82FA-E7550D6D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053-2116-4895-A9B9-0937D15E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614-AEFF-499F-AE45-A91C52A1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57B-DAE9-40E1-B8E3-28D60F08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BAD-F405-4357-8261-5DF74014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850-CF92-46BF-86A3-9F1FE282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45E-CAF7-446A-882C-526F119B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BE86-D521-45E0-AA67-D78569CCE5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5537-AF0A-4DBD-A190-26D4CDD430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Orquestra%20Rom&#226;ntica%20Brasileira-Outra%20Vez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mailto:contact@leticiathompson.net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hyperlink" Target="mailto:marlick@ig.com.br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51280" y="1052640"/>
            <a:ext cx="4984920" cy="184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Abra teu coração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11640" y="3860640"/>
            <a:ext cx="421956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Letícia Thompson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308720" y="6165720"/>
            <a:ext cx="905040" cy="370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SOM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95280" y="1125360"/>
            <a:ext cx="33847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260280"/>
            <a:ext cx="3492360" cy="6337440"/>
          </a:xfrm>
          <a:custGeom>
            <a:avLst/>
            <a:gdLst>
              <a:gd name="textAreaLeft" fmla="*/ 170280 w 3492360"/>
              <a:gd name="textAreaRight" fmla="*/ 3322080 w 3492360"/>
              <a:gd name="textAreaTop" fmla="*/ 170280 h 6337440"/>
              <a:gd name="textAreaBottom" fmla="*/ 6167160 h 6337440"/>
            </a:gdLst>
            <a:ahLst/>
            <a:rect l="textAreaLeft" t="textAreaTop" r="textAreaRight" b="textAreaBottom"/>
            <a:pathLst>
              <a:path w="21600" h="39195">
                <a:moveTo>
                  <a:pt x="3600" y="0"/>
                </a:moveTo>
                <a:arcTo wR="3600" hR="3600" stAng="16200000" swAng="-5400000"/>
                <a:lnTo>
                  <a:pt x="0" y="35595"/>
                </a:lnTo>
                <a:arcTo wR="3600" hR="3600" stAng="10800000" swAng="-5400000"/>
                <a:lnTo>
                  <a:pt x="18000" y="39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3920" y="681120"/>
            <a:ext cx="592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Quando tua alm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Parecer peque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Mesmo quando ach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Que amar não mais vale 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p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Abra teu coração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E quando a noite cheg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E a solidão te alcanç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Ainda assim eu peç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Abra o teu coração!</a:t>
            </a: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Orquestra%20Rom%C3%A2ntica%20Brasileira-Outra%20Vez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89000"/>
            <a:ext cx="3457440" cy="6408720"/>
          </a:xfrm>
          <a:custGeom>
            <a:avLst/>
            <a:gdLst>
              <a:gd name="textAreaLeft" fmla="*/ 168480 w 3457440"/>
              <a:gd name="textAreaRight" fmla="*/ 3288960 w 3457440"/>
              <a:gd name="textAreaTop" fmla="*/ 168480 h 6408720"/>
              <a:gd name="textAreaBottom" fmla="*/ 6240240 h 6408720"/>
            </a:gdLst>
            <a:ahLst/>
            <a:rect l="textAreaLeft" t="textAreaTop" r="textAreaRight" b="textAreaBottom"/>
            <a:pathLst>
              <a:path w="21600" h="40036">
                <a:moveTo>
                  <a:pt x="3600" y="0"/>
                </a:moveTo>
                <a:arcTo wR="3600" hR="3600" stAng="16200000" swAng="-5400000"/>
                <a:lnTo>
                  <a:pt x="0" y="36436"/>
                </a:lnTo>
                <a:arcTo wR="3600" hR="3600" stAng="10800000" swAng="-5400000"/>
                <a:lnTo>
                  <a:pt x="18000" y="40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08560" y="1125360"/>
            <a:ext cx="3902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Vou te contar um segred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Um coraç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Só abre por dentr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E só o dono tem a chav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E se ele se fecha ou se ab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Depende unicamente de t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Abra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Tire as mágo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Jogue fora as tristez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260280"/>
            <a:ext cx="3457440" cy="6337440"/>
          </a:xfrm>
          <a:custGeom>
            <a:avLst/>
            <a:gdLst>
              <a:gd name="textAreaLeft" fmla="*/ 168480 w 3457440"/>
              <a:gd name="textAreaRight" fmla="*/ 3288960 w 3457440"/>
              <a:gd name="textAreaTop" fmla="*/ 168480 h 6337440"/>
              <a:gd name="textAreaBottom" fmla="*/ 6168960 h 6337440"/>
            </a:gdLst>
            <a:ahLst/>
            <a:rect l="textAreaLeft" t="textAreaTop" r="textAreaRight" b="textAreaBottom"/>
            <a:pathLst>
              <a:path w="21600" h="39591">
                <a:moveTo>
                  <a:pt x="3600" y="0"/>
                </a:moveTo>
                <a:arcTo wR="3600" hR="3600" stAng="16200000" swAng="-5400000"/>
                <a:lnTo>
                  <a:pt x="0" y="35991"/>
                </a:lnTo>
                <a:arcTo wR="3600" hR="3600" stAng="10800000" swAng="-5400000"/>
                <a:lnTo>
                  <a:pt x="18000" y="39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51480" y="404640"/>
            <a:ext cx="407484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Deixe somente doc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embranç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E faça um lugarzinh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Pra acolher as belez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Que a vida te reserv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Tenho certez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Que a ternura vai flui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Teu coração renovad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Será fonte de aleg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E será maravilhoso te 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sorri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60280"/>
            <a:ext cx="3457440" cy="6337440"/>
          </a:xfrm>
          <a:custGeom>
            <a:avLst/>
            <a:gdLst>
              <a:gd name="textAreaLeft" fmla="*/ 168480 w 3457440"/>
              <a:gd name="textAreaRight" fmla="*/ 3288960 w 3457440"/>
              <a:gd name="textAreaTop" fmla="*/ 168480 h 6337440"/>
              <a:gd name="textAreaBottom" fmla="*/ 6168960 h 6337440"/>
            </a:gdLst>
            <a:ahLst/>
            <a:rect l="textAreaLeft" t="textAreaTop" r="textAreaRight" b="textAreaBottom"/>
            <a:pathLst>
              <a:path w="21600" h="39591">
                <a:moveTo>
                  <a:pt x="3600" y="0"/>
                </a:moveTo>
                <a:arcTo wR="3600" hR="3600" stAng="16200000" swAng="-5400000"/>
                <a:lnTo>
                  <a:pt x="0" y="35991"/>
                </a:lnTo>
                <a:arcTo wR="3600" hR="3600" stAng="10800000" swAng="-5400000"/>
                <a:lnTo>
                  <a:pt x="18000" y="39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1197000"/>
            <a:ext cx="529596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édi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-mai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contact@leticiathompson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site 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www.leticiathompson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úsica:  Outra v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questra Romântica Brasilei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matação: </a:t>
            </a:r>
            <a:r>
              <a:rPr b="1" i="1" lang="en-US" sz="4400" spc="-1" strike="noStrike">
                <a:solidFill>
                  <a:srgbClr val="ffffff"/>
                </a:solidFill>
                <a:latin typeface="Monotype Corsiva"/>
              </a:rPr>
              <a:t>Mar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lick@ig.com.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peite os créd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23:28:58Z</dcterms:created>
  <dc:creator>Marli              marlick@ig.com.br</dc:creator>
  <dc:description>Autora: Letícia Thompson - não retirar e nem modificar os créditos.</dc:description>
  <dc:language>en-US</dc:language>
  <cp:lastModifiedBy>One</cp:lastModifiedBy>
  <dcterms:modified xsi:type="dcterms:W3CDTF">2007-02-09T19:54:41Z</dcterms:modified>
  <cp:revision>3</cp:revision>
  <dc:subject/>
  <dc:title>Abra teu coração.pps.marli</dc:title>
</cp:coreProperties>
</file>